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3DF-72EB-4976-BCAF-E4B362A4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8A1-40B1-44F5-8EAE-81C6DA5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329-890D-4210-BDE4-2F384049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154-9AE0-4965-8CFF-CC3807A6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A49D-9C5F-4183-9CC9-7396CD16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5E3-0F5C-4547-BA57-4706A641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4DEA-92D4-47EF-955A-1A1592DE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C17B-A568-457D-8635-BC511AF8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D88E-EF63-44A2-AF25-FF29993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9FCF-CF1F-4FEE-A42C-23465152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2876-70DC-40EF-B0AD-01904D4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465-3F11-4434-A970-DB5E2CA5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62A8-02FD-4744-A599-3001470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CAAE-447F-41DA-812A-80977299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B367-8C9F-4D35-8272-F761C7F0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5550-712C-4B8D-B6D0-0F6AA78E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B34-24B2-4FB2-9D24-9E932CEB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6204-A021-4404-BAD9-A9A885C3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4232-02AF-4240-BBF0-BF29DF79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C6F0-A6FC-477F-890A-390C52B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9BA7-2359-4112-B9A0-DA7FA88F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DE02-2B02-45DB-81EF-5FE1381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C64-A245-4A39-9562-6ECD2F4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0F15-D064-4392-95E1-B1FE09FD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CC1C-2282-4593-862C-191F612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85BA-FBBF-4EFD-9484-6B319030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D792-547E-487E-8DB1-523AA19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1B08-A4BB-4AA9-A4E6-6F04C005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3710-9602-4123-905D-2ECC82F1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6F5F-996A-423D-8B6C-08ACEA94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2420-ECA8-4312-A701-8125216D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C0A6-A3AC-47C3-88EC-88BC53D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8F4E-0182-4121-8204-7AD3FBF9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B7E-4CA3-4F31-A2EC-1AFC1B3E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6AC3-04A3-4743-9D04-16B79BC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17A4-E8FB-4EC3-84D0-FAFADB5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3A75-A92F-4E30-AF6E-DE660C3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05EC-8ACC-4B47-9A94-2D1EDA8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5032-0E5A-471A-A945-8150A68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7F02-BC30-4A3A-9C90-1654F38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2587-F4A3-4546-AE8E-50DEC63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C321-196E-4BAB-AD7C-AFF16CC8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B08D-D6D2-455A-85C3-A56778C5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7377-BE46-4783-9910-7AB5456E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114-3464-462D-B844-E1094FC7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804A-3960-42EF-876A-3356E438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621E-6003-4838-AA81-804495AB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88DE-3596-4839-AF13-91676BE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2671-3687-4570-85DC-87AB610E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BA5A-678D-4F4F-8C23-3920DF0A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60F2-1CDF-4ABF-9A3D-C1FE489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FCD9-437C-4FA0-858D-59F3C6B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64F4-F1F5-442C-8C9D-2D53BD5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0FE89-FD5D-4C6F-851A-607C782C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981F5-F6FC-4A20-8893-6D98866C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7BC-E6C7-4A0D-82CF-C3B0699D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5DCF-B4A9-4817-8259-752A6206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EF3CB-E2C7-4B13-84E2-ED10269D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EA89-5CFF-4BB6-AA33-52C30184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A0107-C861-4F2D-87C0-00760B8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099F-138D-4DE4-8A43-C7DE93D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D750-FE71-4A8D-9D8F-8E42138B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21102-EB69-4D02-9882-021AE20E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C7AF0-B412-425F-989A-44495A36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20C42-22CA-415E-835A-D87FDE2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73B8-C94F-4C09-8D5B-52FAA46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BF2-245E-419D-B340-D347A71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BAF2E-AF0A-4806-B95E-84536FF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5E5D-9846-4DEE-9DD8-D9AA46E6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34B20-B05F-4157-A610-8057307F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5F3-BCD5-4CB4-966B-087773C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7F2-54CC-4AA8-805C-A4952F2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ihand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6B02-7B31-430B-BC43-89D64C4CB180}" type="slidenum"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ihand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ihand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D7CA-84D0-4C9D-BD1E-698985151968}" type="slidenum"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ihand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ihand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C2F4-82F3-4006-8726-5ACD60A7A566}" type="slidenum"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688-37CD-42C8-B502-3FB745BC63F9}" type="slidenum"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ihand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ihand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CB72-497C-4E78-9696-44F9BBBC3D74}" type="slidenum"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6A17-2C6D-4EB0-B121-F3687BBDE453}" type="slidenum">
              <a:rPr b="0" lang="de-D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el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Grafik 3" descr="SVEN Kopie1.jpg"/>
          <p:cNvPicPr/>
          <p:nvPr/>
        </p:nvPicPr>
        <p:blipFill>
          <a:blip r:embed="rId2"/>
          <a:stretch/>
        </p:blipFill>
        <p:spPr>
          <a:xfrm>
            <a:off x="2714760" y="4714920"/>
            <a:ext cx="3662280" cy="113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Grafik 1" descr="009.jpg"/>
          <p:cNvPicPr/>
          <p:nvPr/>
        </p:nvPicPr>
        <p:blipFill>
          <a:blip r:embed="rId1"/>
          <a:stretch/>
        </p:blipFill>
        <p:spPr>
          <a:xfrm>
            <a:off x="909720" y="0"/>
            <a:ext cx="7324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Grafik 1" descr="010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Grafik 1" descr="011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Grafik 1" descr="01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Grafik 1" descr="01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Grafik 1" descr="014.jpg"/>
          <p:cNvPicPr/>
          <p:nvPr/>
        </p:nvPicPr>
        <p:blipFill>
          <a:blip r:embed="rId1"/>
          <a:stretch/>
        </p:blipFill>
        <p:spPr>
          <a:xfrm>
            <a:off x="974880" y="0"/>
            <a:ext cx="7192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Grafik 1" descr="015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afik 1" descr="016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Grafik 1" descr="017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Grafik 1" descr="018.jpg"/>
          <p:cNvPicPr/>
          <p:nvPr/>
        </p:nvPicPr>
        <p:blipFill>
          <a:blip r:embed="rId1"/>
          <a:stretch/>
        </p:blipFill>
        <p:spPr>
          <a:xfrm>
            <a:off x="468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Grafik 1" descr="001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Grafik 1" descr="01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Grafik 1" descr="020.jpg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Grafik 1" descr="021.jpg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Grafik 1" descr="2001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Grafik 1" descr="2002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Grafik 1" descr="200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Grafik 1" descr="2004.jpg"/>
          <p:cNvPicPr/>
          <p:nvPr/>
        </p:nvPicPr>
        <p:blipFill>
          <a:blip r:embed="rId1"/>
          <a:stretch/>
        </p:blipFill>
        <p:spPr>
          <a:xfrm>
            <a:off x="647640" y="0"/>
            <a:ext cx="7846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Grafik 1" descr="2005.jpg"/>
          <p:cNvPicPr/>
          <p:nvPr/>
        </p:nvPicPr>
        <p:blipFill>
          <a:blip r:embed="rId1"/>
          <a:stretch/>
        </p:blipFill>
        <p:spPr>
          <a:xfrm>
            <a:off x="198360" y="0"/>
            <a:ext cx="8747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Grafik 1" descr="2006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Grafik 1" descr="2007.jpg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Grafik 1" descr="002.jpg"/>
          <p:cNvPicPr/>
          <p:nvPr/>
        </p:nvPicPr>
        <p:blipFill>
          <a:blip r:embed="rId1"/>
          <a:stretch/>
        </p:blipFill>
        <p:spPr>
          <a:xfrm>
            <a:off x="19954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afik 1" descr="2008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Grafik 1" descr="2009.jpg"/>
          <p:cNvPicPr/>
          <p:nvPr/>
        </p:nvPicPr>
        <p:blipFill>
          <a:blip r:embed="rId1"/>
          <a:stretch/>
        </p:blipFill>
        <p:spPr>
          <a:xfrm>
            <a:off x="1992240" y="0"/>
            <a:ext cx="5157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Grafik 1" descr="2010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Grafik 1" descr="2011.jpg"/>
          <p:cNvPicPr/>
          <p:nvPr/>
        </p:nvPicPr>
        <p:blipFill>
          <a:blip r:embed="rId1"/>
          <a:stretch/>
        </p:blipFill>
        <p:spPr>
          <a:xfrm>
            <a:off x="22050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Grafik 1" descr="2012.jpg"/>
          <p:cNvPicPr/>
          <p:nvPr/>
        </p:nvPicPr>
        <p:blipFill>
          <a:blip r:embed="rId1"/>
          <a:stretch/>
        </p:blipFill>
        <p:spPr>
          <a:xfrm>
            <a:off x="468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Grafik 1" descr="2013.jpg"/>
          <p:cNvPicPr/>
          <p:nvPr/>
        </p:nvPicPr>
        <p:blipFill>
          <a:blip r:embed="rId1"/>
          <a:stretch/>
        </p:blipFill>
        <p:spPr>
          <a:xfrm>
            <a:off x="227808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Grafik 1" descr="201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Grafik 1" descr="2015.jpg"/>
          <p:cNvPicPr/>
          <p:nvPr/>
        </p:nvPicPr>
        <p:blipFill>
          <a:blip r:embed="rId1"/>
          <a:stretch/>
        </p:blipFill>
        <p:spPr>
          <a:xfrm>
            <a:off x="1992240" y="0"/>
            <a:ext cx="5157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Grafik 1" descr="2016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Grafik 1" descr="2017.jpg"/>
          <p:cNvPicPr/>
          <p:nvPr/>
        </p:nvPicPr>
        <p:blipFill>
          <a:blip r:embed="rId1"/>
          <a:stretch/>
        </p:blipFill>
        <p:spPr>
          <a:xfrm>
            <a:off x="1971720" y="0"/>
            <a:ext cx="5199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Grafik 1" descr="003.jpg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Grafik 1" descr="SVEN Kopie1.jpg"/>
          <p:cNvPicPr/>
          <p:nvPr/>
        </p:nvPicPr>
        <p:blipFill>
          <a:blip r:embed="rId1"/>
          <a:stretch/>
        </p:blipFill>
        <p:spPr>
          <a:xfrm>
            <a:off x="2739960" y="2860560"/>
            <a:ext cx="3664080" cy="113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Grafik 1" descr="004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Grafik 1" descr="005.jpg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rafik 1" descr="006.jpg"/>
          <p:cNvPicPr/>
          <p:nvPr/>
        </p:nvPicPr>
        <p:blipFill>
          <a:blip r:embed="rId1"/>
          <a:stretch/>
        </p:blipFill>
        <p:spPr>
          <a:xfrm>
            <a:off x="190008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rafik 1" descr="007.jpg"/>
          <p:cNvPicPr/>
          <p:nvPr/>
        </p:nvPicPr>
        <p:blipFill>
          <a:blip r:embed="rId1"/>
          <a:stretch/>
        </p:blipFill>
        <p:spPr>
          <a:xfrm>
            <a:off x="523800" y="0"/>
            <a:ext cx="8094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Grafik 1" descr="008.jpg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8:14:40Z</dcterms:created>
  <dc:creator>Luzifer</dc:creator>
  <dc:description/>
  <dc:language>en-US</dc:language>
  <cp:lastModifiedBy>Luzifer</cp:lastModifiedBy>
  <dcterms:modified xsi:type="dcterms:W3CDTF">2009-04-17T18:15:41Z</dcterms:modified>
  <cp:revision>1</cp:revision>
  <dc:subject/>
  <dc:title>Mädels unter sich</dc:title>
</cp:coreProperties>
</file>