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WINTER~1.WAV" ContentType="audio/x-wav"/>
  <Override PartName="/ppt/media/image15.jpeg" ContentType="image/jpeg"/>
  <Override PartName="/ppt/media/image14.jpeg" ContentType="image/jpeg"/>
  <Override PartName="/ppt/media/image16.jpeg" ContentType="image/jpeg"/>
  <Override PartName="/ppt/media/image13.gif" ContentType="image/gif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220" r="0" b="0"/>
          <a:stretch/>
        </p:blipFill>
        <p:spPr>
          <a:xfrm>
            <a:off x="0" y="76212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57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406440" y="30621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AHORRANDO VI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acostumbramos a ahorrar vida..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, de a poco, igual se gast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que una vez gastada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 estar acostumbrados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48769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¡ NOS PERDIMOS DE VIVIR !..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iste un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cho: 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"La muerte está tan segura de su victoria,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que nos da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oda una vida de ventaja".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48120" y="6021360"/>
            <a:ext cx="8319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9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tiempo no se puede atrapar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ucho menos almacenar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uestra existenci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anscurre a gran velocidad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ero mientras tengamos vida, </a:t>
            </a:r>
            <a:br>
              <a:rPr sz="2800"/>
            </a:br>
            <a:r>
              <a:rPr b="0" lang="es-E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nemos la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portunidad</a:t>
            </a:r>
            <a:br>
              <a:rPr sz="2800"/>
            </a:br>
            <a:r>
              <a:rPr b="0" lang="es-E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 cambiar nuestro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hábitos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tener una mejor calidad de existencia,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aprovechar y disfrutar cada respiro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da latido de nuestro corazó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trasformemos nuestra vida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a rutina inútil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 nos haga infel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o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one a nuestra disposició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dos los elementos para ser seres felice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atisfechos y agradecido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 ese gran don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que es la vida)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 con tan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mor nos ha sido otor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a vida no hay que ahorrarla...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259056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Hay que vivirla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535200"/>
            <a:ext cx="84960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¡ P L E N A M E N T E... BIE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orqué sin saberlo la naturaleza de nuestras circunstancias, pueden cambiar el giro de nuestra …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ue tengas buen dí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5867280"/>
            <a:ext cx="28954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BE64-8F36-4C00-BCDB-D76236D1C9DC}" type="datetime2">
              <a:rPr b="0" i="1" lang="en-US" sz="12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7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acostumbramos a vivir en departamentos                             y a no tener otr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vist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 no sea las ventanas de alrededor;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porque no se tiene vista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uego nos acostumbramos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no mirar para afue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 porque no miramos para afuera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uego nos acostumbramos </a:t>
            </a:r>
            <a:br>
              <a:rPr sz="2800"/>
            </a:b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no abrir del todo las cortinas; </a:t>
            </a:r>
            <a:br>
              <a:rPr sz="2800"/>
            </a:b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 porque no abrimos</a:t>
            </a:r>
            <a:br>
              <a:rPr sz="2800"/>
            </a:b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odo las cortinas, </a:t>
            </a:r>
            <a:br>
              <a:rPr sz="2800"/>
            </a:b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uego nos acostumbramos </a:t>
            </a:r>
            <a:br>
              <a:rPr sz="2800"/>
            </a:b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encender más temprano la lu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63836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medida que nos acostumbramos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lvidamos el sol, olvidamos el aire,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lvidamos la amplitud..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Nos acostumbramos a despertar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bresaltados porque se nos hizo tarde;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marnos el café corriendo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estamos atrasados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costumbramos a no mirar para afuera;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-10000"/>
          </a:blip>
          <a:srcRect l="6696" t="10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leer el diario e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utobú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no podemos perder tiempo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comer un sándwich porque no d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iempo para almorzar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salir del trabajo ya de noche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dormir en el autobú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estamos cansados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cenar rápido y dormir pesad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n haber vivido e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ía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acostumbramos a pensar que las person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ercanas a nosotros estarán siempre ahí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a creer que están bie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n preocuparnos por averiguarlo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esperar el día enter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finalmente oír en el teléfono: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3280" y="51055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"Es que hoy no puedo ir...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2857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A ver cuándo nos vemos.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La semana que viene nos reunimos..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 sonreír a las personas sin recibir una sonrisa de vuelta.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 ser ignorados cuando precisábamos tanto ser visto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i el cine está lleno nos acostumbramos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 nos conformamos con sentarno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n la primera fila aunque tengamos qu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rcer un poco el cuello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i el trabajo está complicado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s consolamos pensando en el fin de semana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38980" b="46877"/>
          <a:stretch/>
        </p:blipFill>
        <p:spPr>
          <a:xfrm>
            <a:off x="108000" y="115920"/>
            <a:ext cx="9036000" cy="6742080"/>
          </a:xfrm>
          <a:prstGeom prst="rect">
            <a:avLst/>
          </a:prstGeom>
          <a:ln w="101520">
            <a:solidFill>
              <a:srgbClr val="ffffff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si el fin de semana no hay mucho que hac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andamos cortos de dinero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s vamos a dormir temprano y listo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que siempre tenemos sueño atra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20:28:28Z</dcterms:created>
  <dc:creator>Adri</dc:creator>
  <dc:description/>
  <dc:language>en-US</dc:language>
  <cp:lastModifiedBy>figdelia_camacho</cp:lastModifiedBy>
  <dcterms:modified xsi:type="dcterms:W3CDTF">2007-01-09T19:00:21Z</dcterms:modified>
  <cp:revision>41</cp:revision>
  <dc:subject/>
  <dc:title>Ahorrar Vida</dc:title>
</cp:coreProperties>
</file>