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289-21BB-4EED-B78C-BC940785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E23-9C03-4B10-9E39-2D42760B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C00-E701-408C-B664-0DF8CFB5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3A4-AE57-441E-94C4-D4588369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801-3591-4446-AA42-7FDB1D2E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726-AE5E-4144-B70D-CCEEAE4D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8F7-B1AA-4A9E-B847-AE030281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B59-0B03-406B-AC15-E1E78092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AED-B67A-476E-ABE3-E0B53312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0C9-8CBD-4A3A-86B4-0E07971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048-1270-4C36-AA64-D723F7D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D05-D7C6-4BDB-B31D-FBC628BD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4325-9351-4DAA-8A14-0C499A952C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0:35:43Z</dcterms:created>
  <dc:creator>Ge -- http://groups.yahoo.com/group/adultPPSfiles/</dc:creator>
  <dc:description/>
  <dc:language>en-US</dc:language>
  <cp:lastModifiedBy>Administrador</cp:lastModifiedBy>
  <dcterms:modified xsi:type="dcterms:W3CDTF">2007-08-18T14:54:56Z</dcterms:modified>
  <cp:revision>8</cp:revision>
  <dc:subject/>
  <dc:title>Dia 1</dc:title>
</cp:coreProperties>
</file>