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8AE-A1E0-4EBC-B955-9B1BF343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D56-6039-4F9B-BA9E-9BBED500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36C-A2DE-4DA2-B9D8-64549E8A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63E0-CA11-4481-B120-8F98980D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1A5-D9CF-45D9-9ADC-EA626631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A43-48C2-42A9-AD30-896FC06D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C66-5007-4612-8B67-3CE644EE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82D-AAED-4F30-8D48-3DAE08AB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ACB-9FF1-4B7B-B20A-C77DA7C7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A30-4E74-42C6-A811-D27A05D8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30B-D91F-4464-B0B8-FBED7F73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35A9-FE25-488F-9E19-CAAC5D61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A3F6-67AE-4CB5-A22B-51624F47C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3320" y="450720"/>
            <a:ext cx="896436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¿Quién dijo que las mujeres no entienden nada de motores y no saben diagnosticar un desperfe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 es la historia de una mujer que telefonea a su marido al trabaj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66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EL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“Hola gordo... sabes que tengo un problema con el auto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E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¿Qué pasó.?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66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EL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“creo que entró agua al carburador,  no te preocup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“Agua en el carburado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¿?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desde cuándo tu sabes de mecánica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66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EL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“Bueno... de verdad... no estoy cien por ciento segura,...per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07:00:00Z</dcterms:created>
  <dc:creator>form2</dc:creator>
  <dc:description/>
  <dc:language>en-US</dc:language>
  <cp:lastModifiedBy>SSNCI</cp:lastModifiedBy>
  <dcterms:modified xsi:type="dcterms:W3CDTF">2004-03-12T15:53:26Z</dcterms:modified>
  <cp:revision>18</cp:revision>
  <dc:subject/>
  <dc:title>Sin título de diapositiva</dc:title>
</cp:coreProperties>
</file>