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340-DB12-4D9B-93A1-AC491CA1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216-7227-45B0-9ABE-8F47015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93A-7F1B-47E9-A3F3-6AFD7CF8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4F0-07E9-4FB2-98A3-825C3CF7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A66-B412-4B82-B9E6-2694B8FE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2CE-76DA-4A86-9435-BE58F56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5F8-068F-4CE2-B5D1-24F8D8E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3A9-A176-4249-93FD-E52E52A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136-ED65-4385-80C5-CB59428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27C-EA48-4619-BBE9-9A7E519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CFF-8BCF-473F-8910-5972A2D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817-BBBD-42D0-A2C3-36BCFBC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90E-FA86-4EE4-8366-34A6B23EE4D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Times New Roman"/>
              </a:rPr>
              <a:t>ÁFR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0" y="6248520"/>
            <a:ext cx="16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ama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6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h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0400" y="6172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1480" y="6400800"/>
            <a:ext cx="26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ongo Brazza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go Kinsh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86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64008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ost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Mar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j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60" y="6019920"/>
            <a:ext cx="12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i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" y="6019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Erit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59436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ió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1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África del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5486400"/>
            <a:ext cx="134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a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9840" y="64738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000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5638680"/>
            <a:ext cx="12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u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5440" y="63086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uinea-Bis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2560" y="625644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uine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Ecua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5640" y="609588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2000" y="64911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9320" y="601992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í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40" y="5638680"/>
            <a:ext cx="188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Madaga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324480"/>
            <a:ext cx="26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30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8360" y="6184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Ta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6000" y="5867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6360" y="6248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Marr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81080"/>
            <a:ext cx="9144000" cy="722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" y="62564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Kinsk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560" y="61135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urit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019920"/>
            <a:ext cx="29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9680" y="59436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N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9320" y="6019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Ní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8920" y="6400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iam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62485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K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720" y="649116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rg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0400" y="62485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ública Centro -Af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382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92160" y="61848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Ru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0" y="6095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nto Tomé Prín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2485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20" y="621648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ierra Le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00" y="5638680"/>
            <a:ext cx="12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ich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7840" y="64008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360" y="601992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Su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9320" y="6172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Suazilâ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248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2485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Be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360" y="5943600"/>
            <a:ext cx="9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T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232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9480" y="62564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6120" y="586728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20" y="6172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Z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92160" y="63295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mbab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4437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stas fotos han sido reenviadas varias veces. Muestran imágenes, paisajes y gente de Africa, tan características como su música y sus cantos llenos de esperanzas y también de tristeza.. Necesitamos comprender...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olo para mis amigos: babila@fibertel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" y="6248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Botsw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" y="6172200"/>
            <a:ext cx="17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62485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80" y="617220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bo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1:55:29Z</dcterms:created>
  <dc:creator/>
  <dc:description/>
  <dc:language>en-US</dc:language>
  <cp:lastModifiedBy>FAMILIA</cp:lastModifiedBy>
  <dcterms:modified xsi:type="dcterms:W3CDTF">2007-12-10T23:16:44Z</dcterms:modified>
  <cp:revision>35</cp:revision>
  <dc:subject/>
  <dc:title>Diapositivo 1</dc:title>
</cp:coreProperties>
</file>