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uaa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FC3E-1B00-4DFC-AC98-E10232B0F7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E5C9-0F4A-44E4-8B50-80C57E97E0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3399-553D-4F1D-A219-577E2504DA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BCDE-31F2-4A26-B0BD-7D54AB80C4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9E8D-3D2D-4736-AECD-DAAE2F0066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28EB-0CB4-4429-99E2-98E896B6F6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25B0-84B6-4662-99E3-E6CCE6943B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78B5-D310-43D6-B377-F8EBB5AC90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5D54-C701-4C5E-AD43-CAA1D12074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7261-F2B6-42A0-8909-0383DABBC9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AED9-F348-42B5-B15D-6FC25EA32B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94F2-E70D-4B6B-8BF8-FD0C51715A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1267-0592-4724-A285-26884BF414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4C2D-8D92-411E-AE83-9C34A58A9E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92A2-5B5D-482B-8199-672543FF1A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F1D-4EC7-4E1A-BE8E-E30FBE506D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C918-FFAF-46C8-9BEC-F0D82292EA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4435-569C-4F14-8BEC-24AC4A3C91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D7C9-E5F1-4E1D-922D-232FDA45C3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A71B-305F-43E8-9CDA-80AB7253C1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0AB7-2379-4476-A5F6-1A56910881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1D56-F6AB-4E8B-9304-FB5DBE31DE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73EA-4969-4D82-A282-D97FD35C7B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C4A-8935-44D4-A1D6-29DD5505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9CA-F446-4175-989B-F87BEFFD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365-DFD4-4C1F-9F80-004F550B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C75-05B1-456B-9696-ADA02F04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A27-9810-4987-9ACC-36C14212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EA7-122C-49B9-8521-E86E3A34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EA8-F0AC-466C-9C52-DE50939A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9A1-F98B-4957-8D76-E2DFA72C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55A-DB18-4ED4-B6A8-26630052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138-58D5-423E-82A1-44E55291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019-46B8-44A5-9E26-A9E197AB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60F-3C49-446E-9329-3BFCC5B2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4CCA-4724-4244-89D7-C63BFD95B6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aa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Black"/>
              </a:rPr>
              <a:t>SUPER TEST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 para contin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 que si no lo mandabas ibas a tener desgracias en tu vida????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me chingues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ecnologia aun no esta tan avanzada como para hacer que un trinche puñado de bits de un email o de una presentación te cambie la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o mandaria esta presentacion a tus compañeros y amigos, para chingarlos como me han hecho a mi, y yo te lo hice a ti con este email!!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 cuantos? Y yo que se cuantos pinches amigos tienes!?!?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eno chao!!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 suerte en la vida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(Aunque tendras la misma suerte te lo diga o n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hh! y una ultima cosa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uaaa"/>
          <p:cNvPicPr/>
          <p:nvPr/>
        </p:nvPicPr>
        <p:blipFill>
          <a:blip r:embed="rId1"/>
          <a:stretch/>
        </p:blipFill>
        <p:spPr>
          <a:xfrm>
            <a:off x="0" y="0"/>
            <a:ext cx="9325080" cy="69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me podía aguantar a poner esta pendejada que ha espantado a medio mundo!!!!!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(Entre todos esos yo por que la neta si me asuste!!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Fin de la presentación, haga clic para continu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 cual es tu fruta favorit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T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Se ha detectado un virus fatal err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Windows se a cerrado por su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Haga clic para iniciar volcado de memori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Código de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D2X000000000000012687F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HAL.DLL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pperplate Gothic Light"/>
              </a:rPr>
              <a:t>JA JA JA….</a:t>
            </a: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 ERA B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APOCO NO TE CAGASTE DE MIED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JA JA JA JA JA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AAAAJAJAJAJAJ!!!!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y cabron!!!! 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 me hace que comi payaso!!!!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y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Black"/>
              </a:rPr>
              <a:t>RESULTAD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760" y="121428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legiste NARANJA: eres alguien al que le gustan las naran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legiste PLATANO: eres alguien al que le gustan los plát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legiste MELON: eres alguien al que le gustan los me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legiste FRESA: eres alguien al que le gustan las f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te creías??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diciéndole a un email una puta fruta te iba a decir quien te ama o una pendejada de esas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99680" y="2957400"/>
            <a:ext cx="77151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CHINGUES… AAAJA JA JA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eno esto es una caden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o si no la envías, tu vida seguirá siendo la misma, no pasa ni madres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te creias???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enviando este powerpoint  a 10 personas te ibas a casar mañana o que pedo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26:07Z</dcterms:created>
  <dc:creator>pedro</dc:creator>
  <dc:description/>
  <dc:language>en-US</dc:language>
  <cp:lastModifiedBy>Rodrigo Herrera</cp:lastModifiedBy>
  <dcterms:modified xsi:type="dcterms:W3CDTF">2009-05-26T18:23:21Z</dcterms:modified>
  <cp:revision>12</cp:revision>
  <dc:subject/>
  <dc:title>SUPER TEST!!!!</dc:title>
</cp:coreProperties>
</file>