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24%20-%20Enya(FallenEmbers).wav" ContentType="audio/x-wav"/>
  <Override PartName="/ppt/media/image7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F68B-4BC6-46F4-A666-5AF555E7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D822-FBF3-481D-8A5B-15FEC3DE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C79-07BF-4CA0-B010-FFD60503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6DF7-162F-4C5E-9BAB-A76E4B79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3266-1453-44D4-9CE6-DF6CC52E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E71-F53C-4537-A12B-A155672B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33D6-8E9E-4F9B-A306-4EFF00BF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9C02-884C-4921-89D8-4B7F38D0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196F-44FA-4EAA-ABD5-5D618030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7FA1-6612-4510-A152-2D6D9657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8A9E-42DA-4133-BFF8-3B9C5381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38CE-CBE3-45F1-B0D4-1D23498B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51040"/>
            <a:ext cx="190512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51040"/>
            <a:ext cx="190512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CA9E-48A3-45BE-B26A-2D1FD9C35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24%20-%20Enya(FallenEmbers).wav"/><Relationship Id="rId4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124000" y="836640"/>
            <a:ext cx="4356000" cy="3036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02480" y="403560"/>
            <a:ext cx="43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EELO, ASUMELO Y PASAL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7240" y="4111560"/>
            <a:ext cx="3740400" cy="19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Debo ser estúpi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Debo ser muy mala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Porqué otro motivo Mamá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sta enojada?..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88000" y="4076640"/>
            <a:ext cx="37400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2000"/>
          </a:bodyPr>
          <a:p>
            <a:pPr marL="315360" indent="-315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Quisiera s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mejor, Quisiera fea n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star, Entonces tal vez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mami me quier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brazar...</a:t>
            </a:r>
            <a:r>
              <a:rPr b="0" lang="es-E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3" name="24%20-%20Enya(FallenEmbers)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40360" y="692280"/>
            <a:ext cx="4752720" cy="3409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2951280" cy="426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No debo hablar,</a:t>
            </a:r>
            <a:br>
              <a:rPr sz="2100"/>
            </a:b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No debo hacer mal;</a:t>
            </a:r>
            <a:br>
              <a:rPr sz="2100"/>
            </a:b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De lo contrario,</a:t>
            </a:r>
            <a:br>
              <a:rPr sz="2100"/>
            </a:b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Por todo el día me van a encerrar...</a:t>
            </a:r>
            <a:br>
              <a:rPr sz="2100"/>
            </a:br>
            <a:br>
              <a:rPr sz="2100"/>
            </a:br>
            <a:br>
              <a:rPr sz="2100"/>
            </a:b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Cuando despierto</a:t>
            </a:r>
            <a:br>
              <a:rPr sz="2100"/>
            </a:b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Siempre estoy sola,</a:t>
            </a:r>
            <a:br>
              <a:rPr sz="2100"/>
            </a:b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casa esta oscura</a:t>
            </a:r>
            <a:br>
              <a:rPr sz="2100"/>
            </a:b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Por horas y horas...</a:t>
            </a:r>
            <a:r>
              <a:rPr b="0" lang="es-E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3640" y="4869000"/>
            <a:ext cx="7848360" cy="14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mami regrese</a:t>
            </a:r>
            <a:br>
              <a:rPr sz="2300"/>
            </a:b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Tratare de ser Buena aunque ella no me quiera ni abraze de pena...</a:t>
            </a:r>
            <a:br>
              <a:rPr sz="2300"/>
            </a:b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No hagas ni un ruido,</a:t>
            </a:r>
            <a:br>
              <a:rPr sz="2300"/>
            </a:b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La puerta acabo de escuchar;</a:t>
            </a:r>
            <a:br>
              <a:rPr sz="2300"/>
            </a:b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Mi papi ha llegado Borracho de un bar...</a:t>
            </a:r>
            <a:br>
              <a:rPr sz="2300"/>
            </a:b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292720" y="1125360"/>
            <a:ext cx="312408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Lo escucho enojado  Mi nombre gritar        Y contra una pared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Me trato de lanzar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Trato de esconderme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De su horrible Mirada,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No aguanto el llanto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Me siento espantada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4392360" cy="5761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76720" y="549360"/>
            <a:ext cx="3733920" cy="64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300" spc="-1" strike="noStrike">
                <a:solidFill>
                  <a:srgbClr val="ffffff"/>
                </a:solidFill>
                <a:latin typeface="Times New Roman"/>
              </a:rPr>
              <a:t>Me encuentra llorando</a:t>
            </a:r>
            <a:br>
              <a:rPr sz="2300"/>
            </a:br>
            <a:r>
              <a:rPr b="1" i="1" lang="es-ES" sz="2300" spc="-1" strike="noStrike">
                <a:solidFill>
                  <a:srgbClr val="ffffff"/>
                </a:solidFill>
                <a:latin typeface="Times New Roman"/>
              </a:rPr>
              <a:t>Me grita, me insulta</a:t>
            </a:r>
            <a:br>
              <a:rPr sz="2300"/>
            </a:br>
            <a:r>
              <a:rPr b="1" i="1" lang="es-ES" sz="2300" spc="-1" strike="noStrike">
                <a:solidFill>
                  <a:srgbClr val="ffffff"/>
                </a:solidFill>
                <a:latin typeface="Times New Roman"/>
              </a:rPr>
              <a:t>Me dice que sus problemas</a:t>
            </a:r>
            <a:br>
              <a:rPr sz="2300"/>
            </a:br>
            <a:r>
              <a:rPr b="1" i="1" lang="es-ES" sz="2300" spc="-1" strike="noStrike">
                <a:solidFill>
                  <a:srgbClr val="ffffff"/>
                </a:solidFill>
                <a:latin typeface="Times New Roman"/>
              </a:rPr>
              <a:t>Todos son por mi culpa...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300" spc="-1" strike="noStrike">
                <a:solidFill>
                  <a:srgbClr val="ffffff"/>
                </a:solidFill>
                <a:latin typeface="Times New Roman"/>
              </a:rPr>
              <a:t>Me empieza a golpear</a:t>
            </a:r>
            <a:br>
              <a:rPr sz="2300"/>
            </a:br>
            <a:r>
              <a:rPr b="1" i="1" lang="es-ES" sz="2300" spc="-1" strike="noStrike">
                <a:solidFill>
                  <a:srgbClr val="ffffff"/>
                </a:solidFill>
                <a:latin typeface="Times New Roman"/>
              </a:rPr>
              <a:t>Me sigue gritando,</a:t>
            </a:r>
            <a:br>
              <a:rPr sz="2300"/>
            </a:br>
            <a:r>
              <a:rPr b="1" i="1" lang="es-ES" sz="2300" spc="-1" strike="noStrike">
                <a:solidFill>
                  <a:srgbClr val="ffffff"/>
                </a:solidFill>
                <a:latin typeface="Times New Roman"/>
              </a:rPr>
              <a:t>Me logro soltar</a:t>
            </a:r>
            <a:br>
              <a:rPr sz="2300"/>
            </a:br>
            <a:r>
              <a:rPr b="1" i="1" lang="es-ES" sz="2300" spc="-1" strike="noStrike">
                <a:solidFill>
                  <a:srgbClr val="ffffff"/>
                </a:solidFill>
                <a:latin typeface="Times New Roman"/>
              </a:rPr>
              <a:t>Y corro llorando...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300" spc="-1" strike="noStrike">
                <a:solidFill>
                  <a:srgbClr val="ffffff"/>
                </a:solidFill>
                <a:latin typeface="Times New Roman"/>
              </a:rPr>
              <a:t>Caigo al suelo</a:t>
            </a:r>
            <a:br>
              <a:rPr sz="2300"/>
            </a:br>
            <a:r>
              <a:rPr b="1" i="1" lang="es-ES" sz="2300" spc="-1" strike="noStrike">
                <a:solidFill>
                  <a:srgbClr val="ffffff"/>
                </a:solidFill>
                <a:latin typeface="Times New Roman"/>
              </a:rPr>
              <a:t>Mis huesos doliendo</a:t>
            </a:r>
            <a:br>
              <a:rPr sz="2300"/>
            </a:br>
            <a:r>
              <a:rPr b="1" i="1" lang="es-ES" sz="2300" spc="-1" strike="noStrike">
                <a:solidFill>
                  <a:srgbClr val="ffffff"/>
                </a:solidFill>
                <a:latin typeface="Times New Roman"/>
              </a:rPr>
              <a:t>Papá me dice palabras</a:t>
            </a:r>
            <a:br>
              <a:rPr sz="2300"/>
            </a:br>
            <a:r>
              <a:rPr b="1" i="1" lang="es-ES" sz="2300" spc="-1" strike="noStrike">
                <a:solidFill>
                  <a:srgbClr val="ffffff"/>
                </a:solidFill>
                <a:latin typeface="Times New Roman"/>
              </a:rPr>
              <a:t>Que ni las entiendo...</a:t>
            </a:r>
            <a:br>
              <a:rPr sz="2300"/>
            </a:b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800600" y="380880"/>
            <a:ext cx="3276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300" spc="-1" strike="noStrike">
                <a:solidFill>
                  <a:srgbClr val="ffffff"/>
                </a:solidFill>
                <a:latin typeface="Times New Roman"/>
              </a:rPr>
              <a:t>"Perdoname" le grito</a:t>
            </a:r>
            <a:br>
              <a:rPr sz="2300"/>
            </a:br>
            <a:r>
              <a:rPr b="1" i="1" lang="es-ES" sz="2300" spc="-1" strike="noStrike">
                <a:solidFill>
                  <a:srgbClr val="ffffff"/>
                </a:solidFill>
                <a:latin typeface="Times New Roman"/>
              </a:rPr>
              <a:t>Pero ya es muy tarde,</a:t>
            </a:r>
            <a:br>
              <a:rPr sz="2300"/>
            </a:br>
            <a:r>
              <a:rPr b="1" i="1" lang="es-ES" sz="2300" spc="-1" strike="noStrike">
                <a:solidFill>
                  <a:srgbClr val="ffffff"/>
                </a:solidFill>
                <a:latin typeface="Times New Roman"/>
              </a:rPr>
              <a:t>Su rostro enojado</a:t>
            </a:r>
            <a:br>
              <a:rPr sz="2300"/>
            </a:br>
            <a:r>
              <a:rPr b="1" i="1" lang="es-ES" sz="2300" spc="-1" strike="noStrike">
                <a:solidFill>
                  <a:srgbClr val="ffffff"/>
                </a:solidFill>
                <a:latin typeface="Times New Roman"/>
              </a:rPr>
              <a:t>parece que arde...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300" spc="-1" strike="noStrike">
                <a:solidFill>
                  <a:srgbClr val="ffffff"/>
                </a:solidFill>
                <a:latin typeface="Times New Roman"/>
              </a:rPr>
              <a:t>Los golpes y las palabras</a:t>
            </a:r>
            <a:br>
              <a:rPr sz="2300"/>
            </a:br>
            <a:r>
              <a:rPr b="1" i="1" lang="es-ES" sz="2300" spc="-1" strike="noStrike">
                <a:solidFill>
                  <a:srgbClr val="ffffff"/>
                </a:solidFill>
                <a:latin typeface="Times New Roman"/>
              </a:rPr>
              <a:t>Me duelen de verdad,</a:t>
            </a:r>
            <a:br>
              <a:rPr sz="2300"/>
            </a:br>
            <a:r>
              <a:rPr b="1" i="1" lang="es-ES" sz="2300" spc="-1" strike="noStrike">
                <a:solidFill>
                  <a:srgbClr val="ffffff"/>
                </a:solidFill>
                <a:latin typeface="Times New Roman"/>
              </a:rPr>
              <a:t>Le pido a papá Dios</a:t>
            </a:r>
            <a:br>
              <a:rPr sz="2300"/>
            </a:br>
            <a:r>
              <a:rPr b="1" i="1" lang="es-ES" sz="2300" spc="-1" strike="noStrike">
                <a:solidFill>
                  <a:srgbClr val="ffffff"/>
                </a:solidFill>
                <a:latin typeface="Times New Roman"/>
              </a:rPr>
              <a:t>Misericordia y piedad...</a:t>
            </a:r>
            <a:br>
              <a:rPr sz="2300"/>
            </a:b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174920" cy="4024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68480" y="1214280"/>
            <a:ext cx="335124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4440" y="560880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356000" y="4076640"/>
            <a:ext cx="3048120" cy="2543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56000" y="333360"/>
            <a:ext cx="3454560" cy="47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Por fin el termina,</a:t>
            </a:r>
            <a:br>
              <a:rPr sz="2300"/>
            </a:b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Y camina a la puerta,</a:t>
            </a:r>
            <a:br>
              <a:rPr sz="2300"/>
            </a:b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Mientras yo en el suelo</a:t>
            </a:r>
            <a:br>
              <a:rPr sz="2300"/>
            </a:b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Quedo casi muerta...</a:t>
            </a:r>
            <a:br>
              <a:rPr sz="2300"/>
            </a:br>
            <a:br>
              <a:rPr sz="2300"/>
            </a:b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Mi nombre es Sarah,</a:t>
            </a:r>
            <a:br>
              <a:rPr sz="2300"/>
            </a:b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Tres años de edad;</a:t>
            </a:r>
            <a:br>
              <a:rPr sz="2300"/>
            </a:b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sta noche mi padre...</a:t>
            </a:r>
            <a:br>
              <a:rPr sz="2300"/>
            </a:b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Me mato sin piedad.</a:t>
            </a:r>
            <a:br>
              <a:rPr sz="2300"/>
            </a:br>
            <a:br>
              <a:rPr sz="2300"/>
            </a:br>
            <a:br>
              <a:rPr sz="4100"/>
            </a:b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316224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4437000"/>
            <a:ext cx="9288360" cy="22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te afecto en algún modo haz algo al respecto!!! Todo lo que pido es que </a:t>
            </a:r>
            <a:br>
              <a:rPr sz="2300"/>
            </a:b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lo reenvíes y reconozcas que esto realmente sucede, y que padres como este </a:t>
            </a:r>
            <a:br>
              <a:rPr sz="2300"/>
            </a:b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iven en nuestra sociedad... ora porque termine el abuso infantil y por la </a:t>
            </a:r>
            <a:br>
              <a:rPr sz="2300"/>
            </a:b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eguridad de los niños..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e q harás lo que el corazón te dicta, confío en ti .....por favor ten un </a:t>
            </a:r>
            <a:br>
              <a:rPr sz="2300"/>
            </a:b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poco de corazón es todo... si lo haces vas a recibir la bendición de DIOS ...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0672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xisten millones de niños como Sarah en México y en el mundo. Tu puedes </a:t>
            </a:r>
            <a:br>
              <a:rPr sz="2300"/>
            </a:b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yudar.</a:t>
            </a:r>
            <a:br>
              <a:rPr sz="2300"/>
            </a:br>
            <a:br>
              <a:rPr sz="2300"/>
            </a:b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stos actos enferman y si tu lees este poema y no lo pasas oraré por ti , </a:t>
            </a:r>
            <a:br>
              <a:rPr sz="2300"/>
            </a:b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porque solo alguien sin corazón no sentiría nada al leerl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7T01:39:09Z</dcterms:created>
  <dc:creator>RODRIGUEZ BONILLA MANUEL</dc:creator>
  <dc:description/>
  <dc:language>en-US</dc:language>
  <cp:lastModifiedBy>toshiba</cp:lastModifiedBy>
  <dcterms:modified xsi:type="dcterms:W3CDTF">2007-01-09T07:01:11Z</dcterms:modified>
  <cp:revision>37</cp:revision>
  <dc:subject/>
  <dc:title>Sin título de diapositiva</dc:title>
</cp:coreProperties>
</file>