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BC0-0905-4CBF-B007-A2B5E468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846-D4F9-478E-AB2F-26935A2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4F1-1BA1-440E-A36B-04B36A83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7E2-4553-449C-B22E-D1ED9299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014-6B42-4F99-B607-C1BE63B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099-AD9E-48B0-8263-44C45262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D00-3EB3-4756-8E10-D525B205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6A8-40DE-4DEF-AB18-4569D31F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BF2-4178-47E0-BB48-7CD6361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29F-B32C-4FED-A736-B1965DD9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77E-5CD0-4BC3-874C-AAA75EC5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346-A282-46C7-BB2F-6C6A1275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5FA3-031B-4E18-937B-CD268EC7CF6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500040" y="142920"/>
            <a:ext cx="807084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A Mis Queridos Amigos y Amigas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 </a:t>
            </a:r>
            <a:br>
              <a:rPr sz="2800"/>
            </a:br>
            <a:r>
              <a:rPr b="0" i="1" lang="es-E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GRACIAS POR TODAS LAS CADENAS DE MIERDA QUE ME HAN MANDADO DURANTE TODO </a:t>
            </a:r>
            <a:br>
              <a:rPr sz="2800"/>
            </a:br>
            <a:r>
              <a:rPr b="0" i="1" lang="es-E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ESTE TIEMPO, QUE ME HAN TENIDO OCUPADO TRATANDO DE ENCONTRAR ALGUN </a:t>
            </a:r>
            <a:br>
              <a:rPr sz="2800"/>
            </a:br>
            <a:r>
              <a:rPr b="0" i="1" lang="es-E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CABRÓN A QUIEN MANDARSELAS QUE NO ME LA HAYA MANDADO ANTES A MI. LAS </a:t>
            </a:r>
            <a:br>
              <a:rPr sz="2800"/>
            </a:br>
            <a:r>
              <a:rPr b="0" i="1" lang="es-E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HE SEGUIDO AL PIE DE LA LETRA Y GRACIAS A ELLAS Y A USTEDES MI VIDA HA </a:t>
            </a:r>
            <a:br>
              <a:rPr sz="2800"/>
            </a:br>
            <a:r>
              <a:rPr b="0" i="1" lang="es-MX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S</a:t>
            </a:r>
            <a:r>
              <a:rPr b="0" i="1" lang="es-E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IDO UN INFIERNO Y HE ADOPTADO LAS SIGUIENTES ACTIT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9640" y="549360"/>
            <a:ext cx="806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Firme como 100 hojas para que haya más seguridad en nuestro país y colgué sábanas blancas de la ventana, ahora duermo solamente con las  frazadas porque los ratas me</a:t>
            </a:r>
            <a:r>
              <a:rPr b="0" lang="es-MX" sz="31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robaron todas las sában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70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72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24000" y="549360"/>
            <a:ext cx="8496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Después de recibir sus cadenas de mierda mi vida cambió y estoy seguro de que todos mis actuales problemas y males son a causa de alguna reputa cadena que se me olvidó reenviar a 20 culeros antes de 3 días y me cayó encima una maldición de la puta mad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</a:rPr>
              <a:t>Y si estas esperando que algún</a:t>
            </a:r>
            <a:r>
              <a:rPr b="0" lang="es-MX" sz="31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</a:rPr>
              <a:t>pendejo/a te reenvíe unas de tus</a:t>
            </a:r>
            <a:r>
              <a:rPr b="0" lang="es-MX" sz="31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</a:rPr>
              <a:t>cadenas de amor, felicidad o de amistad te puedes hacer una trenza con los pelos del culo y ponerte en cuatro patas y no te llegará de vuelta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75" name="4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571680" y="1429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NOTA IMPORTA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14200" y="714240"/>
            <a:ext cx="8642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Tahoma"/>
                <a:ea typeface="Tahoma"/>
              </a:rPr>
              <a:t>Si no envías este e-mail por lo menos a 2.758 personas en los próximos 5 minutos, te cagará una vaca voladora hoy en la tarde cuando salgas del trabajo, si es que tienes trabajo, y además sufrirás de una hemorroide gigante que te va a salir justo al borde del orto para que cuando cagues te acuerdes hasta de tu abuelita.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Tahoma"/>
                <a:ea typeface="Tahoma"/>
              </a:rPr>
              <a:t>Y DE ACÁ PARA DELANTE METANSE SUS CADENAS EN LA SOBERANA CUEVA DEL ORTO SI ES QUE LA HEMORROIDE SE LOS PERMITE Y NO ME CHINGUEN  NUNCA MÁS CON ESO DE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" Si no envías esta cadena a 20 personas se te caerá el pito"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Tahoma"/>
                <a:ea typeface="Tahoma"/>
              </a:rPr>
              <a:t>                    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  <a:ea typeface="Tahoma"/>
              </a:rPr>
              <a:t>Un amigo que los qui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39640" y="549360"/>
            <a:ext cx="806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0000"/>
                </a:solidFill>
                <a:latin typeface="Arial"/>
              </a:rPr>
              <a:t>P.D. 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d0d0d"/>
                </a:solidFill>
                <a:latin typeface="Arial"/>
              </a:rPr>
              <a:t>ESTA NO ES UNA CADENA PERO COMO ESTOY MAS DESCONFIADO QUE LA MIERDA SE LA MANDE A 10 ... POR SI LAS MOSCAS. NO VAYA SER COSA QUE LAS VACAS REALMENTE PUEDAN VOLAR Y ME CAIGA FLOR DE CAGADA EN LA CABEZA  AL SALIR DEL TRABAJ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80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4172040" cy="4267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214200" y="214200"/>
            <a:ext cx="698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ando todo te vaya mal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641840" y="5786280"/>
            <a:ext cx="391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0000"/>
                </a:solidFill>
                <a:latin typeface="Times New Roman"/>
              </a:rPr>
              <a:t>Recuerda qu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248520" cy="4863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4296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¡¡¡Te podría ir peor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alu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39640" y="549360"/>
            <a:ext cx="806472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Ya no saco el dinero de los cajeros porque me pueden clonar la </a:t>
            </a:r>
            <a:br>
              <a:rPr sz="3100"/>
            </a:b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tarjeta y después me roban la plat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Dejé de tomar Coca-Cola y después de enterarme que sirve hasta para </a:t>
            </a:r>
            <a:br>
              <a:rPr sz="3100"/>
            </a:b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quitar el sarro de los inodoros y además oxida los genitales y la ropa </a:t>
            </a:r>
            <a:br>
              <a:rPr sz="3100"/>
            </a:b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interior y que si la combino con menthos se me explotan las trip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46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39640" y="549360"/>
            <a:ext cx="806472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Dejé de ir al cine por miedo a sentarme en una butaca y pincharme las bolas con algún objeto punzante infectado de SIDA, y al cambio de monedas del teléfono publico lo dejo por el mismo mo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Apesto como un chivo, porque dejé de usar desodorantes, ya que según sus cadenas de mierda, producen cáncer en las axil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39640" y="549360"/>
            <a:ext cx="806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No hago caso a los semáforos en rojo por miedo a que me droguen con la muestra de un perfume para robarme el auto y quizás hasta me viole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Suspendí el consumo de varios alimentos por miedo a los estrógenos, a los transgénicos y a no sé a cuantas pendejadas má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52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549360"/>
            <a:ext cx="806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Dejé de comer pollo y hamburguesas porque según sus cadenas maracas no son más que carne de quién sabe qué engendros horripilantes</a:t>
            </a:r>
            <a:r>
              <a:rPr b="0" lang="es-E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cultivados en un laboratori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Tampoco fui más a Mc Donald para no ingerir hamburguesas hechas con, además de la carne del punto anterior, una especie de lombric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55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9640" y="549360"/>
            <a:ext cx="806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Tampoco hago más el amor con algunas estupendas chicas por miedo a que los preservativos vengan intencionalmente</a:t>
            </a:r>
            <a:r>
              <a:rPr b="0" lang="es-MX" sz="31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perforados y me contagie de alg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Gasté más de $ 25.000.- en limpieza de virus de mi PC por las cadenas de la concha de su madre que venían infestadas con algún viru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58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 Imagen" descr="correo.jpg"/>
          <p:cNvPicPr/>
          <p:nvPr/>
        </p:nvPicPr>
        <p:blipFill>
          <a:blip r:embed="rId1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0" name="2 Imagen" descr="correo.gif"/>
          <p:cNvPicPr/>
          <p:nvPr/>
        </p:nvPicPr>
        <p:blipFill>
          <a:blip r:embed="rId2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500040" y="0"/>
            <a:ext cx="80643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Doné unos $ 100,000.- de mis ahorros a las 638 cuentas de </a:t>
            </a:r>
            <a:r>
              <a:rPr b="0" i="1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Amy Bruce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, una </a:t>
            </a:r>
            <a:r>
              <a:rPr b="0" i="1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niñita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i="1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enferma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 que estuvo a punto de morirse unas 7.245 veces en </a:t>
            </a:r>
            <a:r>
              <a:rPr b="0" lang="es-MX" sz="3100" spc="-1" strike="noStrike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.354 hospitales y que todavía tiene siete años de edad desde 1993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Dejé de hacer, tomar y comer tantas cosas, porque según esas malditas cadenas provocaban cáncer, disminuían la potencia sexual, etc. Ahora estoy más aburrido que una ostra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39640" y="549360"/>
            <a:ext cx="806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Esperé durante años como un estúpido junto a mi correo, los u$s 1500 dólares que me mandarían Microsoft y AOL por participar en la prueba de rastreo de los e-mail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El prometido viaje a Europa con gastos pagados tampoco llegó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64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 Imagen" descr="correo.gif"/>
          <p:cNvPicPr/>
          <p:nvPr/>
        </p:nvPicPr>
        <p:blipFill>
          <a:blip r:embed="rId1"/>
          <a:stretch/>
        </p:blipFill>
        <p:spPr>
          <a:xfrm>
            <a:off x="428760" y="5286240"/>
            <a:ext cx="1428480" cy="1333800"/>
          </a:xfrm>
          <a:prstGeom prst="rect">
            <a:avLst/>
          </a:prstGeom>
          <a:ln w="0">
            <a:noFill/>
          </a:ln>
        </p:spPr>
      </p:pic>
      <p:pic>
        <p:nvPicPr>
          <p:cNvPr id="66" name="3 Imagen" descr="correo.jpg"/>
          <p:cNvPicPr/>
          <p:nvPr/>
        </p:nvPicPr>
        <p:blipFill>
          <a:blip r:embed="rId2"/>
          <a:stretch/>
        </p:blipFill>
        <p:spPr>
          <a:xfrm>
            <a:off x="6929280" y="5072040"/>
            <a:ext cx="1905120" cy="1619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250920" y="549360"/>
            <a:ext cx="86421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Tahoma"/>
              </a:rPr>
              <a:t>No recibí el MILLON de dólares, ni el Ferrari, ni tuve un fin de semana largo de diversión con Nicole Neuman! (las 3 cosas que pedí como deseo después de mandar a 10 personas el </a:t>
            </a:r>
            <a:r>
              <a:rPr b="0" i="1" lang="en-US" sz="3100" spc="-1" strike="noStrike">
                <a:solidFill>
                  <a:srgbClr val="0000cc"/>
                </a:solidFill>
                <a:latin typeface="Tahoma"/>
              </a:rPr>
              <a:t>Mantra Mágico</a:t>
            </a:r>
            <a:r>
              <a:rPr b="0" lang="en-US" sz="3100" spc="-1" strike="noStrike">
                <a:solidFill>
                  <a:srgbClr val="0000cc"/>
                </a:solidFill>
                <a:latin typeface="Tahoma"/>
              </a:rPr>
              <a:t> enviado por el mismísimo </a:t>
            </a:r>
            <a:r>
              <a:rPr b="0" i="1" lang="en-US" sz="3100" spc="-1" strike="noStrike">
                <a:solidFill>
                  <a:srgbClr val="0000cc"/>
                </a:solidFill>
                <a:latin typeface="Tahoma"/>
              </a:rPr>
              <a:t>Dalai Lama</a:t>
            </a:r>
            <a:r>
              <a:rPr b="0" lang="en-US" sz="3100" spc="-1" strike="noStrike">
                <a:solidFill>
                  <a:srgbClr val="0000cc"/>
                </a:solidFill>
                <a:latin typeface="Tahoma"/>
              </a:rPr>
              <a:t>!)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Tahom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774"/>
              </a:spcBef>
              <a:buClr>
                <a:srgbClr val="0000cc"/>
              </a:buClr>
              <a:buFont typeface="Tahom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Tahoma"/>
              </a:rPr>
              <a:t>Envié más de 500 firmas en contra de la guerra de USA contra Irak y ahora me dijeron que estoy en una lista de terroristas sospechosos y que en cualquier momento me cagarán a tiros o me ponen una bomba en el baño de mi casa</a:t>
            </a:r>
            <a:r>
              <a:rPr b="0" lang="es-ES" sz="3100" spc="-1" strike="noStrike">
                <a:solidFill>
                  <a:srgbClr val="0000cc"/>
                </a:solidFill>
                <a:latin typeface="Tahoma"/>
                <a:ea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4:16:22Z</dcterms:created>
  <dc:creator>Puntoexe®</dc:creator>
  <dc:description/>
  <dc:language>en-US</dc:language>
  <cp:lastModifiedBy>WinuE</cp:lastModifiedBy>
  <dcterms:modified xsi:type="dcterms:W3CDTF">2010-04-08T02:04:37Z</dcterms:modified>
  <cp:revision>2</cp:revision>
  <dc:subject/>
  <dc:title>Cadenas que encadenan</dc:title>
</cp:coreProperties>
</file>