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Graznidos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Graznidos1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762120" y="1676520"/>
            <a:ext cx="8001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OMO AVERIGUAR EL SEXO DE UN PÁJARO?</a:t>
            </a:r>
            <a:br>
              <a:rPr sz="2000"/>
            </a:b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¡¡</a:t>
            </a: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ASOMBROSO!!!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ta ahora nunca había podido averiguar la diferencia entre una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bra y un macho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533520" y="838080"/>
            <a:ext cx="8381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mpre había pensado que tenía que determinarse quirúrgicamente.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hablan del plumaje, tamaño, pico, cresta y otras taradeces para lo cual, hay que estar horas observando en su hábitat natural, etc.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ta ahora..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dos pájaros, ¿cual es la hembra????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otra pagina verás dos pájaros. 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údialos detenidamente...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ra si puedes decir cuál de los dos es la hembra.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hacer.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so por gente con limitadas dotes de observación de pájar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2286000" y="2239920"/>
            <a:ext cx="4572000" cy="23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441800" y="2895480"/>
            <a:ext cx="642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ía esto a todos los hombres que conozcas,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 mujeres que tengan un gran sentido del humo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9:46:28Z</dcterms:created>
  <dc:creator>piraccini</dc:creator>
  <dc:description/>
  <dc:language>en-US</dc:language>
  <cp:lastModifiedBy>Hector Girbau</cp:lastModifiedBy>
  <dcterms:modified xsi:type="dcterms:W3CDTF">2006-05-22T18:19:00Z</dcterms:modified>
  <cp:revision>5</cp:revision>
  <dc:subject/>
  <dc:title>Presentazione di PowerPoint</dc:title>
</cp:coreProperties>
</file>