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fart.wav" ContentType="audio/x-wav"/>
  <Override PartName="/ppt/media/ATT43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28C-5FD3-43CB-A0FF-68164269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EBE-558C-4227-A3FF-55F632F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DBB-22A4-4EA8-B4E4-418BCEA7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0EE-84F6-47A6-B637-75331124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6EE7-B145-4C5E-BFCF-8BF7BE48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D428-5BAC-4095-B222-D9BA4711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1C22-6BCC-483C-B6AA-94F6029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C5C-6CF5-4626-88E4-6271CC99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6EB1-F1C7-4127-B567-D814E467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F40A-94CA-4D6E-B102-B7D9998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21CD-4574-4152-B82E-F7C68A4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CAA-0C79-450B-9C7A-CCA01E2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8832-9C5A-4072-9F2F-8348938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0251-D95B-44EC-9F9C-923C677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2ACC-B0E1-41AD-AAD3-BA53826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572F-06FA-4ED7-8EC3-DD9EB8A5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5D74-3D29-483D-90DB-C3B01EAF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B3A-5715-4B7A-8382-1871A16F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174-96E0-47B7-A260-3F00A14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12D-0340-454D-AACA-7227C30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BA5-80FD-4ED7-8E15-3302BE2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986-2205-436E-84A4-449D24B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947-4D4F-468C-91AE-0A859CF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054-39E5-4124-9F63-299D8F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BBE-483C-4362-B9D2-8307A41C276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24F9-3BCA-4A04-9F34-7406EB69E9E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far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TT43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5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>
            <a:hlinkClick r:id="" action="ppaction://hlinkshowjump?jump=nextslide"/>
          </p:cNvPr>
          <p:cNvSpPr/>
          <p:nvPr/>
        </p:nvSpPr>
        <p:spPr>
          <a:xfrm>
            <a:off x="2357280" y="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O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57280" y="450072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TW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357280" y="321480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THRE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38560" y="2571840"/>
            <a:ext cx="4376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OU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357280" y="128592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IV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357280" y="64296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357280" y="51436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57280" y="19288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357280" y="385776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6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905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>
            <a:hlinkClick r:id="" action="ppaction://hlinkshowjump?jump=nextslide"/>
          </p:cNvPr>
          <p:cNvSpPr/>
          <p:nvPr/>
        </p:nvSpPr>
        <p:spPr>
          <a:xfrm>
            <a:off x="0" y="578628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2971800" y="1905120"/>
            <a:ext cx="2477880" cy="4383000"/>
            <a:chOff x="2971800" y="1905120"/>
            <a:chExt cx="2477880" cy="4383000"/>
          </a:xfrm>
        </p:grpSpPr>
        <p:grpSp>
          <p:nvGrpSpPr>
            <p:cNvPr id="160" name="Group 7"/>
            <p:cNvGrpSpPr/>
            <p:nvPr/>
          </p:nvGrpSpPr>
          <p:grpSpPr>
            <a:xfrm>
              <a:off x="2976480" y="1909800"/>
              <a:ext cx="2468520" cy="4373640"/>
              <a:chOff x="2976480" y="1909800"/>
              <a:chExt cx="2468520" cy="4373640"/>
            </a:xfrm>
          </p:grpSpPr>
          <p:sp>
            <p:nvSpPr>
              <p:cNvPr id="161" name="Rectangle 4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pt-BR" sz="233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pt-BR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Rectangle 6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3" name="Rectangle 8"/>
            <p:cNvSpPr/>
            <p:nvPr/>
          </p:nvSpPr>
          <p:spPr>
            <a:xfrm>
              <a:off x="2971800" y="1905120"/>
              <a:ext cx="2477880" cy="438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4" name="Rectangle 12"/>
          <p:cNvSpPr/>
          <p:nvPr/>
        </p:nvSpPr>
        <p:spPr>
          <a:xfrm>
            <a:off x="0" y="6248520"/>
            <a:ext cx="914400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756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Picture 18" descr="bbw-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2971800" y="1905120"/>
            <a:ext cx="2477880" cy="4383000"/>
            <a:chOff x="2971800" y="1905120"/>
            <a:chExt cx="2477880" cy="4383000"/>
          </a:xfrm>
        </p:grpSpPr>
        <p:grpSp>
          <p:nvGrpSpPr>
            <p:cNvPr id="169" name="Group 4"/>
            <p:cNvGrpSpPr/>
            <p:nvPr/>
          </p:nvGrpSpPr>
          <p:grpSpPr>
            <a:xfrm>
              <a:off x="2976480" y="1909800"/>
              <a:ext cx="2468520" cy="4373640"/>
              <a:chOff x="2976480" y="1909800"/>
              <a:chExt cx="2468520" cy="4373640"/>
            </a:xfrm>
          </p:grpSpPr>
          <p:sp>
            <p:nvSpPr>
              <p:cNvPr id="170" name="Rectangle 5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pt-BR" sz="233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pt-BR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Rectangle 6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2" name="Rectangle 7"/>
            <p:cNvSpPr/>
            <p:nvPr/>
          </p:nvSpPr>
          <p:spPr>
            <a:xfrm>
              <a:off x="2971800" y="1905120"/>
              <a:ext cx="2477880" cy="438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3" name="Rectangle 8"/>
          <p:cNvSpPr/>
          <p:nvPr/>
        </p:nvSpPr>
        <p:spPr>
          <a:xfrm>
            <a:off x="0" y="6248520"/>
            <a:ext cx="914400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756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5" name="Picture 10" descr="bbw-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4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>
            <a:hlinkClick r:id="" action="ppaction://hlinkshowjump?jump=nextslide"/>
          </p:cNvPr>
          <p:cNvSpPr/>
          <p:nvPr/>
        </p:nvSpPr>
        <p:spPr>
          <a:xfrm>
            <a:off x="2286000" y="450072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TW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57280" y="321480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THRE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71800" y="2571840"/>
            <a:ext cx="4857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OU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86000" y="128592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IV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357280" y="64296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357280" y="5143680"/>
            <a:ext cx="4429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14720" y="1928880"/>
            <a:ext cx="45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286000" y="385776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357280" y="5749920"/>
            <a:ext cx="43578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3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>
            <a:hlinkClick r:id="" action="ppaction://hlinkshowjump?jump=nextslide"/>
          </p:cNvPr>
          <p:cNvSpPr/>
          <p:nvPr/>
        </p:nvSpPr>
        <p:spPr>
          <a:xfrm>
            <a:off x="2357280" y="30718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THRE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57280" y="250020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OU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0" y="128592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IV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286000" y="64296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286000" y="5143680"/>
            <a:ext cx="428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357280" y="1928880"/>
            <a:ext cx="42148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357280" y="364320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2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>
            <a:hlinkClick r:id="" action="ppaction://hlinkshowjump?jump=nextslide"/>
          </p:cNvPr>
          <p:cNvSpPr/>
          <p:nvPr/>
        </p:nvSpPr>
        <p:spPr>
          <a:xfrm>
            <a:off x="2357280" y="250020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OU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357280" y="128592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IV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286000" y="64296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357280" y="51436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357280" y="185724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357280" y="371484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1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>
            <a:hlinkClick r:id="" action="ppaction://hlinkshowjump?jump=nextslide"/>
          </p:cNvPr>
          <p:cNvSpPr/>
          <p:nvPr/>
        </p:nvSpPr>
        <p:spPr>
          <a:xfrm>
            <a:off x="2357280" y="12142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FIV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357280" y="64296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357280" y="5143680"/>
            <a:ext cx="4429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357280" y="185724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357280" y="3714840"/>
            <a:ext cx="4286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0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>
            <a:hlinkClick r:id="" action="ppaction://hlinkshowjump?jump=nextslide"/>
          </p:cNvPr>
          <p:cNvSpPr/>
          <p:nvPr/>
        </p:nvSpPr>
        <p:spPr>
          <a:xfrm>
            <a:off x="2286000" y="64296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I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357280" y="51436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357280" y="19288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214720" y="3714840"/>
            <a:ext cx="4357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9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>
            <a:hlinkClick r:id="" action="ppaction://hlinkshowjump?jump=nextslide"/>
          </p:cNvPr>
          <p:cNvSpPr/>
          <p:nvPr/>
        </p:nvSpPr>
        <p:spPr>
          <a:xfrm>
            <a:off x="2286000" y="51436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SEV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357280" y="1928880"/>
            <a:ext cx="4429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286000" y="3714840"/>
            <a:ext cx="44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8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>
            <a:hlinkClick r:id="" action="ppaction://hlinkshowjump?jump=nextslide"/>
          </p:cNvPr>
          <p:cNvSpPr/>
          <p:nvPr/>
        </p:nvSpPr>
        <p:spPr>
          <a:xfrm>
            <a:off x="2357280" y="514368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EIGH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0" y="3714840"/>
            <a:ext cx="914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0" y="5749920"/>
            <a:ext cx="91440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0" y="0"/>
            <a:ext cx="235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7 Imagen" descr="Desnudo.jpg"/>
          <p:cNvPicPr/>
          <p:nvPr/>
        </p:nvPicPr>
        <p:blipFill>
          <a:blip r:embed="rId1"/>
          <a:stretch/>
        </p:blipFill>
        <p:spPr>
          <a:xfrm>
            <a:off x="235728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>
            <a:hlinkClick r:id="" action="ppaction://hlinkshowjump?jump=nextslide"/>
          </p:cNvPr>
          <p:cNvSpPr/>
          <p:nvPr/>
        </p:nvSpPr>
        <p:spPr>
          <a:xfrm>
            <a:off x="2357280" y="3714840"/>
            <a:ext cx="4357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0" y="5749920"/>
            <a:ext cx="871524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ahoma"/>
              </a:rPr>
              <a:t>TEN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2286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LICK THE NUMBERS IN SEQU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37:51Z</dcterms:created>
  <dc:creator>FIANÇA - DPTO. CONTABILIDADE</dc:creator>
  <dc:description/>
  <dc:language>en-US</dc:language>
  <cp:lastModifiedBy>1) Arturo</cp:lastModifiedBy>
  <dcterms:modified xsi:type="dcterms:W3CDTF">2008-01-25T16:41:04Z</dcterms:modified>
  <cp:revision>55</cp:revision>
  <dc:subject/>
  <dc:title>Apresentação do PowerPoint</dc:title>
</cp:coreProperties>
</file>