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WINTER~1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  <p:custShowLst>
    <p:custShow name="Um desafio com Desus" id="0">
      <p:sldLst>
        <p:sld r:id="rId3"/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CB8F-6E1F-4D21-8E82-27040D66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67E2-EDDD-4A12-ADCC-A085F3A4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66E5-9E5C-4C69-B596-FC6852ED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BBE-F93F-454A-AFCE-34959847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A3AA-71C6-46E0-81EC-1499E7F1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E34-FC12-4834-9B72-1AB6556E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8054-E67B-4AB6-B5FA-BD14E55C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AEE0-DF73-44A9-8349-380AE523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6A8-3DBC-4609-8FA1-1E7A0FC0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B09A-9693-4EC6-AE4F-7CAC4A65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0B1D-AE55-4397-B220-B38DE2B5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5D1A-38C0-4AE8-B7B4-39B8E80F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C42B-824E-4AA7-B0F2-1FD316C9C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TER~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7621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cc"/>
                </a:solidFill>
                <a:latin typeface="Times New Roman"/>
                <a:ea typeface="Times New Roman"/>
              </a:rPr>
              <a:t>UM DESAFIO DE DEUS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619760" cy="4919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WINTER~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30492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ffcc66"/>
                </a:solidFill>
                <a:latin typeface="Palatino Linotype"/>
              </a:rPr>
              <a:t>Ele é a fonte de minha existência, é meu Salv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Palatino Linotype"/>
              </a:rPr>
              <a:t>Ele me sustenta a cada dia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2578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Palatino Linotype"/>
              </a:rPr>
              <a:t>Sem Ele eu não sou nada, mas com Ele eu posso todas as coisas através de Jesus Cristo, que me fortale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1120" y="617220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Palatino Linotype"/>
              </a:rPr>
              <a:t>(Filipenses 4: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8000" y="1662120"/>
            <a:ext cx="54104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2860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Isto é apenas um simples teste... Se você ama a Deus e não tem vergonha de todas as coisas maravilhosas que Ele tem feito por você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52578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mande este e-mail para várias pessoas (cristãs ou não), e também retorne para a pessoa que te mandou, para que ela saiba que você aceitou o desafio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7150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662520" y="58672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66"/>
                </a:solidFill>
                <a:latin typeface="Palatino Linotype"/>
              </a:rPr>
              <a:t>M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88636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033800" y="5181480"/>
            <a:ext cx="37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b6b"/>
                </a:solidFill>
                <a:latin typeface="Times New Roman"/>
              </a:rPr>
              <a:t>Tenha um ótimo dia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60948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ão é engraçado como R$ 10,00 parece tanto quando o levamos à igreja e tão pouco quando vamos ao shop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64008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228600"/>
            <a:ext cx="853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ão é engraçado como uma hora é tão longa quando servimos a Deus,mas tão curta quando assistimos a um jogo de futebo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505764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ão é engraçado como não achamos as palavras quando oramos, mas elas estão sempre na ponta da língua para conversarmos com um ami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07996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3049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99"/>
                </a:solidFill>
                <a:latin typeface="Times New Roman"/>
              </a:rPr>
              <a:t>Não é engraçado sentirmos tanto sono ao ler um capítulo da Bíblia mas é  fácil ler 100 páginas do último romance de sucesso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3341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99"/>
                </a:solidFill>
                <a:latin typeface="Times New Roman"/>
              </a:rPr>
              <a:t>Não é engraçado como queremos sempre as cadeiras da frente no teatro ou num show, mas sempre sentamos no fundo da igrej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79132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286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Não é engraçado como precisamos de 2 ou 3 semanas de antecedência para agendar um compromisso na igreja, mas para outros programas estamos sempre disponíve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2578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Palatino Linotype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Não é engraçado como temos dificuldade de aprender a evangelizar e como é fácil aprender e contar a última fofo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10552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47920" y="304920"/>
            <a:ext cx="618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0066"/>
                </a:solidFill>
                <a:latin typeface="Times New Roman"/>
              </a:rPr>
              <a:t>Não engraçado como acreditamos nos jornais, mas questionamos a Bíbli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502920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0066"/>
                </a:solidFill>
                <a:latin typeface="Palatino Linotype"/>
              </a:rPr>
              <a:t>Não é engraçado como todo mundo quer ser salvo desde que não tenha que acreditar, dizer ou fazer nad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2578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90720" y="30492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5050"/>
                </a:solidFill>
                <a:latin typeface="Times New Roman"/>
              </a:rPr>
              <a:t>Não é engraçado como mandamos milhares de piadas pelo e-mail que se  espalham como um incêndi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5638680"/>
            <a:ext cx="609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5050"/>
                </a:solidFill>
                <a:latin typeface="Palatino Linotype"/>
              </a:rPr>
              <a:t>mas quando recebemos mensagens sobre DEUS não reenviamos para ningué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562720" cy="3581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3049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5050"/>
                </a:solidFill>
                <a:latin typeface="Palatino Linotype"/>
              </a:rPr>
              <a:t>NÃO É ENGRAÇADO?</a:t>
            </a:r>
            <a:r>
              <a:rPr b="0" i="1" lang="en-US" sz="2800" spc="-1" strike="noStrike">
                <a:solidFill>
                  <a:srgbClr val="ff5050"/>
                </a:solidFill>
                <a:latin typeface="Palatino Linotype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5050"/>
                </a:solidFill>
                <a:latin typeface="Palatino Linotype"/>
              </a:rPr>
              <a:t>Você está pensan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5050"/>
                </a:solidFill>
                <a:latin typeface="Palatino Linotype"/>
              </a:rPr>
              <a:t>Não é engraçado que quando você for repassar e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541008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5050"/>
                </a:solidFill>
                <a:latin typeface="Palatino Linotype"/>
              </a:rPr>
              <a:t>mensagem você vai excluir um monte de gente que você acha que não acredita em na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5627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90720" y="22860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75ba"/>
                </a:solidFill>
                <a:latin typeface="Palatino Linotype"/>
              </a:rPr>
              <a:t>Não é engraça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75ba"/>
                </a:solidFill>
                <a:latin typeface="Palatino Linotype"/>
              </a:rPr>
              <a:t>Não, não é engraçado, é triste precisamos ter mais intimidade com DEUS!!!!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497520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99"/>
                </a:solidFill>
                <a:latin typeface="Palatino Linotype"/>
              </a:rPr>
              <a:t>Um Desafio Para Você ! Se você não sentir vergonha de fazê-lo, passe esse e-mail para frente... mas, somente se você realmente sentir que sim, Sim, eu amo D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95288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06:01:10Z</dcterms:created>
  <dc:creator>tales</dc:creator>
  <dc:description/>
  <dc:language>en-US</dc:language>
  <cp:lastModifiedBy>tales</cp:lastModifiedBy>
  <dcterms:modified xsi:type="dcterms:W3CDTF">2006-04-06T06:02:04Z</dcterms:modified>
  <cp:revision>1</cp:revision>
  <dc:subject/>
  <dc:title>Slide 1</dc:title>
</cp:coreProperties>
</file>