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Enya(onlytime)_1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1F74C-69D2-448C-8AF6-9C2D97909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09F0D-5C0A-400B-A74E-07C6C8E49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63A92-B2CF-4941-9F01-93BCF408E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CEF4B-1643-4DFF-BF04-5AAADB701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1FBB7-AA89-4318-A026-73A5BA2DD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3D4BA-F915-4609-A117-75DD21962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71EC8-730A-4CD9-8FC9-CA6D36FD0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F8F27-0437-4A61-9CB2-A1EECBF21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9C7D1-F95D-4835-99CB-149AE44F1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3819E-6931-4687-BF44-2E2295650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EE972-09CA-4DDC-B4EB-21C100512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A3DAC-B4E2-416C-B57A-B0ED34747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D7EDD-3C62-4325-A1C5-1F4EE648D5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Enya(onlytime)_1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651040" y="2784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3440160" y="2349360"/>
            <a:ext cx="3889440" cy="179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MULHERES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ELTAS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651040" y="2784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576520" y="404640"/>
            <a:ext cx="6858000" cy="35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99ff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cc99ff"/>
                </a:solidFill>
                <a:latin typeface="Arial"/>
              </a:rPr>
              <a:t>As  mulheres de origem Celta eram criadas tão livremente como os homens.       A elas era dado o direito de escolher seus parceiros e nunca poderiam ser forçadas a uma relação que não queriam. Eram ensinadas a trabalhar para que pudessem garantir seu sustento, bem como eram excelentes  amantes, donas de casas e mã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99ff"/>
                </a:solidFill>
                <a:latin typeface="Arial"/>
              </a:rPr>
              <a:t>A primeira lição era:</a:t>
            </a:r>
            <a:r>
              <a:rPr b="1" i="1" lang="en-US" sz="2400" spc="-1" strike="noStrike">
                <a:solidFill>
                  <a:srgbClr val="cc99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576520" y="4437000"/>
            <a:ext cx="68580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Ama teu homem e o segue, mas somente se ambos representarem, um para o outro, o que a Deusa Mãe ensinou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Amor, companheirismo e amizad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224160" y="620640"/>
            <a:ext cx="54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ccff"/>
                </a:solidFill>
                <a:latin typeface="Arial"/>
              </a:rPr>
              <a:t>Jamais permita que algum homem a escravize: você nasceu livre para amar, e não para ser escrav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081240" y="2421000"/>
            <a:ext cx="561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Jamais permita que o seu coração sofra em nome do amor. Amar é um ato de felicidade, por quê sofre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13240" y="4365720"/>
            <a:ext cx="496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Jamais permita que seus olhos derramem lágrimas por alguém que nunca lhe fará sorrir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152880" y="692280"/>
            <a:ext cx="5545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Jamais permita que o uso de seu próprio corpo seja cerceado. Saiba que o corpo é a moradia do espírito. Por quê mantê-lo aprisionad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728880" y="2708280"/>
            <a:ext cx="4491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ccff"/>
                </a:solidFill>
                <a:latin typeface="Arial"/>
              </a:rPr>
              <a:t>Jamais se permita ficar horas esperando por alguém que nunca virá, mesmo tendo prometido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297240" y="4724280"/>
            <a:ext cx="563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Jamais permita que o seu nome seja pronunciado em vão por um homem cujo nome você sequer sab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3297240" y="333360"/>
            <a:ext cx="535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ccff"/>
                </a:solidFill>
                <a:latin typeface="Arial"/>
              </a:rPr>
              <a:t>Jamais permita que o seu tempo seja desperdiçado com alguém que  nunca terá tempo para você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584520" y="1773360"/>
            <a:ext cx="475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ff"/>
                </a:solidFill>
                <a:latin typeface="Arial"/>
              </a:rPr>
              <a:t>Jamais permita ouvir gritos em seus ouvidos. O Amor é o único que pode falar mais alto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152880" y="3357720"/>
            <a:ext cx="568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Jamais permita que paixões desenfreadas a levem de um mundo real para outro que nunca existiu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368520" y="4869000"/>
            <a:ext cx="518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33"/>
                </a:solidFill>
                <a:latin typeface="Arial"/>
              </a:rPr>
              <a:t>Jamais permita que outros sonhos se misturem aos seus, tornando-os um grande pesadelo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3224160" y="476280"/>
            <a:ext cx="504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ff"/>
                </a:solidFill>
                <a:latin typeface="Arial"/>
              </a:rPr>
              <a:t>Jamais acredite que alguém possa voltar quando nunca esteve present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224160" y="1916280"/>
            <a:ext cx="527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Jamais permita que seu útero gere um filho que nunca terá um pai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52880" y="3141720"/>
            <a:ext cx="540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8de1"/>
                </a:solidFill>
                <a:latin typeface="Arial"/>
              </a:rPr>
              <a:t>Jamais se permita viver na dependência de um homem como se você tivesse nascido inválida</a:t>
            </a:r>
            <a:r>
              <a:rPr b="1" lang="en-US" sz="2400" spc="-1" strike="noStrike">
                <a:solidFill>
                  <a:srgbClr val="ff8de1"/>
                </a:solidFill>
                <a:latin typeface="Arial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52520" y="4797360"/>
            <a:ext cx="5636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33"/>
                </a:solidFill>
                <a:latin typeface="Arial"/>
              </a:rPr>
              <a:t>Jamais se ponha linda e maravilhos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33"/>
                </a:solidFill>
                <a:latin typeface="Arial"/>
              </a:rPr>
              <a:t>a fim de esperar por um home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33"/>
                </a:solidFill>
                <a:latin typeface="Arial"/>
              </a:rPr>
              <a:t>que não tenha olhos para admirá-la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3152880" y="1341360"/>
            <a:ext cx="5433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Jamais permita que seus pé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aminhem em direção a um home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que só vive fugindo de você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65600" y="3284640"/>
            <a:ext cx="5975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33"/>
                </a:solidFill>
                <a:latin typeface="Arial"/>
              </a:rPr>
              <a:t>Jamais permita que a dor, a tristeza, a solidão, o ódio, o ressentimento, o ciúme, o remorso e tudo aquilo que possa tirar o brilho dos seus olhos, a dominem, fazendo arrefecer a força que existe dentro de você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720880" y="1557360"/>
            <a:ext cx="6264360" cy="17398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6600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e1"/>
                </a:solidFill>
                <a:latin typeface="Krone"/>
              </a:rPr>
              <a:t>E, sobretudo, jamais permita que você mesma perca a dignidade de ser..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3944880" y="3716280"/>
            <a:ext cx="3745080" cy="86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3366"/>
                  </a:solidFill>
                  <a:miter/>
                </a:ln>
                <a:solidFill>
                  <a:srgbClr val="ff8de1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MULHER</a:t>
            </a:r>
            <a:endParaRPr b="0" lang="en-US" sz="2400" spc="1" strike="noStrike">
              <a:ln w="19080">
                <a:solidFill>
                  <a:srgbClr val="993366"/>
                </a:solidFill>
                <a:miter/>
              </a:ln>
              <a:solidFill>
                <a:srgbClr val="ff8de1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6T21:21:33Z</dcterms:created>
  <dc:creator>Ivan</dc:creator>
  <dc:description>Baseado na introdução do livro "Mulheres Celtas", de Conan MacRight</dc:description>
  <dc:language>en-US</dc:language>
  <cp:lastModifiedBy>Ivan</cp:lastModifiedBy>
  <dcterms:modified xsi:type="dcterms:W3CDTF">2006-12-16T22:00:42Z</dcterms:modified>
  <cp:revision>3</cp:revision>
  <dc:subject/>
  <dc:title>Slide 1</dc:title>
</cp:coreProperties>
</file>