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774-6E50-405D-A743-2DACD3A3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DB6-C079-4E39-9FF0-280365BB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89C-A08F-48E1-A64D-2F4BDC26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6FF-2FA5-4CEB-BC0A-A2016368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F54-580D-46C5-A270-1414425B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E16-373F-4554-8EB3-8527DEAF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7BC-09BE-423C-9A73-C99982F8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902-4C5A-449B-B120-4B9129C7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C45-E7FC-4A90-8991-0F9E420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299-34FA-4ADE-8338-68EBCCA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D55-D602-41DE-9ED9-30DA0D4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0BE-33A8-4955-B72C-4070EF9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0622-A83C-48CD-8443-4B5192F1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871880" cy="463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6720" y="1628640"/>
            <a:ext cx="361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00"/>
                </a:solidFill>
                <a:latin typeface="Times New Roman"/>
              </a:rPr>
              <a:t>COMO DECIDIR COM QUEM SE CASAR?</a:t>
            </a:r>
            <a:br>
              <a:rPr sz="2400"/>
            </a:b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(Perguntas feitas a crianç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72120" y="1052640"/>
            <a:ext cx="4871880" cy="463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1197000"/>
            <a:ext cx="35290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O QUE TEMOS DE FAZER PARA QUE O CASAMENTO TENHA SUCE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de-AT" sz="2400" spc="-1" strike="noStrike">
                <a:solidFill>
                  <a:srgbClr val="996600"/>
                </a:solidFill>
                <a:latin typeface="Times New Roman"/>
              </a:rPr>
              <a:t>Temos que dizer à mulher que ela é linda, mesmo que pareça um caminh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Ricardo, 10 anos (O número 1, indiscutív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1214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72120" y="1125360"/>
            <a:ext cx="4871880" cy="4635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20640"/>
            <a:ext cx="38163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00"/>
                </a:solidFill>
                <a:latin typeface="Times New Roman"/>
              </a:rPr>
              <a:t>Precisa procurar alguém que gosta das mesmas coisas que você. Se você gosta de futebol, ela também deve gostar quando você assiste futebol e assim ela te traz batata frita e cerv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Alfredo, 10 anos (que tem razão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pt-BR" sz="2400" spc="-1" strike="noStrike">
                <a:solidFill>
                  <a:srgbClr val="333399"/>
                </a:solidFill>
                <a:latin typeface="Times New Roman"/>
              </a:rPr>
              <a:t>Ninguém decide sozinho com quem casar. Deus decide por você, muito tempo antes, e você tem que entender</a:t>
            </a:r>
            <a:r>
              <a:rPr b="0" i="1" lang="de-AT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Cristina, 10 anos (também deve ter razão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1880" cy="463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88000" y="692280"/>
            <a:ext cx="387180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QUAL É A MELHOR IDADE PARA CA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de-AT" sz="2400" spc="-1" strike="noStrike">
                <a:solidFill>
                  <a:srgbClr val="ff0066"/>
                </a:solidFill>
                <a:latin typeface="Times New Roman"/>
              </a:rPr>
              <a:t>A melhor idade é os 23, porque assim você conhece o teu marido pelo menos há 10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Camila, 10 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de-AT" sz="2400" spc="-1" strike="noStrike">
                <a:solidFill>
                  <a:srgbClr val="ff3300"/>
                </a:solidFill>
                <a:latin typeface="Times New Roman"/>
              </a:rPr>
              <a:t>Não existe a melhor idade para casar. Tem de ser muito estúpido pra querer ca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Fernando, 6  anos (com certeza já teve más experiências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72120" y="1125360"/>
            <a:ext cx="4871880" cy="463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1052640"/>
            <a:ext cx="3178080" cy="38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QUE TÊM OS TEUS PAIS EM COMUM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99"/>
                </a:solidFill>
                <a:latin typeface="Times New Roman"/>
              </a:rPr>
              <a:t>Que não querem ter mais fil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Ana, 8 anos (ahahah)</a:t>
            </a: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871880" cy="463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0" y="333360"/>
            <a:ext cx="4272120" cy="60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O QUE FAZEM AS PESSOAS NUM ENCONT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de-AT" sz="2400" spc="-1" strike="noStrike">
                <a:solidFill>
                  <a:srgbClr val="00cc00"/>
                </a:solidFill>
                <a:latin typeface="Times New Roman"/>
              </a:rPr>
              <a:t>Os encontros são para se divertir e as pessoas devem aproveitar para se conhecer melhor. Até os meninos têm coisas interessantes para dizer se prestamos bastante aten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Luísa, 8 anos (Onde foi buscar esta? Da mãe, com certeza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de-AT" sz="2400" spc="-1" strike="noStrike">
                <a:solidFill>
                  <a:srgbClr val="996633"/>
                </a:solidFill>
                <a:latin typeface="Times New Roman"/>
              </a:rPr>
              <a:t>No primeiro encontro, contam-se mentiras interessantes</a:t>
            </a:r>
            <a:br>
              <a:rPr sz="2400"/>
            </a:br>
            <a:r>
              <a:rPr b="0" i="1" lang="de-AT" sz="2400" spc="-1" strike="noStrike">
                <a:solidFill>
                  <a:srgbClr val="996633"/>
                </a:solidFill>
                <a:latin typeface="Times New Roman"/>
              </a:rPr>
              <a:t>para conseguir um segundo enco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Martim, 10 anos. (sem comentá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72120" y="1125360"/>
            <a:ext cx="4871880" cy="4635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92280"/>
            <a:ext cx="406692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O QUE VOCÊ FARIA SE O PRIMEIRO ENCONTRO NÃO DESSE CERTO?</a:t>
            </a:r>
            <a:br>
              <a:rPr sz="2400"/>
            </a:br>
            <a:br>
              <a:rPr sz="2400"/>
            </a:br>
            <a:r>
              <a:rPr b="0" i="1" lang="de-AT" sz="2400" spc="-1" strike="noStrike">
                <a:solidFill>
                  <a:srgbClr val="ff0066"/>
                </a:solidFill>
                <a:latin typeface="Times New Roman"/>
              </a:rPr>
              <a:t>Iria para casa e faria como se estivesse morto. Então telefonaria para os jornais e mandaria publicar que mor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Carlos, 9 anos (eu também faria is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871880" cy="463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1052640"/>
            <a:ext cx="392436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QUANDO SE PODE DAR O PRIMEIRO BEIJ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Times New Roman"/>
              </a:rPr>
              <a:t>Quando o homem é rico</a:t>
            </a:r>
            <a:r>
              <a:rPr b="0" i="1" lang="de-AT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Pamela,  7 anos (loira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2400"/>
            </a:br>
            <a:r>
              <a:rPr b="0" i="1" lang="de-AT" sz="2400" spc="-1" strike="noStrike">
                <a:solidFill>
                  <a:srgbClr val="009900"/>
                </a:solidFill>
                <a:latin typeface="Times New Roman"/>
              </a:rPr>
              <a:t>Quando você beija uma mulher, tem que casar e ter filhos com ela. É assim 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Henrique, 8 anos (lamentavelmente é assim, Henriq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272120" y="1197000"/>
            <a:ext cx="4871880" cy="4635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1125360"/>
            <a:ext cx="388944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É MELHOR SER CASADO OU SOLTEI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de-AT" sz="2400" spc="-1" strike="noStrike">
                <a:solidFill>
                  <a:srgbClr val="ff0066"/>
                </a:solidFill>
                <a:latin typeface="Times New Roman"/>
              </a:rPr>
              <a:t>Para as meninas é melhor ficar solteiras. Mas os meninos precisam de alguém que limp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Times New Roman"/>
              </a:rPr>
              <a:t>Anita, 9 anos (uma das  melhores frases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871880" cy="4635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59280" y="3716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E por fim...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A MELHOR DE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2:26:01Z</dcterms:created>
  <dc:creator> </dc:creator>
  <dc:description> </dc:description>
  <cp:keywords/>
  <dc:language>en-US</dc:language>
  <cp:lastModifiedBy>Anna Maria</cp:lastModifiedBy>
  <dcterms:modified xsi:type="dcterms:W3CDTF">2007-10-24T02:03:04Z</dcterms:modified>
  <cp:revision>9</cp:revision>
  <dc:subject> </dc:subject>
  <dc:title> </dc:title>
</cp:coreProperties>
</file>