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TT43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A011-338E-45A8-9DB5-70371BA7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A025-957C-4347-95D4-EF9E9A61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E376-AF8A-42E1-954C-9647377A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FA17-A42B-4C54-90A7-047C3F6A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7A47-43E3-43A7-AA8D-E8559058D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8C32-46CA-48A7-94EA-011E9A4E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8A22-DF3B-4DA6-A165-8035169E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C5E0-3349-4A2D-B21B-D44938C5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DEC0-8EBA-43B2-9B48-87AA48B2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BD1B-EC17-4DE2-8372-398CB4CF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05B8-393A-49D9-A15F-0426A628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F499-604F-4C47-8757-95BEF4D1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1CA1-8511-4609-9F01-65F70CB3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E5A4-F5E3-4DBE-9A43-5215A526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F041-C951-42BB-86F2-E857C206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76F3-9890-4A85-8EB7-5C36BF68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5075-69AE-4053-8C84-B7528076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CAE0-E115-4349-BF31-CC4D9AD9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7579-83A3-40CD-BDB0-79A08EEE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3054-B76D-465A-A6B0-20B5D245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B7C8-AB27-4E48-872C-D14474D5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8E9F-1688-4E23-A225-9A174E69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F100-4BD3-4842-B6DC-DA242E50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3762-CF8D-41CB-8E23-1F3C21D8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70D5-D27F-4C0D-888A-E622F1656E6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6D7F-A690-435B-A489-08D1D505EA8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TT431.wav"/><Relationship Id="rId2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89080" y="476280"/>
            <a:ext cx="86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Tudo começou quando a turma de Direito resolveu colocar uma célebre frase em camiseta e ela virou moda no camp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321300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00"/>
                </a:solidFill>
                <a:latin typeface="Arial"/>
              </a:rPr>
              <a:t>"Seu namorado faz direito? Vem cá que eu faço"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47640" y="40464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3440" y="476280"/>
            <a:ext cx="831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m seguida, o pessoal de Medicina largou a seguinte: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285264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pt-BR" sz="4000" spc="-1" strike="noStrike">
                <a:solidFill>
                  <a:srgbClr val="ffff00"/>
                </a:solidFill>
                <a:latin typeface="Arial"/>
              </a:rPr>
              <a:t>"Ele pode até fazer direito, mas ninguém conhece seu corpo melhor que eu."</a:t>
            </a:r>
            <a:r>
              <a:rPr b="0" lang="pt-BR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22160" y="476280"/>
            <a:ext cx="773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 pessoal de Administração não deixou para meno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285264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pt-BR" sz="4000" spc="-1" strike="noStrike">
                <a:solidFill>
                  <a:srgbClr val="ffff00"/>
                </a:solidFill>
                <a:latin typeface="Arial"/>
              </a:rPr>
              <a:t>"Não adianta conhecer o corpo, fazer Direito se não souber Administrar o que tem"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22160" y="476280"/>
            <a:ext cx="773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 pessoal de Administração ficou bem na fita, quando a Turma de Agronomia apareceu com a seguinte fras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2852640"/>
            <a:ext cx="8064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pt-BR" sz="4000" spc="-1" strike="noStrike">
                <a:solidFill>
                  <a:srgbClr val="ffff00"/>
                </a:solidFill>
                <a:latin typeface="Arial"/>
              </a:rPr>
              <a:t>"Uns conhecem bem, outros fazem direito, e alguns sabem administrar o que tem, mas plantar a mandioca como nós ninguém consegue!"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22160" y="476280"/>
            <a:ext cx="77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 pessoal da Publicidade largou esta: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6560" y="2349360"/>
            <a:ext cx="8353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pt-BR" sz="4000" spc="-1" strike="noStrike">
                <a:solidFill>
                  <a:srgbClr val="ffff00"/>
                </a:solidFill>
                <a:latin typeface="Arial"/>
              </a:rPr>
              <a:t>"De que adianta conhecer bem, fazer direito, saber administrar e plantar a mandioca, se depois não puder contar pra todo mundo?"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22160" y="476280"/>
            <a:ext cx="77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turma da Engenharia: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6560" y="2349360"/>
            <a:ext cx="8353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pt-BR" sz="4000" spc="-1" strike="noStrike">
                <a:solidFill>
                  <a:srgbClr val="ffff00"/>
                </a:solidFill>
                <a:latin typeface="Arial"/>
              </a:rPr>
              <a:t>"De que adianta conhecer bem, fazer direito, saber administrar, plantar a mandioca, e poder contar pra todo mundo, se não tiver energia e potência para fazer várias vezes?"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22160" y="476280"/>
            <a:ext cx="77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frase campeã ERA a da Economia :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1773360"/>
            <a:ext cx="8353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pt-BR" sz="4000" spc="-1" strike="noStrike">
                <a:solidFill>
                  <a:srgbClr val="ffff00"/>
                </a:solidFill>
                <a:latin typeface="Arial"/>
              </a:rPr>
              <a:t>"De que adianta conhecer bem, fazer direito, saber administrar, plantar a mandioca, poder contar pra todo mundo, ter energia e potência para fazer varias vezes, se mulher gosta mesmo é de dinheiro?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22160" y="476280"/>
            <a:ext cx="773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NOVA FRASE DAS MENINAS DO CURSO DE NUTRIÇÃO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77336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pt-BR" sz="4000" spc="-1" strike="noStrike">
                <a:solidFill>
                  <a:srgbClr val="ffff00"/>
                </a:solidFill>
                <a:latin typeface="Arial"/>
              </a:rPr>
              <a:t>"De que adianta conhecer bem, fazer direito, saber administrar, plantar a mandioca, poder contar pra todo mundo, ter energia e potência para fazer várias vezes e ter dinheiro... se no final das contas a gente sempre precisa ensinar a comer! 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  <p:sndAc>
      <p:stSnd>
        <p:snd r:embed="rId1" name="ATT431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6T20:30:36Z</dcterms:created>
  <dc:creator>Roberto Alencar</dc:creator>
  <dc:description/>
  <dc:language>en-US</dc:language>
  <cp:lastModifiedBy>Roberto Alencar</cp:lastModifiedBy>
  <dcterms:modified xsi:type="dcterms:W3CDTF">2004-07-06T21:41:12Z</dcterms:modified>
  <cp:revision>5</cp:revision>
  <dc:subject/>
  <dc:title>Slide 1</dc:title>
</cp:coreProperties>
</file>