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(WAVE)Divano-Enya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999-63BD-4690-9F3E-5AAC3F94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6FF-04FD-4691-A7C2-B4B9D0A3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0F6-AFC6-41D7-8163-DD15485B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2AA-483A-4BC6-9CE2-A5BE4A43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5F8-FEDC-491B-B780-82CD1C9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422-0AB5-4C79-AABE-19A8D917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DAB-7EB3-4823-B5C4-CD8BABBE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65F-49FC-44A2-AC77-E55DB076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A26-1632-4902-95A1-79CDC7E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C93-4CE9-452F-92F5-FB9B6E5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56A-7ED5-4E24-A6B5-3B364E6D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91E-25D1-42B4-8D34-BDB46CD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CFD5-311E-4295-9AEA-C8DE53045B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(WAVE)Divano-Eny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2133720"/>
            <a:ext cx="830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0000"/>
                </a:solidFill>
                <a:latin typeface="Impact"/>
                <a:ea typeface="Times New Roman"/>
              </a:rPr>
              <a:t>DIREITOS HUMANO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0000"/>
                </a:solidFill>
                <a:latin typeface="Impact"/>
                <a:ea typeface="Times New Roman"/>
              </a:rPr>
              <a:t>JULGUE VOCÊ!</a:t>
            </a:r>
            <a:r>
              <a:rPr b="1" lang="pt-BR" sz="80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(WAVE)Divano-Eny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2286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SE VOCÊ ACHA QUE DEVE CONTINUAR PRESTIGIANDO ESSES INTELECTUAIS POLITICAMENTE CORRETOS  ENQUA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O POVO TEM QUE SE TRANCAR EM CASA PARA FUGIR DESSES MARGINAI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DELETE ESSA MENSAGEM</a:t>
            </a:r>
            <a:r>
              <a:rPr b="0" lang="pt-BR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454176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  <a:ea typeface="Times New Roman"/>
              </a:rPr>
              <a:t>MAS SE VOCÊ ACHA QUE ESTÁ NA HO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  <a:ea typeface="Times New Roman"/>
              </a:rPr>
              <a:t>DE MUDARMOS A NOSSA REALIDAD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  <a:ea typeface="Times New Roman"/>
              </a:rPr>
              <a:t>REPASSE PARA SEUS AMIGOS.</a:t>
            </a:r>
            <a:br>
              <a:rPr sz="1200"/>
            </a:b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51520" y="2761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ff0000"/>
                </a:solidFill>
                <a:latin typeface="Impact"/>
              </a:rPr>
              <a:t>199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905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ção =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opa de choque invade Carandirú para conter rebelião.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280" y="3048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sultado =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11 marginais mortos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3657600"/>
            <a:ext cx="899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ação =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Comissão de direitos humanos liderada por </a:t>
            </a:r>
            <a:r>
              <a:rPr b="1" lang="pt-BR" sz="3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Eduardo Suplicy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licita urgente punição do </a:t>
            </a:r>
            <a:r>
              <a:rPr b="1" lang="pt-BR" sz="3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cel. Ubiratan,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z visitas ao presídio e às famílias dos presos, manda rezar missa pelos presos, etc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47440" y="304920"/>
            <a:ext cx="77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00"/>
                </a:solidFill>
                <a:latin typeface="Impact"/>
              </a:rPr>
              <a:t>Outubro / Novembro 20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7160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ção =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rginais do PCC metralham bases da PM porque querem banho de sol, protetor solar, anti-séptico bucal, encontros íntimos, etc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297180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sultado =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iversos mortos e feridos, entre PM e Ci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3657600"/>
            <a:ext cx="929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ação =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Comissão de direitos humanos :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olicita urgente punição aos comandantes do PCC,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z visitas aos postos baleados,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z visita às famílias dos policiais mortos e feridos,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nda rezar missa pelos mortos, etc,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u seja, eles não fizeram </a:t>
            </a: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ADA</a:t>
            </a: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752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Á QUE SOMENTE OS CRIMINOSOS TÊM DIREITOS HUMANOS?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280" y="53352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Parlamentar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Eduardo Supli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Marcos Roli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Nelson Pelegri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iz Eduardo Greenhalg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Renato Simõ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Orlando Fantazi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cila Piza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Ítalo Cardoso.</a:t>
            </a:r>
            <a:br>
              <a:rPr sz="2400"/>
            </a:b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05320" y="91440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Art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Sérgio Mamber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Letícia Sabatel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Paulo Bet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Ester Gó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Chico Cé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Mano Brow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Ângelo Antonio.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172200" y="914400"/>
            <a:ext cx="304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rnal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Caco Barcelos (Glob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Gilberto Dimenstein (Folha SP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sé  Arb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Marina Ama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(Caros Amigos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172200" y="41911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Religios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Paulo Evaristo Ar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Cláudio Hummes, Frei Bet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Pe.Júlio Lancelloti, Frei João Xerri</a:t>
            </a:r>
            <a:r>
              <a:rPr b="0" lang="pt-BR" sz="1200" spc="-1" strike="noStrike">
                <a:solidFill>
                  <a:srgbClr val="00ffff"/>
                </a:solidFill>
                <a:latin typeface="Impact"/>
                <a:ea typeface="Times New Roman"/>
              </a:rPr>
              <a:t>.</a:t>
            </a:r>
            <a:r>
              <a:rPr b="0" lang="pt-BR" sz="1400" spc="-1" strike="noStrike">
                <a:solidFill>
                  <a:srgbClr val="00ffff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52280" y="500076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Administração Pública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Helio Bicu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Benedito Maria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Elói Pietá.</a:t>
            </a:r>
            <a:r>
              <a:rPr b="0" lang="pt-BR" sz="2400" spc="-1" strike="noStrike">
                <a:solidFill>
                  <a:srgbClr val="808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-205200" y="136440"/>
            <a:ext cx="97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Impact"/>
              </a:rPr>
              <a:t>Essa foi a comissão formada na épo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  <a:ea typeface="Times New Roman"/>
              </a:rPr>
              <a:t>O QUE O PESSOAL DOS DIREITOS HUMANO  NÃO COMENTAM.  POLICIAL EXECUTADO PELO PCC, FACÇÃO CRIMINOSA EM SÃO PA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m 3" descr="PM MORTO 2.jpg"/>
          <p:cNvPicPr/>
          <p:nvPr/>
        </p:nvPicPr>
        <p:blipFill>
          <a:blip r:embed="rId1"/>
          <a:stretch/>
        </p:blipFill>
        <p:spPr>
          <a:xfrm>
            <a:off x="928800" y="1571760"/>
            <a:ext cx="7026120" cy="528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NEM SE SENSIBILIZARAM, NEM COMPARECE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m 5" descr="PM MORTO.jpg"/>
          <p:cNvPicPr/>
          <p:nvPr/>
        </p:nvPicPr>
        <p:blipFill>
          <a:blip r:embed="rId1"/>
          <a:stretch/>
        </p:blipFill>
        <p:spPr>
          <a:xfrm>
            <a:off x="584280" y="888840"/>
            <a:ext cx="7975440" cy="596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3352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Parlamentar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Eduardo Supli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Marcos Roli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Nelson Pelegri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iz Eduardo Greenhalg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Renato Simõ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Orlando Fantazi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cila Piza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Ítalo Cardoso.</a:t>
            </a:r>
            <a:br>
              <a:rPr sz="2400"/>
            </a:b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05320" y="91440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Art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Sérgio Mamber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Letícia Sabatel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Paulo Bet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Ester Gó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Chico Cé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Mano Brow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Ângelo Antonio.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172200" y="914400"/>
            <a:ext cx="304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rnal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Caco Barcelos (Glob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Gilberto Dimenstein (Folha SP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sé  Arb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Marina Ama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(Caros Amigos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41911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Religios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Paulo Evaristo Ar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Cláudio Hummes, Frei Bet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Pe.Júlio Lancelloti, Frei João Xerri</a:t>
            </a:r>
            <a:r>
              <a:rPr b="0" lang="pt-BR" sz="1200" spc="-1" strike="noStrike">
                <a:solidFill>
                  <a:srgbClr val="00ffff"/>
                </a:solidFill>
                <a:latin typeface="Impact"/>
                <a:ea typeface="Times New Roman"/>
              </a:rPr>
              <a:t>.</a:t>
            </a:r>
            <a:r>
              <a:rPr b="0" lang="pt-BR" sz="1400" spc="-1" strike="noStrike">
                <a:solidFill>
                  <a:srgbClr val="00ffff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52280" y="500076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Administração Pública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Helio Bicu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Benedito Maria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Elói Pietá.</a:t>
            </a:r>
            <a:r>
              <a:rPr b="0" lang="pt-BR" sz="2400" spc="-1" strike="noStrike">
                <a:solidFill>
                  <a:srgbClr val="808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3040" y="-71280"/>
            <a:ext cx="894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pois da morte dos policiais em SP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dos esses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CALARA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não fizeram NAD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28600"/>
            <a:ext cx="9144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QUEM LHE PROTEGE É O POLICIAL, NÃO OS DIREITOS HUMAN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Quando o Policial está desprotegido e acuado, sem apoio ao exercício da profissão, OS MARGINAIS dominam a sociedade.  Policial fragilizado, sociedade desprotegida, você, cidadã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0:32:38Z</dcterms:created>
  <dc:creator>servidor</dc:creator>
  <dc:description/>
  <dc:language>en-US</dc:language>
  <cp:lastModifiedBy>servidor</cp:lastModifiedBy>
  <dcterms:modified xsi:type="dcterms:W3CDTF">2009-05-31T00:36:49Z</dcterms:modified>
  <cp:revision>1</cp:revision>
  <dc:subject/>
  <dc:title>Slide 1</dc:title>
</cp:coreProperties>
</file>