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AD5-82A5-4A85-83BA-8099A8D8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119-2A3F-4F05-B162-85CCD67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C22-2890-491B-9B27-C6CD4710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C09-E682-439B-B073-B3E084AA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992-1FA6-4404-95DA-5D19978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D37-29D1-4B96-9E3C-AC013CF2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F58-F7DB-4853-A85C-B5261AB8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3E9-C2A6-457B-9189-BDB90F3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6EE-EAA5-470D-92EE-775F800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B28-EADB-4EFF-A5F2-0E30A1C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727-A43A-462D-9106-52A32561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A6D-0116-4DFB-95DB-8D8609C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6E37-22E2-4C65-BDB3-CE1D9CFF2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62064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óstata e outros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oblemas Masculinos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5084640"/>
            <a:ext cx="4465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eito com carinho para meus amigos</a:t>
            </a:r>
            <a:endParaRPr b="0" lang="en-US" sz="1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</a:t>
            </a:r>
            <a:r>
              <a:rPr b="0" lang="en-US" sz="1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itepinheiro@terra.com.br</a:t>
            </a:r>
            <a:endParaRPr b="0" lang="en-US" sz="1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7368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41320" y="0"/>
            <a:ext cx="566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450720"/>
            <a:ext cx="8424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559640" cy="466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0" y="5734080"/>
            <a:ext cx="4392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itepinheiro@terra.com.br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21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55308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12144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23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696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4114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3:27:25Z</dcterms:created>
  <dc:creator>maitepinheiro@terra.com.br</dc:creator>
  <dc:description>RESPEITE O TRABALHO DOS OUTROS!             CRIE E NÃO COPIE!!!                                            OBRIGADA </dc:description>
  <dc:language>en-US</dc:language>
  <cp:lastModifiedBy>XXX</cp:lastModifiedBy>
  <dcterms:modified xsi:type="dcterms:W3CDTF">2006-08-31T00:28:54Z</dcterms:modified>
  <cp:revision>3</cp:revision>
  <dc:subject>Exames de Próstata e outros</dc:subject>
  <dc:title>Problemas Masculinos</dc:title>
</cp:coreProperties>
</file>