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6.jpeg" ContentType="image/jpeg"/>
  <Override PartName="/ppt/media/explode.wav" ContentType="audio/x-wav"/>
  <Override PartName="/ppt/media/image7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8.gif" ContentType="image/gif"/>
  <Override PartName="/ppt/media/image13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Bal%20du%20samedi%20soir%20(1m%2038s)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3665-F1B9-4C05-A26D-63001AFF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D322-916A-43C8-BBA4-8C74D6BC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2DF4-08DB-43AF-9C5D-56E74619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9604-E80E-4366-8558-F8DE9406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CDF8-FB3E-4721-811F-AE5093C5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26BE-2386-4AE6-938A-B7FA6FBC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4DF7-21F7-4BE9-8C1E-07E78F2B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6B32-BD5A-4685-BFC2-1622E77F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8108-0EDD-4963-8588-F3D82F5E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805B-71E1-4CCF-90CE-20C52F68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1BA4-CEF8-4DE9-A593-75EF8F2C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1551-F1B0-4789-89A1-303C2CDB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CA80-2BE7-41A6-A1DC-348C0971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4BA5-C2F9-4345-A846-056BC717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D68A-94E8-4B61-BD5B-226ED665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E918-CD7D-4193-A511-CAC71CAE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05E8-D2EF-49F9-B5AA-C1EA14CD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84B1-6D44-4CE9-B669-E82E1F62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6C14-9C53-40F5-B153-D547CC38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4BD2-9B9B-4C4B-93C1-67343704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B072-F466-4345-A2CA-7129F5AD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C93A-EAC2-4E08-903F-7426E243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DA6D-7BDB-4BCF-A757-F5E2914A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F484-800C-48B4-BD7B-7D6B1D73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BC56-05B1-4DE1-A255-BE989CA79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D610-AD45-45C2-966D-8148CC1D4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audio" Target="../media/Bal%20du%20samedi%20soir%20(1m%2038s).wav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835280" y="907920"/>
            <a:ext cx="568944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כל מדינה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 Black"/>
              </a:rPr>
              <a:t>והשמוק שמייצג אותה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3635280" y="2133720"/>
            <a:ext cx="1873440" cy="2305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6931080" y="4869000"/>
            <a:ext cx="744480" cy="100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9" name="Bal%20du%20samedi%20soir%20(1m%2038s)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rcRect l="0" t="9052" r="0" b="20605"/>
          <a:stretch/>
        </p:blipFill>
        <p:spPr>
          <a:xfrm>
            <a:off x="2325600" y="1125360"/>
            <a:ext cx="4694400" cy="4751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6912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Arial"/>
              </a:rPr>
              <a:t>Ja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56000" y="2060640"/>
            <a:ext cx="3960720" cy="3876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3905280" cy="3960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705400" y="1147680"/>
            <a:ext cx="33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Arial"/>
              </a:rPr>
              <a:t>Estados U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Arial"/>
              </a:rPr>
              <a:t>Antárt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56000" y="1700280"/>
            <a:ext cx="4176720" cy="4084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1280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Comic Sans MS"/>
              </a:rPr>
              <a:t>Bra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760840" y="1844640"/>
            <a:ext cx="3601800" cy="3894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451640" y="5661000"/>
            <a:ext cx="43812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187280" y="5589720"/>
            <a:ext cx="43848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7451640" y="907920"/>
            <a:ext cx="43812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1187280" y="907920"/>
            <a:ext cx="43848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7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0" t="7473" r="0" b="17904"/>
          <a:stretch/>
        </p:blipFill>
        <p:spPr>
          <a:xfrm>
            <a:off x="2340000" y="1052640"/>
            <a:ext cx="4896000" cy="488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rcRect l="0" t="6143" r="0" b="19984"/>
          <a:stretch/>
        </p:blipFill>
        <p:spPr>
          <a:xfrm>
            <a:off x="2206800" y="1125360"/>
            <a:ext cx="4813200" cy="4824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rcRect l="0" t="14059" r="0" b="10953"/>
          <a:stretch/>
        </p:blipFill>
        <p:spPr>
          <a:xfrm>
            <a:off x="2340000" y="1125360"/>
            <a:ext cx="4675320" cy="4824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rcRect l="0" t="10919" r="0" b="21908"/>
          <a:stretch/>
        </p:blipFill>
        <p:spPr>
          <a:xfrm>
            <a:off x="1908000" y="1125360"/>
            <a:ext cx="5400720" cy="4761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rcRect l="0" t="13238" r="0" b="14307"/>
          <a:stretch/>
        </p:blipFill>
        <p:spPr>
          <a:xfrm>
            <a:off x="2347920" y="1052640"/>
            <a:ext cx="465300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0" t="9054" r="0" b="19564"/>
          <a:stretch/>
        </p:blipFill>
        <p:spPr>
          <a:xfrm>
            <a:off x="2411280" y="1125360"/>
            <a:ext cx="4354560" cy="4751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rcRect l="0" t="13243" r="0" b="17455"/>
          <a:stretch/>
        </p:blipFill>
        <p:spPr>
          <a:xfrm>
            <a:off x="2050920" y="1225440"/>
            <a:ext cx="5113440" cy="4564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rcRect l="0" t="13243" r="0" b="21645"/>
          <a:stretch/>
        </p:blipFill>
        <p:spPr>
          <a:xfrm>
            <a:off x="1692360" y="1147680"/>
            <a:ext cx="5759280" cy="4586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2T19:53:30Z</dcterms:created>
  <dc:creator>Noa</dc:creator>
  <dc:description/>
  <dc:language>en-US</dc:language>
  <cp:lastModifiedBy>Usuário</cp:lastModifiedBy>
  <dcterms:modified xsi:type="dcterms:W3CDTF">2007-05-17T01:25:20Z</dcterms:modified>
  <cp:revision>10</cp:revision>
  <dc:subject/>
  <dc:title>שקופית 1</dc:title>
</cp:coreProperties>
</file>