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1lstkiss52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638-472C-4F89-B154-134AD3D5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1F9-6D80-4AC3-BC1E-5D20F09D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AA1-8DB8-4454-A11C-61DCDDC1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771-4D8B-411B-8809-5E32D1F1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EB99-B2E4-4616-AC97-C3AD1B29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3A2-8799-458F-8980-0504823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249-C139-4606-AA4A-D057FA59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22A-874E-49E1-B153-5046B42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9782-9D5D-4301-9476-F0B60C99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FB5-4664-4D79-88F8-72AF54E0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0D0D-7B3D-42D3-A93E-E66CED7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974-9A05-4F6E-9975-E763DEB7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247A-4057-49CE-AE6E-065FACA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444-0301-4B9E-A0CB-C47D0A2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F91-36A7-4E33-94D7-93D59217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0BB1-865D-469E-A9BB-9A1DBC4F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C02B-B0B3-4459-9376-84B39B4B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B2B-D923-4DFB-892B-3EEF180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911-8EB4-4E71-975F-C7BE482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C41-D862-4E71-989B-EDD92A3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DCA-8F14-4911-9CD1-7785C55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CF9-4B8C-4B59-9CEF-AAB123D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689-9670-44BE-A348-919FB03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D6B-A316-457C-93E4-4954946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2ADF-39BC-42EB-8E01-5330A2069DB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8E9A-BC9E-4C56-9C0A-C873A07760F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lstkiss5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76360" y="692280"/>
            <a:ext cx="61722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0800" spc="-1" strike="noStrike">
                <a:solidFill>
                  <a:srgbClr val="6699ff"/>
                </a:solidFill>
                <a:latin typeface="Chiller"/>
              </a:rPr>
              <a:t>SEGREDOS </a:t>
            </a:r>
            <a:br>
              <a:rPr sz="10800"/>
            </a:br>
            <a:r>
              <a:rPr b="1" lang="es-CR" sz="10800" spc="-1" strike="noStrike">
                <a:solidFill>
                  <a:srgbClr val="9933ff"/>
                </a:solidFill>
                <a:latin typeface="Chiller"/>
              </a:rPr>
              <a:t>para uma</a:t>
            </a:r>
            <a:r>
              <a:rPr b="1" lang="es-CR" sz="108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10800"/>
            </a:br>
            <a:r>
              <a:rPr b="1" lang="es-CR" sz="10800" spc="-1" strike="noStrike">
                <a:solidFill>
                  <a:srgbClr val="ff0000"/>
                </a:solidFill>
                <a:latin typeface="Chiller"/>
              </a:rPr>
              <a:t>BOA </a:t>
            </a:r>
            <a:r>
              <a:rPr b="1" lang="es-CR" sz="10800" spc="-1" strike="noStrike">
                <a:solidFill>
                  <a:srgbClr val="669900"/>
                </a:solidFill>
                <a:latin typeface="Chiller"/>
              </a:rPr>
              <a:t>VIDA</a:t>
            </a:r>
            <a:endParaRPr b="0" lang="en-US" sz="10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6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Chiller"/>
              </a:rPr>
              <a:t>Seja curioso…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733640" cy="330804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3581640" cy="510552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716360" y="1989000"/>
            <a:ext cx="359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Chiller"/>
              </a:rPr>
              <a:t>Não ligue para o seu penteado!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33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8800" spc="-1" strike="noStrike">
                <a:solidFill>
                  <a:srgbClr val="ffffff"/>
                </a:solidFill>
                <a:latin typeface="Chiller"/>
              </a:rPr>
              <a:t>Acima de Tudo...</a:t>
            </a:r>
            <a:br>
              <a:rPr sz="3600"/>
            </a:br>
            <a:br>
              <a:rPr sz="3600"/>
            </a:br>
            <a:r>
              <a:rPr b="1" lang="de-AT" sz="12000" spc="-1" strike="noStrike">
                <a:solidFill>
                  <a:srgbClr val="99ff66"/>
                </a:solidFill>
                <a:latin typeface="Chiller"/>
              </a:rPr>
              <a:t>S</a:t>
            </a:r>
            <a:r>
              <a:rPr b="1" lang="de-AT" sz="12000" spc="-1" strike="noStrike">
                <a:solidFill>
                  <a:srgbClr val="00ffff"/>
                </a:solidFill>
                <a:latin typeface="Chiller"/>
              </a:rPr>
              <a:t>O</a:t>
            </a:r>
            <a:r>
              <a:rPr b="1" lang="de-AT" sz="12000" spc="-1" strike="noStrike">
                <a:solidFill>
                  <a:srgbClr val="ff0000"/>
                </a:solidFill>
                <a:latin typeface="Chiller"/>
              </a:rPr>
              <a:t>R</a:t>
            </a:r>
            <a:r>
              <a:rPr b="1" lang="de-AT" sz="12000" spc="-1" strike="noStrike">
                <a:solidFill>
                  <a:srgbClr val="808080"/>
                </a:solidFill>
                <a:latin typeface="Chiller"/>
              </a:rPr>
              <a:t>R</a:t>
            </a:r>
            <a:r>
              <a:rPr b="1" lang="de-AT" sz="12000" spc="-1" strike="noStrike">
                <a:solidFill>
                  <a:srgbClr val="3366ff"/>
                </a:solidFill>
                <a:latin typeface="Chiller"/>
              </a:rPr>
              <a:t>I</a:t>
            </a:r>
            <a:r>
              <a:rPr b="1" lang="de-AT" sz="12000" spc="-1" strike="noStrike">
                <a:solidFill>
                  <a:srgbClr val="ffcc00"/>
                </a:solidFill>
                <a:latin typeface="Chiller"/>
              </a:rPr>
              <a:t>A</a:t>
            </a:r>
            <a:endParaRPr b="0" lang="en-US" sz="1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39880" cy="189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5516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Chiller"/>
              </a:rPr>
              <a:t>Desejo-lhe Uma semana feliz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6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Chiller"/>
              </a:rPr>
              <a:t>RE</a:t>
            </a:r>
            <a:r>
              <a:rPr b="1" lang="pt-BR" sz="4000" spc="-1" strike="noStrike">
                <a:solidFill>
                  <a:srgbClr val="ffcc00"/>
                </a:solidFill>
                <a:latin typeface="Chiller"/>
              </a:rPr>
              <a:t>Formatação: Paiv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Chiller"/>
              </a:rPr>
              <a:t>Ano: 2006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6536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cc00"/>
                </a:solidFill>
                <a:latin typeface="Chiller"/>
              </a:rPr>
              <a:t>paivabsb-df@uol.com.br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2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641840" cy="395928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690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Divirta-se ao ar livre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279760" cy="3960720"/>
          </a:xfrm>
          <a:prstGeom prst="rect">
            <a:avLst/>
          </a:prstGeom>
          <a:ln w="28440">
            <a:solidFill>
              <a:srgbClr val="f8f8f8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792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Evite os vícios ruins…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Escute os bons conselhos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86400" cy="426708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684600" cy="539928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68360" y="-2607120"/>
            <a:ext cx="41860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Mantenha-se sempre em alerta. Talvez o que procuras te encontre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905440" cy="395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-2955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Prepare-se para as surpresas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76840" cy="425736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0" y="-306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Observe bem o terreno que pisas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620120" cy="35640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907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Seja persistente nos seus objetivos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000680" cy="5688000"/>
          </a:xfrm>
          <a:prstGeom prst="rect">
            <a:avLst/>
          </a:prstGeom>
          <a:ln w="38160">
            <a:solidFill>
              <a:srgbClr val="f8f8f8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68360" y="-993960"/>
            <a:ext cx="3970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Não permitas que algumas situaç</a:t>
            </a:r>
            <a:r>
              <a:rPr b="1" lang="es-CR" sz="4400" spc="-1" strike="noStrike">
                <a:solidFill>
                  <a:srgbClr val="ffffff"/>
                </a:solidFill>
                <a:latin typeface="Chiller"/>
              </a:rPr>
              <a:t>õ</a:t>
            </a: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es</a:t>
            </a:r>
            <a:r>
              <a:rPr b="1" lang="es-CR" sz="2400" spc="-1" strike="noStrike">
                <a:solidFill>
                  <a:srgbClr val="ffffff"/>
                </a:solidFill>
                <a:latin typeface="Chiller"/>
              </a:rPr>
              <a:t>  </a:t>
            </a:r>
            <a:r>
              <a:rPr b="1" lang="es-CR" sz="6000" spc="-1" strike="noStrike">
                <a:solidFill>
                  <a:srgbClr val="ffffff"/>
                </a:solidFill>
                <a:latin typeface="Chiller"/>
              </a:rPr>
              <a:t>te deixe confuso…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13:04Z</dcterms:created>
  <dc:creator/>
  <dc:description/>
  <dc:language>en-US</dc:language>
  <cp:lastModifiedBy/>
  <dcterms:modified xsi:type="dcterms:W3CDTF">2006-05-02T18:38:07Z</dcterms:modified>
  <cp:revision>2</cp:revision>
  <dc:subject/>
  <dc:title>Slide 1</dc:title>
</cp:coreProperties>
</file>