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7C3-1B01-492E-891F-B91FAD64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F72-F462-452A-B94D-6DCE11A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4F4-E4DB-4255-938E-47C955BA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93E-1385-4349-8C77-78CB3329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64A-F750-4482-9FCE-691CEB4E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63F-517B-4300-AB62-D554A0F5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EC8-1957-4621-AA6B-839A159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8C9-A1C0-4423-9823-94656912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99B-461A-4E45-B71B-F68A9C5C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016-D134-48C0-88A7-2BEBE73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6D3-EEC0-4492-9C01-F87AF73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C37-D795-4670-B0C6-92BA687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FA9-D569-4C46-BB97-149DA08B0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JU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4680" y="0"/>
            <a:ext cx="4189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AG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59200" y="0"/>
            <a:ext cx="4472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SET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27720" y="0"/>
            <a:ext cx="4641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OUTU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1952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NOV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02200" y="0"/>
            <a:ext cx="4141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0023b"/>
          <p:cNvPicPr/>
          <p:nvPr/>
        </p:nvPicPr>
        <p:blipFill>
          <a:blip r:embed="rId1"/>
          <a:stretch/>
        </p:blipFill>
        <p:spPr>
          <a:xfrm>
            <a:off x="436104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DEZ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3079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00a2"/>
                </a:solidFill>
                <a:latin typeface="Ravie"/>
              </a:rPr>
              <a:t>AGORA, PARA E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JAN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26376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25920" y="-6480"/>
            <a:ext cx="464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FEVER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0719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AR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4401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00a2"/>
                </a:solidFill>
                <a:latin typeface="Ravie"/>
              </a:rPr>
              <a:t>CALENDÁRIOS ERÓ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335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5100a2"/>
                </a:solidFill>
                <a:latin typeface="Ravie"/>
              </a:rPr>
              <a:t>Ele &amp; E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8689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A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1051800">
            <a:off x="5594400" y="692280"/>
            <a:ext cx="227628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 rot="20378400">
            <a:off x="5133600" y="1885680"/>
            <a:ext cx="3311640" cy="331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JU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22680" y="1484280"/>
            <a:ext cx="450072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AG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59280" y="952560"/>
            <a:ext cx="3529080" cy="30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0044200">
            <a:off x="5752800" y="3622320"/>
            <a:ext cx="89064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SET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OUTU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81800" y="1220760"/>
            <a:ext cx="25081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5" descr=""/>
          <p:cNvPicPr/>
          <p:nvPr/>
        </p:nvPicPr>
        <p:blipFill>
          <a:blip r:embed="rId1"/>
          <a:stretch/>
        </p:blipFill>
        <p:spPr>
          <a:xfrm>
            <a:off x="4572000" y="1785960"/>
            <a:ext cx="4214880" cy="3286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NOV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9960" y="365040"/>
            <a:ext cx="404352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248000" cy="2168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3127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00a2"/>
                </a:solidFill>
                <a:latin typeface="Ravie"/>
              </a:rPr>
              <a:t>PRIMEIRO, PARA 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24800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JAN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11640" y="0"/>
            <a:ext cx="4932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FEVER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5008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MAR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324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MA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8956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74fe"/>
            </a:gs>
            <a:gs pos="100000">
              <a:srgbClr val="66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466560" y="1798560"/>
            <a:ext cx="374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Times New Roman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01 02 03 04 05 06 07 08 09 10 11 12 13 14 15 16 17 18 19 20 21 22 23 24 25 26 27 28 29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02240" y="0"/>
            <a:ext cx="4541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1:48:14Z</dcterms:created>
  <dc:creator>Usuario</dc:creator>
  <dc:description/>
  <dc:language>en-US</dc:language>
  <cp:lastModifiedBy>Usuario</cp:lastModifiedBy>
  <dcterms:modified xsi:type="dcterms:W3CDTF">2009-10-14T01:49:47Z</dcterms:modified>
  <cp:revision>1</cp:revision>
  <dc:subject/>
  <dc:title>Slide 1</dc:title>
</cp:coreProperties>
</file>