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3.wmf" ContentType="image/x-wmf"/>
  <Override PartName="/ppt/media/image12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320FA6-5E8D-497A-AF0F-E87D95FE3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008196-2028-4195-99DE-C05B9C268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99FAF4-E27A-4A63-BD42-14B880DEF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BE6C3F-561C-4324-9BF1-FAF7D55A5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0AABFF-F973-4681-801C-A97709651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EDC89E-BD00-499C-AB84-0CF3477AE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0A080F-65CE-42E5-8A70-9A016AFAC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2B9EFB-7BF4-4182-B372-2358CBCD2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843091-C8B4-4238-99AB-CC8C3757F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CD8134-8F98-4E3D-A1FA-F0F53C747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EE4AA-43D4-4EAD-88A4-6EC48D814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78F-E343-4A5C-BE69-A9F35F85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A1C-5567-4262-B00D-21EA5432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A28-E9AA-4DD3-BAED-6F042636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D29-FB4E-4F09-97D3-87713198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F37-4B5C-4B5E-A0D7-D93CFD3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EF8-2084-472C-B984-5AFFFCF0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C48-050B-4D7E-A34E-3731C94A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215-DDA6-48EB-9473-337AFB7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68A-DCC6-45DF-8EA5-2BDA7C9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BB7-03CF-4998-91FC-08A2872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D7C-0F26-4EC7-B029-13E14F9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993-2C13-4FD2-B9B3-B7BF22D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2FB765-EE5B-4CA4-9F46-DB69166A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image" Target="../media/image9.jpeg"/><Relationship Id="rId20" Type="http://schemas.openxmlformats.org/officeDocument/2006/relationships/image" Target="../media/image10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9.jpeg"/><Relationship Id="rId28" Type="http://schemas.openxmlformats.org/officeDocument/2006/relationships/image" Target="../media/image10.jpeg"/><Relationship Id="rId29" Type="http://schemas.openxmlformats.org/officeDocument/2006/relationships/image" Target="../media/image9.jpeg"/><Relationship Id="rId30" Type="http://schemas.openxmlformats.org/officeDocument/2006/relationships/image" Target="../media/image10.jpeg"/><Relationship Id="rId31" Type="http://schemas.openxmlformats.org/officeDocument/2006/relationships/image" Target="../media/image9.jpeg"/><Relationship Id="rId32" Type="http://schemas.openxmlformats.org/officeDocument/2006/relationships/image" Target="../media/image10.jpeg"/><Relationship Id="rId33" Type="http://schemas.openxmlformats.org/officeDocument/2006/relationships/image" Target="../media/image9.jpeg"/><Relationship Id="rId34" Type="http://schemas.openxmlformats.org/officeDocument/2006/relationships/image" Target="../media/image10.jpeg"/><Relationship Id="rId35" Type="http://schemas.openxmlformats.org/officeDocument/2006/relationships/image" Target="../media/image9.jpeg"/><Relationship Id="rId36" Type="http://schemas.openxmlformats.org/officeDocument/2006/relationships/image" Target="../media/image10.jpeg"/><Relationship Id="rId37" Type="http://schemas.openxmlformats.org/officeDocument/2006/relationships/image" Target="../media/image9.jpeg"/><Relationship Id="rId38" Type="http://schemas.openxmlformats.org/officeDocument/2006/relationships/image" Target="../media/image10.jpeg"/><Relationship Id="rId39" Type="http://schemas.openxmlformats.org/officeDocument/2006/relationships/image" Target="../media/image9.jpeg"/><Relationship Id="rId40" Type="http://schemas.openxmlformats.org/officeDocument/2006/relationships/image" Target="../media/image10.jpe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333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OSPITAL DE CLÍNICAS UF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7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iste vacina para a influenza  saz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3640" y="350028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41440" y="1557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S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8200" y="234936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É APLICADA AN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FLUENZA PANDÊ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2997360"/>
            <a:ext cx="4030560" cy="3708360"/>
            <a:chOff x="324000" y="2997360"/>
            <a:chExt cx="4030560" cy="370836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324000" y="2997360"/>
              <a:ext cx="4030560" cy="37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4000" y="2997360"/>
              <a:ext cx="4030560" cy="37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84720" y="2060640"/>
            <a:ext cx="439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 o início de 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sma 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 todo o plane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maneira simultâ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 a capacida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ocar sérias cons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 conseqüências teria uma pandemia de qualquer influenz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84280"/>
            <a:ext cx="79930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 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essoas do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for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se econôm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éscimo e inclusive paradas nos setores de trabalho, escolas, empres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lotação dos serviços de saú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lo grande número de pa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35640" y="4797360"/>
            <a:ext cx="1564560" cy="1870920"/>
            <a:chOff x="5435640" y="4797360"/>
            <a:chExt cx="1564560" cy="1870920"/>
          </a:xfrm>
        </p:grpSpPr>
        <p:grpSp>
          <p:nvGrpSpPr>
            <p:cNvPr id="152" name=""/>
            <p:cNvGrpSpPr/>
            <p:nvPr/>
          </p:nvGrpSpPr>
          <p:grpSpPr>
            <a:xfrm>
              <a:off x="5477040" y="4797360"/>
              <a:ext cx="801720" cy="920880"/>
              <a:chOff x="5477040" y="4797360"/>
              <a:chExt cx="801720" cy="92088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77040" y="4797360"/>
                <a:ext cx="41832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2"/>
              <a:srcRect l="74036" t="4503" r="0" b="-1694"/>
              <a:stretch/>
            </p:blipFill>
            <p:spPr>
              <a:xfrm>
                <a:off x="5866560" y="4811400"/>
                <a:ext cx="41220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6198480" y="4797360"/>
              <a:ext cx="801720" cy="920880"/>
              <a:chOff x="6198480" y="4797360"/>
              <a:chExt cx="801720" cy="920880"/>
            </a:xfrm>
          </p:grpSpPr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98480" y="4797360"/>
                <a:ext cx="41760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4"/>
              <a:srcRect l="74036" t="4503" r="0" b="-1694"/>
              <a:stretch/>
            </p:blipFill>
            <p:spPr>
              <a:xfrm>
                <a:off x="6589080" y="4811400"/>
                <a:ext cx="41112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"/>
            <p:cNvGrpSpPr/>
            <p:nvPr/>
          </p:nvGrpSpPr>
          <p:grpSpPr>
            <a:xfrm>
              <a:off x="5435640" y="5706000"/>
              <a:ext cx="802080" cy="920520"/>
              <a:chOff x="5435640" y="5706000"/>
              <a:chExt cx="802080" cy="920520"/>
            </a:xfrm>
          </p:grpSpPr>
          <p:pic>
            <p:nvPicPr>
              <p:cNvPr id="1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5706000"/>
                <a:ext cx="418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6"/>
              <a:srcRect l="74036" t="4503" r="0" b="-1694"/>
              <a:stretch/>
            </p:blipFill>
            <p:spPr>
              <a:xfrm>
                <a:off x="5825880" y="5719680"/>
                <a:ext cx="41184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"/>
            <p:cNvGrpSpPr/>
            <p:nvPr/>
          </p:nvGrpSpPr>
          <p:grpSpPr>
            <a:xfrm>
              <a:off x="6177600" y="5747400"/>
              <a:ext cx="802080" cy="920880"/>
              <a:chOff x="6177600" y="5747400"/>
              <a:chExt cx="802080" cy="920880"/>
            </a:xfrm>
          </p:grpSpPr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77600" y="5747400"/>
                <a:ext cx="418320" cy="87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8"/>
              <a:srcRect l="74036" t="4503" r="0" b="-1694"/>
              <a:stretch/>
            </p:blipFill>
            <p:spPr>
              <a:xfrm>
                <a:off x="6567480" y="5762880"/>
                <a:ext cx="412200" cy="90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"/>
          <p:cNvGrpSpPr/>
          <p:nvPr/>
        </p:nvGrpSpPr>
        <p:grpSpPr>
          <a:xfrm>
            <a:off x="3708360" y="4797360"/>
            <a:ext cx="1564920" cy="1870920"/>
            <a:chOff x="3708360" y="4797360"/>
            <a:chExt cx="1564920" cy="1870920"/>
          </a:xfrm>
        </p:grpSpPr>
        <p:grpSp>
          <p:nvGrpSpPr>
            <p:cNvPr id="165" name=""/>
            <p:cNvGrpSpPr/>
            <p:nvPr/>
          </p:nvGrpSpPr>
          <p:grpSpPr>
            <a:xfrm>
              <a:off x="3749760" y="4797360"/>
              <a:ext cx="801360" cy="920880"/>
              <a:chOff x="3749760" y="4797360"/>
              <a:chExt cx="801360" cy="9208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9760" y="4797360"/>
                <a:ext cx="41796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10"/>
              <a:srcRect l="74036" t="4503" r="0" b="-1694"/>
              <a:stretch/>
            </p:blipFill>
            <p:spPr>
              <a:xfrm>
                <a:off x="4139640" y="4811400"/>
                <a:ext cx="41148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4471920" y="4797360"/>
              <a:ext cx="801360" cy="920880"/>
              <a:chOff x="4471920" y="4797360"/>
              <a:chExt cx="801360" cy="920880"/>
            </a:xfrm>
          </p:grpSpPr>
          <p:pic>
            <p:nvPicPr>
              <p:cNvPr id="1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471920" y="4797360"/>
                <a:ext cx="41796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2"/>
              <a:srcRect l="74036" t="4503" r="0" b="-1694"/>
              <a:stretch/>
            </p:blipFill>
            <p:spPr>
              <a:xfrm>
                <a:off x="4861440" y="4811400"/>
                <a:ext cx="41184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"/>
            <p:cNvGrpSpPr/>
            <p:nvPr/>
          </p:nvGrpSpPr>
          <p:grpSpPr>
            <a:xfrm>
              <a:off x="3708360" y="5706000"/>
              <a:ext cx="801360" cy="920520"/>
              <a:chOff x="3708360" y="5706000"/>
              <a:chExt cx="801360" cy="92052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5706000"/>
                <a:ext cx="41796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4"/>
              <a:srcRect l="74036" t="4503" r="0" b="-1694"/>
              <a:stretch/>
            </p:blipFill>
            <p:spPr>
              <a:xfrm>
                <a:off x="4098240" y="5719680"/>
                <a:ext cx="41148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4449600" y="5747400"/>
              <a:ext cx="801360" cy="920880"/>
              <a:chOff x="4449600" y="5747400"/>
              <a:chExt cx="801360" cy="92088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49600" y="5747400"/>
                <a:ext cx="417600" cy="87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6"/>
              <a:srcRect l="74036" t="4503" r="0" b="-1694"/>
              <a:stretch/>
            </p:blipFill>
            <p:spPr>
              <a:xfrm>
                <a:off x="4840200" y="5762880"/>
                <a:ext cx="410760" cy="90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7" name=""/>
          <p:cNvGrpSpPr/>
          <p:nvPr/>
        </p:nvGrpSpPr>
        <p:grpSpPr>
          <a:xfrm>
            <a:off x="2050920" y="4797360"/>
            <a:ext cx="1564560" cy="1870920"/>
            <a:chOff x="2050920" y="4797360"/>
            <a:chExt cx="1564560" cy="1870920"/>
          </a:xfrm>
        </p:grpSpPr>
        <p:grpSp>
          <p:nvGrpSpPr>
            <p:cNvPr id="178" name=""/>
            <p:cNvGrpSpPr/>
            <p:nvPr/>
          </p:nvGrpSpPr>
          <p:grpSpPr>
            <a:xfrm>
              <a:off x="2092320" y="4797360"/>
              <a:ext cx="802080" cy="920880"/>
              <a:chOff x="2092320" y="4797360"/>
              <a:chExt cx="802080" cy="92088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92320" y="4797360"/>
                <a:ext cx="41832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18"/>
              <a:srcRect l="74036" t="4503" r="0" b="-1694"/>
              <a:stretch/>
            </p:blipFill>
            <p:spPr>
              <a:xfrm>
                <a:off x="2482560" y="4811400"/>
                <a:ext cx="41184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2813400" y="4797360"/>
              <a:ext cx="802080" cy="920880"/>
              <a:chOff x="2813400" y="4797360"/>
              <a:chExt cx="802080" cy="92088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813400" y="4797360"/>
                <a:ext cx="41760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0"/>
              <a:srcRect l="74036" t="4503" r="0" b="-1694"/>
              <a:stretch/>
            </p:blipFill>
            <p:spPr>
              <a:xfrm>
                <a:off x="3204000" y="4811400"/>
                <a:ext cx="41148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2050920" y="5706000"/>
              <a:ext cx="802080" cy="920520"/>
              <a:chOff x="2050920" y="5706000"/>
              <a:chExt cx="802080" cy="920520"/>
            </a:xfrm>
          </p:grpSpPr>
          <p:pic>
            <p:nvPicPr>
              <p:cNvPr id="18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050920" y="5706000"/>
                <a:ext cx="41868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2"/>
              <a:srcRect l="74036" t="4503" r="0" b="-1694"/>
              <a:stretch/>
            </p:blipFill>
            <p:spPr>
              <a:xfrm>
                <a:off x="2440800" y="5719680"/>
                <a:ext cx="41220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" name=""/>
            <p:cNvGrpSpPr/>
            <p:nvPr/>
          </p:nvGrpSpPr>
          <p:grpSpPr>
            <a:xfrm>
              <a:off x="2792880" y="5747400"/>
              <a:ext cx="802080" cy="920880"/>
              <a:chOff x="2792880" y="5747400"/>
              <a:chExt cx="802080" cy="92088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92880" y="5747400"/>
                <a:ext cx="417600" cy="87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24"/>
              <a:srcRect l="74036" t="4503" r="0" b="-1694"/>
              <a:stretch/>
            </p:blipFill>
            <p:spPr>
              <a:xfrm>
                <a:off x="3183840" y="5762880"/>
                <a:ext cx="411120" cy="90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324000" y="4797360"/>
            <a:ext cx="1564560" cy="1870920"/>
            <a:chOff x="324000" y="4797360"/>
            <a:chExt cx="1564560" cy="1870920"/>
          </a:xfrm>
        </p:grpSpPr>
        <p:grpSp>
          <p:nvGrpSpPr>
            <p:cNvPr id="191" name=""/>
            <p:cNvGrpSpPr/>
            <p:nvPr/>
          </p:nvGrpSpPr>
          <p:grpSpPr>
            <a:xfrm>
              <a:off x="365040" y="4797360"/>
              <a:ext cx="802080" cy="920880"/>
              <a:chOff x="365040" y="4797360"/>
              <a:chExt cx="802080" cy="920880"/>
            </a:xfrm>
          </p:grpSpPr>
          <p:pic>
            <p:nvPicPr>
              <p:cNvPr id="19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5040" y="4797360"/>
                <a:ext cx="41832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26"/>
              <a:srcRect l="74036" t="4503" r="0" b="-1694"/>
              <a:stretch/>
            </p:blipFill>
            <p:spPr>
              <a:xfrm>
                <a:off x="754920" y="4811400"/>
                <a:ext cx="41220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1086480" y="4797360"/>
              <a:ext cx="802080" cy="920880"/>
              <a:chOff x="1086480" y="4797360"/>
              <a:chExt cx="802080" cy="9208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086480" y="4797360"/>
                <a:ext cx="41760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28"/>
              <a:srcRect l="74036" t="4503" r="0" b="-1694"/>
              <a:stretch/>
            </p:blipFill>
            <p:spPr>
              <a:xfrm>
                <a:off x="1477080" y="4811400"/>
                <a:ext cx="41148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7" name=""/>
            <p:cNvGrpSpPr/>
            <p:nvPr/>
          </p:nvGrpSpPr>
          <p:grpSpPr>
            <a:xfrm>
              <a:off x="324000" y="5706000"/>
              <a:ext cx="801720" cy="920520"/>
              <a:chOff x="324000" y="5706000"/>
              <a:chExt cx="801720" cy="920520"/>
            </a:xfrm>
          </p:grpSpPr>
          <p:pic>
            <p:nvPicPr>
              <p:cNvPr id="19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4000" y="5706000"/>
                <a:ext cx="418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30"/>
              <a:srcRect l="74036" t="4503" r="0" b="-1694"/>
              <a:stretch/>
            </p:blipFill>
            <p:spPr>
              <a:xfrm>
                <a:off x="713520" y="5719680"/>
                <a:ext cx="41220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"/>
            <p:cNvGrpSpPr/>
            <p:nvPr/>
          </p:nvGrpSpPr>
          <p:grpSpPr>
            <a:xfrm>
              <a:off x="1065960" y="5747400"/>
              <a:ext cx="802080" cy="920880"/>
              <a:chOff x="1065960" y="5747400"/>
              <a:chExt cx="802080" cy="92088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065960" y="5747400"/>
                <a:ext cx="417600" cy="87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32"/>
              <a:srcRect l="74036" t="4503" r="0" b="-1694"/>
              <a:stretch/>
            </p:blipFill>
            <p:spPr>
              <a:xfrm>
                <a:off x="1456560" y="5762880"/>
                <a:ext cx="411480" cy="90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7020000" y="4724280"/>
            <a:ext cx="1564560" cy="1870920"/>
            <a:chOff x="7020000" y="4724280"/>
            <a:chExt cx="1564560" cy="1870920"/>
          </a:xfrm>
        </p:grpSpPr>
        <p:grpSp>
          <p:nvGrpSpPr>
            <p:cNvPr id="204" name=""/>
            <p:cNvGrpSpPr/>
            <p:nvPr/>
          </p:nvGrpSpPr>
          <p:grpSpPr>
            <a:xfrm>
              <a:off x="7061040" y="4724280"/>
              <a:ext cx="802080" cy="920880"/>
              <a:chOff x="7061040" y="4724280"/>
              <a:chExt cx="802080" cy="9208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061040" y="4724280"/>
                <a:ext cx="41868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34"/>
              <a:srcRect l="74036" t="4503" r="0" b="-1694"/>
              <a:stretch/>
            </p:blipFill>
            <p:spPr>
              <a:xfrm>
                <a:off x="7450920" y="4738320"/>
                <a:ext cx="41220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7782480" y="4724280"/>
              <a:ext cx="802080" cy="920880"/>
              <a:chOff x="7782480" y="4724280"/>
              <a:chExt cx="802080" cy="9208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782480" y="4724280"/>
                <a:ext cx="417960" cy="88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6"/>
              <a:srcRect l="74036" t="4503" r="0" b="-1694"/>
              <a:stretch/>
            </p:blipFill>
            <p:spPr>
              <a:xfrm>
                <a:off x="8173440" y="4738320"/>
                <a:ext cx="41112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7020000" y="5632920"/>
              <a:ext cx="802080" cy="920520"/>
              <a:chOff x="7020000" y="5632920"/>
              <a:chExt cx="802080" cy="9205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020000" y="5632920"/>
                <a:ext cx="418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38"/>
              <a:srcRect l="74036" t="4503" r="0" b="-1694"/>
              <a:stretch/>
            </p:blipFill>
            <p:spPr>
              <a:xfrm>
                <a:off x="7410240" y="5646600"/>
                <a:ext cx="411840" cy="90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"/>
            <p:cNvGrpSpPr/>
            <p:nvPr/>
          </p:nvGrpSpPr>
          <p:grpSpPr>
            <a:xfrm>
              <a:off x="7761960" y="5674320"/>
              <a:ext cx="802080" cy="920880"/>
              <a:chOff x="7761960" y="5674320"/>
              <a:chExt cx="802080" cy="9208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761960" y="5674320"/>
                <a:ext cx="418320" cy="87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40"/>
              <a:srcRect l="74036" t="4503" r="0" b="-1694"/>
              <a:stretch/>
            </p:blipFill>
            <p:spPr>
              <a:xfrm>
                <a:off x="8152200" y="5689800"/>
                <a:ext cx="411840" cy="90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6" name=""/>
          <p:cNvSpPr/>
          <p:nvPr/>
        </p:nvSpPr>
        <p:spPr>
          <a:xfrm>
            <a:off x="324000" y="4581360"/>
            <a:ext cx="84247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661000"/>
            <a:ext cx="633744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Houve pandemias de influenza an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S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2708280"/>
            <a:ext cx="7557840" cy="2792160"/>
            <a:chOff x="826920" y="2708280"/>
            <a:chExt cx="7557840" cy="2792160"/>
          </a:xfrm>
        </p:grpSpPr>
        <p:sp>
          <p:nvSpPr>
            <p:cNvPr id="221" name=""/>
            <p:cNvSpPr/>
            <p:nvPr/>
          </p:nvSpPr>
          <p:spPr>
            <a:xfrm>
              <a:off x="826920" y="2708280"/>
              <a:ext cx="622080" cy="465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9000" y="2708280"/>
              <a:ext cx="1850040" cy="465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99400" y="2708280"/>
              <a:ext cx="2867040" cy="465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66440" y="2708280"/>
              <a:ext cx="2216880" cy="465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or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174120"/>
              <a:ext cx="62208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19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9000" y="3174120"/>
              <a:ext cx="185004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GRIPE Espanh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9400" y="3174120"/>
              <a:ext cx="286704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Vírus GRIPE tipo A (H1N1)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6440" y="3174120"/>
              <a:ext cx="221688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  <a:ea typeface="Times New Roman"/>
                </a:rPr>
                <a:t>50 milhões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6920" y="3949560"/>
              <a:ext cx="6220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9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9000" y="3949560"/>
              <a:ext cx="18500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RIPE Asi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99400" y="3949560"/>
              <a:ext cx="28670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írus da GRIPE tipo A (H2N2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6440" y="3949560"/>
              <a:ext cx="22168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2 milh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6920" y="4723560"/>
              <a:ext cx="62208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9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9000" y="4723560"/>
              <a:ext cx="185004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RIPE de Hong K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99400" y="4723560"/>
              <a:ext cx="286704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Vírus da GRIPE tipo A (H3N2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6440" y="4723560"/>
              <a:ext cx="221688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1 milh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9000" y="2708280"/>
              <a:ext cx="1080" cy="4658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9000" y="3174120"/>
              <a:ext cx="1080" cy="232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99400" y="2708280"/>
              <a:ext cx="1080" cy="4658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99400" y="3174120"/>
              <a:ext cx="1080" cy="232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66440" y="2708280"/>
              <a:ext cx="1440" cy="4658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6440" y="3174120"/>
              <a:ext cx="1440" cy="232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920" y="3174120"/>
              <a:ext cx="7556760" cy="1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6920" y="3949560"/>
              <a:ext cx="7556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6920" y="4723560"/>
              <a:ext cx="7556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920" y="2708280"/>
              <a:ext cx="1440" cy="27907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3680" y="2708280"/>
              <a:ext cx="1080" cy="27907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20" y="2708280"/>
              <a:ext cx="7556760" cy="1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920" y="5499000"/>
              <a:ext cx="7556760" cy="1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36720" y="3913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20760" y="638172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1) Osterholm MT. “Preparing for the next pandemic” N Eng J Med 2005; 352 (18): 1839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940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PE ESPANH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20680"/>
            <a:ext cx="8229600" cy="1251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Por que pode morrer tanta gente pela pandemia de INFLUENZ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916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que nenhum ser humano ainda foi exposto a este ví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há imun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 se transmite facilmente  pela tosse e pelo espi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79640" y="3652920"/>
            <a:ext cx="4822920" cy="3060720"/>
            <a:chOff x="1979640" y="3652920"/>
            <a:chExt cx="4822920" cy="306072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979640" y="3652920"/>
              <a:ext cx="48229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979640" y="3652920"/>
              <a:ext cx="4822920" cy="30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763640" y="3933720"/>
            <a:ext cx="187164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0" y="4005360"/>
            <a:ext cx="28908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724280"/>
            <a:ext cx="28908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4149720"/>
            <a:ext cx="35856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4869000"/>
            <a:ext cx="3603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4653000"/>
            <a:ext cx="43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3860640"/>
            <a:ext cx="35892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PE SU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6560" y="189000"/>
            <a:ext cx="7704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INFLUEN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A (H1N1)</a:t>
            </a: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6412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AUSADA POR UM 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VÍRUS NO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468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guém no mund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em imun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ão se sabe qual vai ser o comportamento 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le pode sofrer mutações  que são imprevisíve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4002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 UMA DOENÇ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PIRATÓRIA AGU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95280" y="3357720"/>
            <a:ext cx="47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FLUENZA</a:t>
            </a:r>
            <a:br>
              <a:rPr sz="32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FRI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748320" cy="4681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20400000">
            <a:off x="5576400" y="1755720"/>
            <a:ext cx="425520" cy="1306440"/>
          </a:xfrm>
          <a:prstGeom prst="downArrow">
            <a:avLst>
              <a:gd name="adj1" fmla="val 26407"/>
              <a:gd name="adj2" fmla="val 7598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INFLUEN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E 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R DE GARG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 ESTAR G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CANSA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R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R NAS ARTIC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30880" y="1341360"/>
            <a:ext cx="36306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4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 rot="20280000">
            <a:off x="324000" y="1916280"/>
            <a:ext cx="8424720" cy="3020040"/>
          </a:xfrm>
          <a:prstGeom prst="rect">
            <a:avLst/>
          </a:prstGeom>
          <a:solidFill>
            <a:srgbClr val="8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INFLUENZ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A (H1 N1)</a:t>
            </a: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91496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NÃO EXISTE VAC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26560" y="3860640"/>
            <a:ext cx="7488360" cy="136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SSA ÚNICA PROTEÇÃO É A PREV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2349360"/>
            <a:ext cx="485640" cy="1192320"/>
          </a:xfrm>
          <a:prstGeom prst="downArrow">
            <a:avLst>
              <a:gd name="adj1" fmla="val 50000"/>
              <a:gd name="adj2" fmla="val 613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059680" cy="1470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ANSMISSÃO DO VÍR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95280" y="278136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4005360"/>
            <a:ext cx="4249800" cy="173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IRATÓ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4508640"/>
            <a:ext cx="3227400" cy="1846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SUPERFÍ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M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7080" y="2060640"/>
            <a:ext cx="431640" cy="2305080"/>
          </a:xfrm>
          <a:prstGeom prst="downArrow">
            <a:avLst>
              <a:gd name="adj1" fmla="val 39222"/>
              <a:gd name="adj2" fmla="val 794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2133720"/>
            <a:ext cx="720720" cy="1582560"/>
          </a:xfrm>
          <a:prstGeom prst="downArrow">
            <a:avLst>
              <a:gd name="adj1" fmla="val 50000"/>
              <a:gd name="adj2" fmla="val 548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03280" y="1725480"/>
            <a:ext cx="6337440" cy="4988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 GERMES SAEM NAS GO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4869000"/>
            <a:ext cx="4392360" cy="16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ODEM SER INAL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LAS OUTRA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24000" y="333360"/>
            <a:ext cx="460836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CUB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a 5 dias ap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to com o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 média 2 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24360" y="3499920"/>
            <a:ext cx="4681440" cy="29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TRANSMISS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 dias 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s sinto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é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0 di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pó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2276640"/>
            <a:ext cx="2448000" cy="158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32000" y="2706840"/>
            <a:ext cx="50328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3141720"/>
            <a:ext cx="503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68360" y="549360"/>
            <a:ext cx="50328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357720"/>
            <a:ext cx="50328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32520" y="78408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 AT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80360" y="3573360"/>
            <a:ext cx="115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í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 Influ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4000" y="189000"/>
            <a:ext cx="8569080" cy="64087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HÁBITO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HIG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HIGIENE DAS MÃ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60800" cy="46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46320" y="189000"/>
            <a:ext cx="4946760" cy="6480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5805360"/>
            <a:ext cx="42494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260280"/>
            <a:ext cx="820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BALHAMOS COM O INVISÍ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640000">
            <a:off x="4141800" y="3282480"/>
            <a:ext cx="122400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37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Álcool 70% glicerinado ou g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92000" y="836280"/>
            <a:ext cx="565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ão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ão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visivelmente  suj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95280" y="4552920"/>
            <a:ext cx="8278560" cy="2042640"/>
            <a:chOff x="395280" y="4552920"/>
            <a:chExt cx="8278560" cy="2042640"/>
          </a:xfrm>
        </p:grpSpPr>
        <p:sp>
          <p:nvSpPr>
            <p:cNvPr id="311" name=""/>
            <p:cNvSpPr/>
            <p:nvPr/>
          </p:nvSpPr>
          <p:spPr>
            <a:xfrm>
              <a:off x="395280" y="5031360"/>
              <a:ext cx="8277120" cy="1562760"/>
            </a:xfrm>
            <a:prstGeom prst="rect">
              <a:avLst/>
            </a:prstGeom>
            <a:solidFill>
              <a:srgbClr val="ffe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não colocar o álcool nas mãos molhada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não secar com papel toalha</a:t>
              </a:r>
              <a:br>
                <a:rPr sz="2400"/>
              </a:b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          SEMPRE FRICCIONAR ATÉ SECAR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5280" y="4552920"/>
              <a:ext cx="8277120" cy="478440"/>
            </a:xfrm>
            <a:prstGeom prst="rect">
              <a:avLst/>
            </a:prstGeom>
            <a:solidFill>
              <a:srgbClr val="e8e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ESMOS MOVIMENTOS DA LAVAGEM DAS MÃ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5280" y="4552920"/>
              <a:ext cx="8277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280" y="6594480"/>
              <a:ext cx="8277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280" y="4552920"/>
              <a:ext cx="1080" cy="20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72400" y="4552920"/>
              <a:ext cx="1440" cy="20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5280" y="5031360"/>
              <a:ext cx="8277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988320" y="1413000"/>
            <a:ext cx="2155680" cy="21556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771640" y="1347840"/>
            <a:ext cx="4176720" cy="3098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812000" y="2637000"/>
            <a:ext cx="358920" cy="71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1970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588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TIQUETA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A TOSSE E DO ESPI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58920" y="1905120"/>
            <a:ext cx="626580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55160"/>
            <a:ext cx="84960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HC UFPR</a:t>
            </a:r>
            <a:br>
              <a:rPr sz="6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ITÊ DE INFLUENZA SU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7 de 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ÇÃO DE ASSIST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ÇO DE EPIDEM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OLOGIA CLÍNICA -  ADULTO E 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ÇO DE CONTROLE DE INFECÇÃO HOSPITA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916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6920" y="4811760"/>
            <a:ext cx="8260920" cy="176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C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É HOSPITAL DE REFER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ESPIRRO OU TO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24000" y="614520"/>
            <a:ext cx="849600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ORI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6272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121440" cy="6408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643640" y="4581360"/>
            <a:ext cx="40698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ÃO USAR 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MÃOS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RIR A BO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NTE A T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297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É OBRIGATÓRIO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 BLOQUEIO DOS G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689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RREIRAS  PAR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TOSSE E ESPI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080" y="2781360"/>
            <a:ext cx="232812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NÇ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360" y="4869000"/>
            <a:ext cx="1989720" cy="1170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A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2565360"/>
            <a:ext cx="241956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IÊ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66920" y="4869000"/>
            <a:ext cx="3144960" cy="1068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DAN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841480" y="2205000"/>
            <a:ext cx="1084320" cy="432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4360" y="2205000"/>
            <a:ext cx="1440" cy="23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2205000"/>
            <a:ext cx="2592360" cy="302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2205000"/>
            <a:ext cx="1871640" cy="50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2133720"/>
            <a:ext cx="21600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ENSINAR AS CRIANÇ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63640" y="1595520"/>
            <a:ext cx="5832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5072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ÁS VEZES CRIANÇAS FAZEM MELHOR QUE OS ADU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6626160" cy="1469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EPOIS QUE US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851280" y="4653000"/>
            <a:ext cx="4968720" cy="172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CART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LIXO CO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3900000">
            <a:off x="3582360" y="2970000"/>
            <a:ext cx="2185920" cy="655560"/>
          </a:xfrm>
          <a:custGeom>
            <a:avLst/>
            <a:gdLst>
              <a:gd name="textAreaLeft" fmla="*/ 273240 w 2185920"/>
              <a:gd name="textAreaRight" fmla="*/ 1912680 w 2185920"/>
              <a:gd name="textAreaTop" fmla="*/ 16380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XO É LIX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ÃO É QUALQUER LU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15280" cy="269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IN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 ELABORAÇÃO 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A TODAS AS  ÁREAS ENVOLVID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6920" y="5084640"/>
            <a:ext cx="701676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INAMENTO ESPEC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357720"/>
            <a:ext cx="576000" cy="136656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545080" cy="4910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ÀS VEZES, SE NÃO TEM JEITO.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1628640"/>
            <a:ext cx="647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59640" y="6308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 -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57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4500720" y="1125360"/>
            <a:ext cx="142560" cy="18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IGIENE DAS MÃ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05816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O HOSPITAL       MÁSC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472000" cy="48434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788000" y="836640"/>
            <a:ext cx="64764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MÁSCA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 cirúrgica, três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nca usar pendurada no pesco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pre substituída quando ficar úm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pre manuseada pelas t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581360"/>
            <a:ext cx="7848360" cy="1374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IRADOR N 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 situações que possam gerar aerossó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ubação endotraqueal, aspiração , ..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ITAR AGLOMERAÇÃO DE 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11280" y="1519200"/>
            <a:ext cx="77058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68360" y="6165720"/>
            <a:ext cx="1366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476280"/>
            <a:ext cx="42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840000">
            <a:off x="6659280" y="4795920"/>
            <a:ext cx="1655640" cy="288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EJAR AMB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44688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5640" y="398160"/>
            <a:ext cx="77756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M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        RESU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12920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24000" y="260280"/>
            <a:ext cx="3527280" cy="630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brir o nariz e boca, de preferência com lenço descartável, ao tossir ou espir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não tem lenço, utilizar a manga da blusa/ca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var as mãos depois de tossir ou espir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tar cumprimentar: com a mão ou com beijo, quando estiver do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tar compartilhar copos, pratos, talheres, objetos pessoais, e/ou beber no copo de 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260280"/>
            <a:ext cx="3600360" cy="619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tar aglom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ter-se longe de pessoa com gr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ão tocar a boca, nariz e os ol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ão cuspir no ch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ter o ambiente higienizado, com ventilação externa, mas evitando formar correntes de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ão se automed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r sempre os EPI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932280" y="1989000"/>
            <a:ext cx="1339920" cy="27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07280" cy="165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P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mpre deve ser comba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5280" y="2708280"/>
            <a:ext cx="8278560" cy="3666600"/>
            <a:chOff x="395280" y="2708280"/>
            <a:chExt cx="8278560" cy="3666600"/>
          </a:xfrm>
        </p:grpSpPr>
        <p:sp>
          <p:nvSpPr>
            <p:cNvPr id="62" name=""/>
            <p:cNvSpPr/>
            <p:nvPr/>
          </p:nvSpPr>
          <p:spPr>
            <a:xfrm>
              <a:off x="395280" y="2708280"/>
              <a:ext cx="2694600" cy="759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viá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89880" y="2708280"/>
              <a:ext cx="2754720" cy="7596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tacion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4600" y="2708280"/>
              <a:ext cx="2827440" cy="75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1N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3467880"/>
              <a:ext cx="2694600" cy="29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89880" y="3467880"/>
              <a:ext cx="2754720" cy="29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4600" y="3467880"/>
              <a:ext cx="2827440" cy="29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89880" y="2708280"/>
              <a:ext cx="1080" cy="36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44600" y="2708280"/>
              <a:ext cx="1080" cy="36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3467880"/>
              <a:ext cx="8277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2708280"/>
              <a:ext cx="1080" cy="36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72400" y="2708280"/>
              <a:ext cx="1440" cy="36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2708280"/>
              <a:ext cx="8277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6373800"/>
              <a:ext cx="8277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11280" y="4076640"/>
            <a:ext cx="2014560" cy="1716120"/>
            <a:chOff x="611280" y="4076640"/>
            <a:chExt cx="2014560" cy="17161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611280" y="4076640"/>
              <a:ext cx="201456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1280" y="4076640"/>
              <a:ext cx="201456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03640" y="3789360"/>
            <a:ext cx="2444760" cy="2270160"/>
            <a:chOff x="3203640" y="3789360"/>
            <a:chExt cx="2444760" cy="22701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03640" y="3789360"/>
              <a:ext cx="244476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203640" y="3789360"/>
              <a:ext cx="244476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132000" y="2781360"/>
            <a:ext cx="26640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Z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08908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O HOSPIT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car o paciente toss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 deve receber uma másc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possível, colocá-lo em ambiente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 prioridade ao seu at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ntivar a etiqueta da tosse e higiene das mã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jar 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356520" y="3933720"/>
            <a:ext cx="27874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4000" y="1484280"/>
            <a:ext cx="828036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O PROFI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 ÁREA DE ATENDIMENTO ADMI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 UTILIZAR MÁSCARA CIRÚR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 MESES DE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 SEMPRE QUE ESTIVER AT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IENTE TOSS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4360" y="260280"/>
            <a:ext cx="813564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CUIDE DA SUA SAÚ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V="1">
            <a:off x="179280" y="403200"/>
            <a:ext cx="8640720" cy="612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4000" y="474480"/>
            <a:ext cx="8640720" cy="605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60280"/>
            <a:ext cx="8280360" cy="612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404640"/>
            <a:ext cx="8280360" cy="612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692280"/>
            <a:ext cx="7920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e envolva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você pode ser o diferencial entre a vida e a morte de um ser human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 mundo agrade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713800" cy="230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IPE = INFLUENZ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 é a INFLUENZA SAZO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uma doenç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ópria do ser humano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apresenta principalmente durante os meses de inverno ( sazonal ou estacion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46840" y="4529160"/>
            <a:ext cx="2295720" cy="2131920"/>
            <a:chOff x="6846840" y="4529160"/>
            <a:chExt cx="2295720" cy="21319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846840" y="4529160"/>
              <a:ext cx="229572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46840" y="4529160"/>
              <a:ext cx="2295720" cy="21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1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076640"/>
            <a:ext cx="65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iti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o vírus da Influenza entra no organismo através dos olhos, nariz,  e/ou a 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997360"/>
            <a:ext cx="7344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t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ão similares aos do resfriado comum porém muito mais inte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24000" y="260280"/>
            <a:ext cx="8567280" cy="6098760"/>
            <a:chOff x="324000" y="260280"/>
            <a:chExt cx="8567280" cy="6098760"/>
          </a:xfrm>
        </p:grpSpPr>
        <p:sp>
          <p:nvSpPr>
            <p:cNvPr id="93" name=""/>
            <p:cNvSpPr/>
            <p:nvPr/>
          </p:nvSpPr>
          <p:spPr>
            <a:xfrm>
              <a:off x="324000" y="260280"/>
              <a:ext cx="2664360" cy="523440"/>
            </a:xfrm>
            <a:prstGeom prst="rect">
              <a:avLst/>
            </a:prstGeom>
            <a:solidFill>
              <a:srgbClr val="027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SINTO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8360" y="260280"/>
              <a:ext cx="2615040" cy="5234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RESFRI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03400" y="260280"/>
              <a:ext cx="3286080" cy="5234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FLUEN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783720"/>
              <a:ext cx="266436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FE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8360" y="783720"/>
              <a:ext cx="2615040" cy="86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riança 39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dultos pouco freqü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3400" y="783720"/>
              <a:ext cx="3286080" cy="862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de elevar-se até  40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ura de 3 a 4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" y="1646640"/>
              <a:ext cx="266436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OR DE CABEÇ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8360" y="1646640"/>
              <a:ext cx="2615040" cy="86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Raras ve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03400" y="1646640"/>
              <a:ext cx="3286080" cy="861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ício súbito e inten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4000" y="2508480"/>
              <a:ext cx="26643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ORES MUS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8360" y="2508480"/>
              <a:ext cx="2615040" cy="103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 a mode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3400" y="2508480"/>
              <a:ext cx="3286080" cy="5169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eralmente  inten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3025440"/>
              <a:ext cx="26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CANSAÇO E DEBI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03400" y="3025440"/>
              <a:ext cx="328608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de durar de 2 a 3 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" y="3546360"/>
              <a:ext cx="266436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DECA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88360" y="3546360"/>
              <a:ext cx="2615040" cy="913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3400" y="3546360"/>
              <a:ext cx="3286080" cy="9136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ício súbito e inten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4460040"/>
              <a:ext cx="2664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CONGESTÃO NA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8360" y="4460040"/>
              <a:ext cx="2615040" cy="1376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reqü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03400" y="4460040"/>
              <a:ext cx="3286080" cy="137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lgumas ve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00" y="4979160"/>
              <a:ext cx="266436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ARDOR E/OU DOR DE GARGA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00" y="5837040"/>
              <a:ext cx="26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 Narrow"/>
                  <a:ea typeface="Times New Roman"/>
                </a:rPr>
                <a:t>TO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88360" y="5837040"/>
              <a:ext cx="261504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 a mode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3400" y="5837040"/>
              <a:ext cx="3286080" cy="52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Quase semp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8360" y="260280"/>
              <a:ext cx="1080" cy="609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03400" y="260280"/>
              <a:ext cx="1080" cy="609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00" y="783720"/>
              <a:ext cx="8565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1646640"/>
              <a:ext cx="8565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000" y="2508480"/>
              <a:ext cx="8565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3025440"/>
              <a:ext cx="2664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3400" y="3025440"/>
              <a:ext cx="3286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" y="3546360"/>
              <a:ext cx="8565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00" y="4460040"/>
              <a:ext cx="8565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4979160"/>
              <a:ext cx="26643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00" y="5837040"/>
              <a:ext cx="8565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00" y="260280"/>
              <a:ext cx="8565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89840" y="260280"/>
              <a:ext cx="1440" cy="609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" y="260280"/>
              <a:ext cx="1080" cy="609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6357960"/>
              <a:ext cx="8565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22400" y="4694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2781360"/>
            <a:ext cx="2304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357720"/>
            <a:ext cx="2304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093080" y="4437000"/>
            <a:ext cx="1790640" cy="2158920"/>
            <a:chOff x="7093080" y="4437000"/>
            <a:chExt cx="1790640" cy="21589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7093080" y="4437000"/>
              <a:ext cx="1790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93080" y="4437000"/>
              <a:ext cx="17906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m pode ser mais afetado pela influenza sazonal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628640"/>
            <a:ext cx="7643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 a capacidade de afetar a todas as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mo assim são mais suscetíveis de sofrer complic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rianças menores de 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ultos maiores de 6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ssoas com doenças crônicas como: diabetes, doença do coração, dos pulmõ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élia Inês</dc:creator>
  <dc:description/>
  <dc:language>en-US</dc:language>
  <cp:lastModifiedBy>Leony</cp:lastModifiedBy>
  <dcterms:modified xsi:type="dcterms:W3CDTF">2009-07-28T13:38:38Z</dcterms:modified>
  <cp:revision>1</cp:revision>
  <dc:subject/>
  <dc:title>GRIPE SUÍNA</dc:title>
</cp:coreProperties>
</file>