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30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3.jpeg" ContentType="image/jpeg"/>
  <Override PartName="/ppt/media/image14.jpeg" ContentType="image/jpeg"/>
  <Override PartName="/ppt/media/Hino%20Nacional%20SomPassaros33.wav" ContentType="audio/x-wav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DA6-1A17-4F4E-9C8E-7256BD7320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DD34-74BC-474D-BC39-56912D7FEF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783-D43C-4A66-8576-91088831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6C3-F3E4-43DE-8C47-435745BB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455-5673-40E3-BEBC-3018FD3C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038-E786-4401-90AE-CBF7CF65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30F-2DA2-4031-8EE2-ED15204E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83B-F5AE-4AF7-AC15-D005205C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FDE-D67A-4949-BF35-D646F78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B77-5B95-4132-9B71-D405D08D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2AD-F503-4D17-9710-BBAE32D8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FA8-A4E6-414E-8792-84234BB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10B-FA87-4CDD-9B49-786CECD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34B-B36C-4B39-AD12-5454579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DF3-3942-480A-A76C-5EF124C463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Hino%20Nacional%20SomPassaros33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!cid_000c01c6c786$0567c670$a300a8c0@home94db9cd9dd"/>
          <p:cNvPicPr/>
          <p:nvPr/>
        </p:nvPicPr>
        <p:blipFill>
          <a:blip r:embed="rId1"/>
          <a:stretch/>
        </p:blipFill>
        <p:spPr>
          <a:xfrm>
            <a:off x="6877080" y="45115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mapa_brasil"/>
          <p:cNvPicPr/>
          <p:nvPr/>
        </p:nvPicPr>
        <p:blipFill>
          <a:blip r:embed="rId2"/>
          <a:stretch/>
        </p:blipFill>
        <p:spPr>
          <a:xfrm>
            <a:off x="1619280" y="404640"/>
            <a:ext cx="6400800" cy="5857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15"/>
          <p:cNvSpPr txBox="1"/>
          <p:nvPr/>
        </p:nvSpPr>
        <p:spPr>
          <a:xfrm rot="20118600">
            <a:off x="130320" y="4358880"/>
            <a:ext cx="374472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 Amo Brasil !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5219640" y="139680"/>
            <a:ext cx="4826160" cy="337320"/>
          </a:xfrm>
          <a:prstGeom prst="rect">
            <a:avLst/>
          </a:prstGeom>
          <a:gradFill rotWithShape="0">
            <a:gsLst>
              <a:gs pos="0">
                <a:srgbClr val="333399">
                  <a:alpha val="0"/>
                </a:srgbClr>
              </a:gs>
              <a:gs pos="100000">
                <a:srgbClr val="18184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Calligraphy"/>
              </a:rPr>
              <a:t>Clique para assistir no seu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6877080" y="6524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rial"/>
              </a:rPr>
              <a:t>neydecastello@uol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324000" y="6437160"/>
            <a:ext cx="28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gency FB"/>
              </a:rPr>
              <a:t>Hino Nacional Brasileiro ao Som de Pássa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Hino%20Nacional%20SomPassaros3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684360" y="1197000"/>
            <a:ext cx="7924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1400"/>
            </a:br>
            <a:br>
              <a:rPr sz="1400"/>
            </a:b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 -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Nas eleições de 2000, o sistema do Tribunal Regional Eleitoral </a:t>
            </a: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TRE)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est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informatizado em  todas as regiões do Brasil, com resultados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menos de 24 horas depois do início das apurações. O modelo chamou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atenção de uma das maiores potências mund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os Estados Unidos, onde a apuração dos votos teve que ser refe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várias  vezes, atrasando o resultado e gerando dúvidas sob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credibilidade do proc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0"/>
            <a:ext cx="9685080" cy="7245000"/>
            <a:chOff x="0" y="0"/>
            <a:chExt cx="9685080" cy="7245000"/>
          </a:xfrm>
        </p:grpSpPr>
        <p:pic>
          <p:nvPicPr>
            <p:cNvPr id="90" name="Picture 4" descr="Goiá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685080" cy="72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5"/>
            <p:cNvSpPr txBox="1"/>
            <p:nvPr/>
          </p:nvSpPr>
          <p:spPr>
            <a:xfrm>
              <a:off x="3917520" y="3350520"/>
              <a:ext cx="1816200" cy="41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IÁS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611280" y="907920"/>
            <a:ext cx="724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-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Mesmo sendo um país em desenvolvimento, os internautas brasile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representam uma fatia de 40% do mercado na América La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11280" y="3789360"/>
            <a:ext cx="75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F -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No Brasil, há 14 fábricas de veículos instaladas e outras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se instalando enquanto alguns países vizinhos não possuem nenhum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-181080" y="0"/>
            <a:ext cx="9324720" cy="7461000"/>
            <a:chOff x="-181080" y="0"/>
            <a:chExt cx="9324720" cy="7461000"/>
          </a:xfrm>
        </p:grpSpPr>
        <p:pic>
          <p:nvPicPr>
            <p:cNvPr id="95" name="Picture 5" descr="Maranhão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4720" cy="74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WordArt 6"/>
            <p:cNvSpPr txBox="1"/>
            <p:nvPr/>
          </p:nvSpPr>
          <p:spPr>
            <a:xfrm>
              <a:off x="2927880" y="3590280"/>
              <a:ext cx="3237840" cy="27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ARANHÃO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403280" y="314172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H -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O mercado de telefones celulares do Brasil é o segundo do mu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com 650 mil novas habilitações a cada mê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03280" y="19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-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as crianças e adolescentes entre 7 a 14 anos, 97,3% estão estudan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0" y="0"/>
            <a:ext cx="9467280" cy="6857280"/>
            <a:chOff x="0" y="0"/>
            <a:chExt cx="9467280" cy="6857280"/>
          </a:xfrm>
        </p:grpSpPr>
        <p:pic>
          <p:nvPicPr>
            <p:cNvPr id="100" name="Picture 5" descr="Mato Gross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46728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6"/>
            <p:cNvSpPr txBox="1"/>
            <p:nvPr/>
          </p:nvSpPr>
          <p:spPr>
            <a:xfrm>
              <a:off x="2858400" y="3278520"/>
              <a:ext cx="4107960" cy="34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ATO GROSSO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26920" y="1484280"/>
            <a:ext cx="76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-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Na telefonia fixa, o país ocupa a quinta posição em número de linhas instalad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0000" y="3716280"/>
            <a:ext cx="785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 -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as empresas brasileiras, 6.890 possuem Certificado de Qualidade </a:t>
            </a: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so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9000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Maior número entre os países em desenvolvi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No México, são apenas 300 empresas e 265, na Argentin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-1044720" y="0"/>
            <a:ext cx="11558160" cy="7316280"/>
            <a:chOff x="-1044720" y="0"/>
            <a:chExt cx="11558160" cy="7316280"/>
          </a:xfrm>
        </p:grpSpPr>
        <p:pic>
          <p:nvPicPr>
            <p:cNvPr id="105" name="Picture 5" descr="Mato Grosso do Sul"/>
            <p:cNvPicPr/>
            <p:nvPr/>
          </p:nvPicPr>
          <p:blipFill>
            <a:blip r:embed="rId1"/>
            <a:stretch/>
          </p:blipFill>
          <p:spPr>
            <a:xfrm>
              <a:off x="-1044720" y="0"/>
              <a:ext cx="11558160" cy="73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6"/>
            <p:cNvSpPr txBox="1"/>
            <p:nvPr/>
          </p:nvSpPr>
          <p:spPr>
            <a:xfrm>
              <a:off x="1722960" y="3295800"/>
              <a:ext cx="6188040" cy="41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ATO GROSSO DO SUL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92360" y="2060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Você sabia que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478240" y="256536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O mercado editorial de  liv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no Brasil é maior do que o da Itália, com 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 50 mil títulos novos a cada ano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10" name="Picture 5" descr="Minas Gerai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6"/>
            <p:cNvSpPr txBox="1"/>
            <p:nvPr/>
          </p:nvSpPr>
          <p:spPr>
            <a:xfrm>
              <a:off x="2632320" y="3322080"/>
              <a:ext cx="429408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INAS GERAIS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038240" y="12333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O Brasil tem o mais moderno 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bancário do plan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708360" y="3460680"/>
            <a:ext cx="415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As agências de publicidade ganh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os melhores e maiores prêmios mundia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0" y="-316080"/>
            <a:ext cx="9683280" cy="7173720"/>
            <a:chOff x="0" y="-316080"/>
            <a:chExt cx="9683280" cy="7173720"/>
          </a:xfrm>
        </p:grpSpPr>
        <p:pic>
          <p:nvPicPr>
            <p:cNvPr id="115" name="Picture 5" descr="Pará"/>
            <p:cNvPicPr/>
            <p:nvPr/>
          </p:nvPicPr>
          <p:blipFill>
            <a:blip r:embed="rId1"/>
            <a:stretch/>
          </p:blipFill>
          <p:spPr>
            <a:xfrm>
              <a:off x="0" y="-316080"/>
              <a:ext cx="9683280" cy="71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6"/>
            <p:cNvSpPr txBox="1"/>
            <p:nvPr/>
          </p:nvSpPr>
          <p:spPr>
            <a:xfrm>
              <a:off x="3700440" y="3060000"/>
              <a:ext cx="2846880" cy="28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Á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771640" y="1116000"/>
            <a:ext cx="385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Vamos lembrar também que o Brasil é o país 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empreendedor do mundo e que 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 70% dos brasileiros, pobres e r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dicam considerável parte de 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tempo em trabalhos voluntário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0" y="-243000"/>
            <a:ext cx="9324720" cy="7100640"/>
            <a:chOff x="0" y="-243000"/>
            <a:chExt cx="9324720" cy="7100640"/>
          </a:xfrm>
        </p:grpSpPr>
        <p:pic>
          <p:nvPicPr>
            <p:cNvPr id="119" name="Picture 4" descr="Paraiba"/>
            <p:cNvPicPr/>
            <p:nvPr/>
          </p:nvPicPr>
          <p:blipFill>
            <a:blip r:embed="rId1"/>
            <a:stretch/>
          </p:blipFill>
          <p:spPr>
            <a:xfrm>
              <a:off x="0" y="-243000"/>
              <a:ext cx="9324720" cy="71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6"/>
            <p:cNvSpPr txBox="1"/>
            <p:nvPr/>
          </p:nvSpPr>
          <p:spPr>
            <a:xfrm>
              <a:off x="3625560" y="3173760"/>
              <a:ext cx="2072880" cy="26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AIBA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009880" y="2637000"/>
            <a:ext cx="421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E por que não dizer que o Brasil é hoj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terceira maior democracia do mund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0" y="-171360"/>
            <a:ext cx="9143640" cy="7029000"/>
            <a:chOff x="0" y="-171360"/>
            <a:chExt cx="9143640" cy="7029000"/>
          </a:xfrm>
        </p:grpSpPr>
        <p:pic>
          <p:nvPicPr>
            <p:cNvPr id="123" name="Picture 5" descr="Pernambuco"/>
            <p:cNvPicPr/>
            <p:nvPr/>
          </p:nvPicPr>
          <p:blipFill>
            <a:blip r:embed="rId1"/>
            <a:stretch/>
          </p:blipFill>
          <p:spPr>
            <a:xfrm>
              <a:off x="0" y="-171360"/>
              <a:ext cx="9143640" cy="70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6"/>
            <p:cNvSpPr txBox="1"/>
            <p:nvPr/>
          </p:nvSpPr>
          <p:spPr>
            <a:xfrm>
              <a:off x="3540960" y="3187800"/>
              <a:ext cx="2621520" cy="29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NAMBUCO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195640" y="2421000"/>
            <a:ext cx="47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Que apesar de todas as mazelas, o Congresso está punindo s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próprios membros, o que raramente ocorre em outros países ditos de primeiro mund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7" name="Picture 5" descr="Piaui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6"/>
            <p:cNvSpPr txBox="1"/>
            <p:nvPr/>
          </p:nvSpPr>
          <p:spPr>
            <a:xfrm>
              <a:off x="4065120" y="3301560"/>
              <a:ext cx="1141920" cy="25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IAUI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2050920" y="1700280"/>
            <a:ext cx="50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É bom também</a:t>
            </a:r>
            <a:r>
              <a:rPr b="1" lang="pt-BR" sz="40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lembrar que o povo brasileiro é um povo hospitaleiro, que se esforç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para falar a língua dos turistas e não mede esforços para atendê-los be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0" y="0"/>
            <a:ext cx="9143640" cy="7244640"/>
            <a:chOff x="0" y="0"/>
            <a:chExt cx="9143640" cy="7244640"/>
          </a:xfrm>
        </p:grpSpPr>
        <p:pic>
          <p:nvPicPr>
            <p:cNvPr id="131" name="Picture 5" descr="Rio de Janeir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72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WordArt 6"/>
            <p:cNvSpPr txBox="1"/>
            <p:nvPr/>
          </p:nvSpPr>
          <p:spPr>
            <a:xfrm>
              <a:off x="1962720" y="3404880"/>
              <a:ext cx="5187240" cy="29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IO DE JANEIRO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2205000"/>
            <a:ext cx="62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1. Somos o único país do mundo onde se  pode abaste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simultaneamente  um carro com Álco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Gasolina e gá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Tudo isso, com tecnolo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própria, Naciona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-468360" y="0"/>
            <a:ext cx="9612000" cy="6857640"/>
            <a:chOff x="-468360" y="0"/>
            <a:chExt cx="9612000" cy="6857640"/>
          </a:xfrm>
        </p:grpSpPr>
        <p:pic>
          <p:nvPicPr>
            <p:cNvPr id="56" name="Picture 7" descr="Acre"/>
            <p:cNvPicPr/>
            <p:nvPr/>
          </p:nvPicPr>
          <p:blipFill>
            <a:blip r:embed="rId1"/>
            <a:stretch/>
          </p:blipFill>
          <p:spPr>
            <a:xfrm>
              <a:off x="-468360" y="0"/>
              <a:ext cx="9612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8"/>
            <p:cNvSpPr txBox="1"/>
            <p:nvPr/>
          </p:nvSpPr>
          <p:spPr>
            <a:xfrm>
              <a:off x="3725640" y="3193920"/>
              <a:ext cx="1680120" cy="39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RE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268360" y="2637000"/>
            <a:ext cx="4321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Por que ter vergonha de ser uma gente alegre , que faz piadas da própria desgraç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enfrenta seus problemas sorrindo e samba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0" y="-171360"/>
            <a:ext cx="9143640" cy="7029000"/>
            <a:chOff x="0" y="-171360"/>
            <a:chExt cx="9143640" cy="7029000"/>
          </a:xfrm>
        </p:grpSpPr>
        <p:pic>
          <p:nvPicPr>
            <p:cNvPr id="135" name="Picture 5" descr="Rio Gande do Sul"/>
            <p:cNvPicPr/>
            <p:nvPr/>
          </p:nvPicPr>
          <p:blipFill>
            <a:blip r:embed="rId1"/>
            <a:stretch/>
          </p:blipFill>
          <p:spPr>
            <a:xfrm>
              <a:off x="0" y="-171360"/>
              <a:ext cx="9143640" cy="70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6"/>
            <p:cNvSpPr txBox="1"/>
            <p:nvPr/>
          </p:nvSpPr>
          <p:spPr>
            <a:xfrm>
              <a:off x="3227400" y="3134160"/>
              <a:ext cx="3650760" cy="28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IO GRANDE DO SUL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"/>
          <p:cNvSpPr/>
          <p:nvPr/>
        </p:nvSpPr>
        <p:spPr>
          <a:xfrm>
            <a:off x="2268360" y="2997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Script MT Bold"/>
              </a:rPr>
              <a:t>Bendita esta terra onde convivem em Paz todas as raças e credos religios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0" y="0"/>
            <a:ext cx="9467640" cy="7262280"/>
            <a:chOff x="0" y="0"/>
            <a:chExt cx="9467640" cy="7262280"/>
          </a:xfrm>
        </p:grpSpPr>
        <p:sp>
          <p:nvSpPr>
            <p:cNvPr id="139" name="Text Box 3"/>
            <p:cNvSpPr/>
            <p:nvPr/>
          </p:nvSpPr>
          <p:spPr>
            <a:xfrm>
              <a:off x="211320" y="1821960"/>
              <a:ext cx="74905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lang="pt-BR" sz="3200" spc="-1" strike="noStrike">
                  <a:solidFill>
                    <a:srgbClr val="333399"/>
                  </a:solidFill>
                  <a:latin typeface="Script MT Bold"/>
                  <a:ea typeface="Times New Roman"/>
                </a:rPr>
                <a:t>Bendito este povo, que possui a magia de unir todas as raças, de todos os credos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7" descr="Rio Grande do Nort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467640" cy="72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WordArt 8"/>
            <p:cNvSpPr txBox="1"/>
            <p:nvPr/>
          </p:nvSpPr>
          <p:spPr>
            <a:xfrm>
              <a:off x="2109960" y="3560760"/>
              <a:ext cx="5382720" cy="21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IO GRANDE DO NORTE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2448000" y="2459160"/>
            <a:ext cx="4572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Script MT Bold"/>
              </a:rPr>
              <a:t>Bendita esta terra , que oferece todos os tipos de climas para contentar toda ge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0"/>
          <p:cNvGrpSpPr/>
          <p:nvPr/>
        </p:nvGrpSpPr>
        <p:grpSpPr>
          <a:xfrm>
            <a:off x="0" y="-316080"/>
            <a:ext cx="10006920" cy="7173720"/>
            <a:chOff x="0" y="-316080"/>
            <a:chExt cx="10006920" cy="7173720"/>
          </a:xfrm>
        </p:grpSpPr>
        <p:sp>
          <p:nvSpPr>
            <p:cNvPr id="144" name="Text Box 3"/>
            <p:cNvSpPr/>
            <p:nvPr/>
          </p:nvSpPr>
          <p:spPr>
            <a:xfrm>
              <a:off x="191520" y="982080"/>
              <a:ext cx="98154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333399"/>
                  </a:solidFill>
                  <a:latin typeface="Script MT Bold"/>
                  <a:ea typeface="Times New Roman"/>
                </a:rPr>
                <a:t>Bendito este povo que sabe entender todos os sotaques!</a:t>
              </a:r>
              <a:r>
                <a:rPr b="1" lang="pt-BR" sz="2800" spc="-1" strike="noStrike">
                  <a:solidFill>
                    <a:srgbClr val="333399"/>
                  </a:solidFill>
                  <a:latin typeface="Script MT Bold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Picture 7" descr="Rondônia"/>
            <p:cNvPicPr/>
            <p:nvPr/>
          </p:nvPicPr>
          <p:blipFill>
            <a:blip r:embed="rId1"/>
            <a:stretch/>
          </p:blipFill>
          <p:spPr>
            <a:xfrm>
              <a:off x="0" y="-316080"/>
              <a:ext cx="10004400" cy="71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8"/>
            <p:cNvSpPr txBox="1"/>
            <p:nvPr/>
          </p:nvSpPr>
          <p:spPr>
            <a:xfrm>
              <a:off x="3455280" y="3098520"/>
              <a:ext cx="3691800" cy="26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ONDÔNIA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84360" y="328428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33399"/>
                </a:solidFill>
                <a:latin typeface="Script MT Bold"/>
              </a:rPr>
              <a:t>Bendita sejas,</a:t>
            </a:r>
            <a:r>
              <a:rPr b="1" lang="pt-BR" sz="4000" spc="-1" strike="noStrike">
                <a:solidFill>
                  <a:srgbClr val="333399"/>
                </a:solidFill>
                <a:latin typeface="Script MT Bold"/>
              </a:rPr>
              <a:t> </a:t>
            </a:r>
            <a:r>
              <a:rPr b="1" i="1" lang="pt-BR" sz="4000" spc="-1" strike="noStrike">
                <a:solidFill>
                  <a:srgbClr val="333399"/>
                </a:solidFill>
                <a:latin typeface="Script MT Bold"/>
              </a:rPr>
              <a:t>querida pátria chamada Brasil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-612720" y="0"/>
            <a:ext cx="9756360" cy="6857640"/>
            <a:chOff x="-612720" y="0"/>
            <a:chExt cx="9756360" cy="6857640"/>
          </a:xfrm>
        </p:grpSpPr>
        <p:pic>
          <p:nvPicPr>
            <p:cNvPr id="149" name="Picture 5" descr="Santa Catarina"/>
            <p:cNvPicPr/>
            <p:nvPr/>
          </p:nvPicPr>
          <p:blipFill>
            <a:blip r:embed="rId1"/>
            <a:stretch/>
          </p:blipFill>
          <p:spPr>
            <a:xfrm>
              <a:off x="-612720" y="0"/>
              <a:ext cx="9756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WordArt 6"/>
            <p:cNvSpPr txBox="1"/>
            <p:nvPr/>
          </p:nvSpPr>
          <p:spPr>
            <a:xfrm>
              <a:off x="2608200" y="3141000"/>
              <a:ext cx="36068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ANTA CATARINA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4" descr="escudo 2"/>
          <p:cNvPicPr/>
          <p:nvPr/>
        </p:nvPicPr>
        <p:blipFill>
          <a:blip r:embed="rId1"/>
          <a:stretch/>
        </p:blipFill>
        <p:spPr>
          <a:xfrm>
            <a:off x="4932360" y="4297320"/>
            <a:ext cx="2087640" cy="2011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116000" y="333360"/>
            <a:ext cx="66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Hino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Brasil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55640" y="2492280"/>
            <a:ext cx="338472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uviram de Ipiranga as margens plác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e um povo heróico o brado retumban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 o sol da liberdade , em raios fúlgido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rilhou no céu da pátria nesse ins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 o penhor dessa igual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seguimos conquistar com braço for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m teu seio , ó liberd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esafia o nosso peito a própria mor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Ó Pátria amad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Idolatrad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alve! Sa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334040" y="2523960"/>
            <a:ext cx="2614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rasil um sonho intenso, um ra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vív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e amor e de esperança á terra desc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 em teu formoso céu risonho e límpid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imagem do Cruzeiro respland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-541440" y="0"/>
            <a:ext cx="9684720" cy="6857280"/>
            <a:chOff x="-541440" y="0"/>
            <a:chExt cx="9684720" cy="6857280"/>
          </a:xfrm>
        </p:grpSpPr>
        <p:sp>
          <p:nvSpPr>
            <p:cNvPr id="156" name="Text Box 10"/>
            <p:cNvSpPr/>
            <p:nvPr/>
          </p:nvSpPr>
          <p:spPr>
            <a:xfrm>
              <a:off x="1823400" y="1887840"/>
              <a:ext cx="562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arte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11" descr="São Paulo"/>
            <p:cNvPicPr/>
            <p:nvPr/>
          </p:nvPicPr>
          <p:blipFill>
            <a:blip r:embed="rId2"/>
            <a:stretch/>
          </p:blipFill>
          <p:spPr>
            <a:xfrm>
              <a:off x="-541440" y="0"/>
              <a:ext cx="968472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WordArt 12"/>
            <p:cNvSpPr txBox="1"/>
            <p:nvPr/>
          </p:nvSpPr>
          <p:spPr>
            <a:xfrm>
              <a:off x="2860560" y="3199680"/>
              <a:ext cx="3699360" cy="29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ão Paulo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145040" y="186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71640" y="620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ino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771640" y="1268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t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11280" y="1916280"/>
            <a:ext cx="36003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eitado eternamente em berço esplêndid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o som do mar e a luz do céu profund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Fulguras,ó Brasil florão da Amér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Iluminado ao sol do Novo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o que a terra mais garrid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eus risonhos , lindos campos têm mais flor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ssos bosques têm mais vida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ssa vida” no teu seio “mais amo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Ó Pátria amad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Idolatra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alve! Salve!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003640" y="1916280"/>
            <a:ext cx="3313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rasil, de amor eterno seja símb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 lábaro que ostentas estrelad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 diga o verde-louro dessa flâ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”Paz no futuro e glória no passado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s se ergues da justiça a clava for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Verás que o filho teu não foge á lu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em teme, quem te adore, a própria mo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erra adorad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ntre outras mi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És tu Brasi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Ó Pátria amad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os filhos deste solo és mãe genti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átria amad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rasil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851280" y="5373720"/>
            <a:ext cx="42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etra : Joaquim Osório Duque Es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úsica : Francisco Manuel da Sil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0" y="-243000"/>
            <a:ext cx="9143640" cy="7487640"/>
            <a:chOff x="0" y="-243000"/>
            <a:chExt cx="9143640" cy="7487640"/>
          </a:xfrm>
        </p:grpSpPr>
        <p:pic>
          <p:nvPicPr>
            <p:cNvPr id="166" name="Picture 10" descr="Sergipe"/>
            <p:cNvPicPr/>
            <p:nvPr/>
          </p:nvPicPr>
          <p:blipFill>
            <a:blip r:embed="rId1"/>
            <a:stretch/>
          </p:blipFill>
          <p:spPr>
            <a:xfrm>
              <a:off x="0" y="-243000"/>
              <a:ext cx="9143640" cy="74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WordArt 11"/>
            <p:cNvSpPr txBox="1"/>
            <p:nvPr/>
          </p:nvSpPr>
          <p:spPr>
            <a:xfrm>
              <a:off x="3823200" y="3336480"/>
              <a:ext cx="2047320" cy="27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GIPE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1"/>
          <p:cNvGrpSpPr/>
          <p:nvPr/>
        </p:nvGrpSpPr>
        <p:grpSpPr>
          <a:xfrm>
            <a:off x="5435640" y="5013360"/>
            <a:ext cx="2232000" cy="1400040"/>
            <a:chOff x="5435640" y="5013360"/>
            <a:chExt cx="2232000" cy="1400040"/>
          </a:xfrm>
        </p:grpSpPr>
        <p:pic>
          <p:nvPicPr>
            <p:cNvPr id="169" name="Picture 18" descr="478brazilT"/>
            <p:cNvPicPr/>
            <p:nvPr/>
          </p:nvPicPr>
          <p:blipFill>
            <a:blip r:embed="rId1"/>
            <a:stretch/>
          </p:blipFill>
          <p:spPr>
            <a:xfrm>
              <a:off x="5435640" y="5013360"/>
              <a:ext cx="22320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9"/>
            <p:cNvSpPr/>
            <p:nvPr/>
          </p:nvSpPr>
          <p:spPr>
            <a:xfrm>
              <a:off x="5796000" y="5156280"/>
              <a:ext cx="151272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Texto, Imagens e música da 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Formatação NC 30/-5/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4"/>
          <p:cNvSpPr/>
          <p:nvPr/>
        </p:nvSpPr>
        <p:spPr>
          <a:xfrm>
            <a:off x="5364000" y="907920"/>
            <a:ext cx="2374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Mais do que nunca precisamos 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vivenciar o nosso hino:</a:t>
            </a: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333399"/>
                </a:solidFill>
                <a:latin typeface="Times New Roman"/>
              </a:rPr>
              <a:t>“Um filho teu não foge à luta”.</a:t>
            </a:r>
            <a:r>
              <a:rPr b="1" lang="pt-BR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252360" y="476280"/>
            <a:ext cx="4606560" cy="5976720"/>
            <a:chOff x="252360" y="476280"/>
            <a:chExt cx="4606560" cy="5976720"/>
          </a:xfrm>
        </p:grpSpPr>
        <p:grpSp>
          <p:nvGrpSpPr>
            <p:cNvPr id="173" name="Group 5"/>
            <p:cNvGrpSpPr/>
            <p:nvPr/>
          </p:nvGrpSpPr>
          <p:grpSpPr>
            <a:xfrm>
              <a:off x="1116000" y="476280"/>
              <a:ext cx="3742920" cy="3744360"/>
              <a:chOff x="1116000" y="476280"/>
              <a:chExt cx="3742920" cy="3744360"/>
            </a:xfrm>
          </p:grpSpPr>
          <p:pic>
            <p:nvPicPr>
              <p:cNvPr id="174" name="Picture 6" descr="Brazil_Eye_Flag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476280"/>
                <a:ext cx="2198520" cy="203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7" descr="Brazil_Flower"/>
              <p:cNvPicPr/>
              <p:nvPr/>
            </p:nvPicPr>
            <p:blipFill>
              <a:blip r:embed="rId3"/>
              <a:stretch/>
            </p:blipFill>
            <p:spPr>
              <a:xfrm>
                <a:off x="2660400" y="2157120"/>
                <a:ext cx="2198520" cy="206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" name="Group 8"/>
            <p:cNvGrpSpPr/>
            <p:nvPr/>
          </p:nvGrpSpPr>
          <p:grpSpPr>
            <a:xfrm>
              <a:off x="252360" y="2708280"/>
              <a:ext cx="3742920" cy="3744720"/>
              <a:chOff x="252360" y="2708280"/>
              <a:chExt cx="3742920" cy="3744720"/>
            </a:xfrm>
          </p:grpSpPr>
          <p:pic>
            <p:nvPicPr>
              <p:cNvPr id="177" name="Picture 9" descr="Brazil_Eye_Flag"/>
              <p:cNvPicPr/>
              <p:nvPr/>
            </p:nvPicPr>
            <p:blipFill>
              <a:blip r:embed="rId4"/>
              <a:stretch/>
            </p:blipFill>
            <p:spPr>
              <a:xfrm>
                <a:off x="252360" y="2708280"/>
                <a:ext cx="2198520" cy="20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0" descr="Brazil_Flower"/>
              <p:cNvPicPr/>
              <p:nvPr/>
            </p:nvPicPr>
            <p:blipFill>
              <a:blip r:embed="rId5"/>
              <a:stretch/>
            </p:blipFill>
            <p:spPr>
              <a:xfrm>
                <a:off x="1796760" y="4389120"/>
                <a:ext cx="2198520" cy="206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9" name="Group 22"/>
          <p:cNvGrpSpPr/>
          <p:nvPr/>
        </p:nvGrpSpPr>
        <p:grpSpPr>
          <a:xfrm>
            <a:off x="0" y="0"/>
            <a:ext cx="9324720" cy="6857280"/>
            <a:chOff x="0" y="0"/>
            <a:chExt cx="9324720" cy="6857280"/>
          </a:xfrm>
        </p:grpSpPr>
        <p:pic>
          <p:nvPicPr>
            <p:cNvPr id="180" name="Picture 11" descr="Tocantins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32472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WordArt 12"/>
            <p:cNvSpPr txBox="1"/>
            <p:nvPr/>
          </p:nvSpPr>
          <p:spPr>
            <a:xfrm>
              <a:off x="2831400" y="3300840"/>
              <a:ext cx="41191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OCANTINS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82" name="Text Box 23"/>
          <p:cNvSpPr/>
          <p:nvPr/>
        </p:nvSpPr>
        <p:spPr>
          <a:xfrm>
            <a:off x="179280" y="65833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rial"/>
              </a:rPr>
              <a:t>neydecastello@uol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763640" y="1995480"/>
            <a:ext cx="532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2. Somos o primeiro país do mun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senvolver o biodiesel à base de mamo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Novamente tecnologia nacional. Será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redenção do Nordeste, pois a mamona é pra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por lá e a Petrobrás já está começ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senvolver o sistema produtiv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0" y="-171360"/>
            <a:ext cx="9143640" cy="7029000"/>
            <a:chOff x="0" y="-171360"/>
            <a:chExt cx="9143640" cy="7029000"/>
          </a:xfrm>
        </p:grpSpPr>
        <p:pic>
          <p:nvPicPr>
            <p:cNvPr id="60" name="Picture 4" descr="Alagoas"/>
            <p:cNvPicPr/>
            <p:nvPr/>
          </p:nvPicPr>
          <p:blipFill>
            <a:blip r:embed="rId1"/>
            <a:stretch/>
          </p:blipFill>
          <p:spPr>
            <a:xfrm>
              <a:off x="0" y="-171360"/>
              <a:ext cx="9143640" cy="70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WordArt 5"/>
            <p:cNvSpPr txBox="1"/>
            <p:nvPr/>
          </p:nvSpPr>
          <p:spPr>
            <a:xfrm>
              <a:off x="3326760" y="3093840"/>
              <a:ext cx="2908080" cy="28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ALAGOAS</a:t>
              </a:r>
              <a:endPara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52600" y="2637000"/>
            <a:ext cx="423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3. As fábricas mais modernas de pro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 automóveis e caminhões, estão instaladas também no Bras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-252360" y="0"/>
            <a:ext cx="10440360" cy="6857640"/>
            <a:chOff x="-252360" y="0"/>
            <a:chExt cx="10440360" cy="6857640"/>
          </a:xfrm>
        </p:grpSpPr>
        <p:pic>
          <p:nvPicPr>
            <p:cNvPr id="64" name="Picture 5" descr="Amapá"/>
            <p:cNvPicPr/>
            <p:nvPr/>
          </p:nvPicPr>
          <p:blipFill>
            <a:blip r:embed="rId1"/>
            <a:stretch/>
          </p:blipFill>
          <p:spPr>
            <a:xfrm>
              <a:off x="-252360" y="0"/>
              <a:ext cx="10440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6"/>
            <p:cNvSpPr txBox="1"/>
            <p:nvPr/>
          </p:nvSpPr>
          <p:spPr>
            <a:xfrm>
              <a:off x="3857040" y="3201840"/>
              <a:ext cx="307980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MAPÀ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712960" y="2060640"/>
            <a:ext cx="344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4. A Petrobrás é a ú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empresa do mundo a deter a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completa de produção de petróleo 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águas profund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-396720" y="-243000"/>
            <a:ext cx="10008360" cy="7416360"/>
            <a:chOff x="-396720" y="-243000"/>
            <a:chExt cx="10008360" cy="7416360"/>
          </a:xfrm>
        </p:grpSpPr>
        <p:pic>
          <p:nvPicPr>
            <p:cNvPr id="68" name="Picture 5" descr="Amazonas"/>
            <p:cNvPicPr/>
            <p:nvPr/>
          </p:nvPicPr>
          <p:blipFill>
            <a:blip r:embed="rId1"/>
            <a:stretch/>
          </p:blipFill>
          <p:spPr>
            <a:xfrm>
              <a:off x="-396720" y="-243000"/>
              <a:ext cx="10008360" cy="74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WordArt 6"/>
            <p:cNvSpPr txBox="1"/>
            <p:nvPr/>
          </p:nvSpPr>
          <p:spPr>
            <a:xfrm>
              <a:off x="3459240" y="3275640"/>
              <a:ext cx="3264120" cy="29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MAZONAS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62120" y="2565360"/>
            <a:ext cx="381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5. As empresas produtoras de aço estão 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sua capacidade máxima insta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0" y="0"/>
            <a:ext cx="9828000" cy="7821360"/>
            <a:chOff x="0" y="0"/>
            <a:chExt cx="9828000" cy="7821360"/>
          </a:xfrm>
        </p:grpSpPr>
        <p:pic>
          <p:nvPicPr>
            <p:cNvPr id="72" name="Picture 4" descr="Bah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828000" cy="78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WordArt 5"/>
            <p:cNvSpPr txBox="1"/>
            <p:nvPr/>
          </p:nvSpPr>
          <p:spPr>
            <a:xfrm>
              <a:off x="4116240" y="3804840"/>
              <a:ext cx="1858680" cy="28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AHIA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484360" y="1557360"/>
            <a:ext cx="47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6 .Os Estados Unidos reconheceram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qualidade de nossos aviões (produzidos pela Embraer) e vão adqui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aviões altamente  especializados para tre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de sua  Força Aeronáu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6"/>
          <p:cNvGrpSpPr/>
          <p:nvPr/>
        </p:nvGrpSpPr>
        <p:grpSpPr>
          <a:xfrm>
            <a:off x="0" y="-531720"/>
            <a:ext cx="9143640" cy="7560360"/>
            <a:chOff x="0" y="-531720"/>
            <a:chExt cx="9143640" cy="7560360"/>
          </a:xfrm>
        </p:grpSpPr>
        <p:pic>
          <p:nvPicPr>
            <p:cNvPr id="76" name="Picture 4" descr="Ceará"/>
            <p:cNvPicPr/>
            <p:nvPr/>
          </p:nvPicPr>
          <p:blipFill>
            <a:blip r:embed="rId1"/>
            <a:stretch/>
          </p:blipFill>
          <p:spPr>
            <a:xfrm>
              <a:off x="0" y="-531720"/>
              <a:ext cx="9143640" cy="75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WordArt 5"/>
            <p:cNvSpPr txBox="1"/>
            <p:nvPr/>
          </p:nvSpPr>
          <p:spPr>
            <a:xfrm>
              <a:off x="3741840" y="2983680"/>
              <a:ext cx="2218320" cy="30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EARÁ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1042920" y="1557360"/>
            <a:ext cx="63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-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O Brasil é o país que tem tido maior sucesso no com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à </a:t>
            </a: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IDS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e outras doenças sexualmente transmissíve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e é tido como exemplo para o mun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87280" y="836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ados da Antropos Consulting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87280" y="4437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B- 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O Brasil é o único país do hemisfério sul que está participando do Projeto Genoma.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-612720" y="0"/>
            <a:ext cx="9756360" cy="7389360"/>
            <a:chOff x="-612720" y="0"/>
            <a:chExt cx="9756360" cy="7389360"/>
          </a:xfrm>
        </p:grpSpPr>
        <p:pic>
          <p:nvPicPr>
            <p:cNvPr id="82" name="Picture 6" descr="Distrito Federal"/>
            <p:cNvPicPr/>
            <p:nvPr/>
          </p:nvPicPr>
          <p:blipFill>
            <a:blip r:embed="rId1"/>
            <a:stretch/>
          </p:blipFill>
          <p:spPr>
            <a:xfrm>
              <a:off x="-612720" y="0"/>
              <a:ext cx="9756360" cy="73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7"/>
            <p:cNvSpPr txBox="1"/>
            <p:nvPr/>
          </p:nvSpPr>
          <p:spPr>
            <a:xfrm>
              <a:off x="2035800" y="3590640"/>
              <a:ext cx="5017680" cy="28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ISTRITO FEDERAL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979640" y="1916280"/>
            <a:ext cx="47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C-</a:t>
            </a: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 Numa pesquisa envolvendo 50 cidades de diversos países, a cidade do Ri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Script MT Bold"/>
                <a:ea typeface="Times New Roman"/>
              </a:rPr>
              <a:t>Janeiro foi considerada a mais solidár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-324000" y="-171360"/>
            <a:ext cx="9864000" cy="7271640"/>
            <a:chOff x="-324000" y="-171360"/>
            <a:chExt cx="9864000" cy="7271640"/>
          </a:xfrm>
        </p:grpSpPr>
        <p:pic>
          <p:nvPicPr>
            <p:cNvPr id="86" name="Picture 4" descr="Espírito Santo"/>
            <p:cNvPicPr/>
            <p:nvPr/>
          </p:nvPicPr>
          <p:blipFill>
            <a:blip r:embed="rId1"/>
            <a:stretch/>
          </p:blipFill>
          <p:spPr>
            <a:xfrm>
              <a:off x="-324000" y="-171360"/>
              <a:ext cx="9864000" cy="72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WordArt 5"/>
            <p:cNvSpPr txBox="1"/>
            <p:nvPr/>
          </p:nvSpPr>
          <p:spPr>
            <a:xfrm>
              <a:off x="1385280" y="3342600"/>
              <a:ext cx="6681960" cy="28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SPIRITO  SANTO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>
    <p:cover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23:09:37Z</dcterms:created>
  <dc:creator>x</dc:creator>
  <dc:description/>
  <dc:language>en-US</dc:language>
  <cp:lastModifiedBy>DEISE</cp:lastModifiedBy>
  <dcterms:modified xsi:type="dcterms:W3CDTF">2008-06-19T12:21:43Z</dcterms:modified>
  <cp:revision>40</cp:revision>
  <dc:subject/>
  <dc:title>Apresentação do PowerPoint</dc:title>
</cp:coreProperties>
</file>