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13.jpeg" ContentType="image/jpeg"/>
  <Override PartName="/ppt/media/sound-L'amour%20r%C3%AAve(Andr%C3%A9Gagnon)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A19-8A7E-453B-96E0-5B5377AE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4BC-2E15-43D3-915A-CC470C59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547-BA87-451F-A166-838A3870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397-4C9F-4A81-BAFA-4FD7A489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034-2223-4BB8-9676-428F258E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546-2228-4356-A218-88067EAD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249-4DB7-4933-91A8-9126A6AB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5F0-8A40-4E18-B7B2-9C47750B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6DB-83BE-4DB3-B594-F1F896B1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E7C-1E34-43C5-A4D9-E1A0E87E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BA5-14CD-4E21-9EF9-A60CD54A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282-56AC-4859-AE22-EAA73C5A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D065-7ABA-41EB-B31F-1BB3E5C46CB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audio" Target="../media/sound-L&apos;amour%20r&#234;ve(Andr&#233;Gagnon)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24280" y="6308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948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305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1052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692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19280" y="333360"/>
            <a:ext cx="583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Tocando o Cé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sem  Braç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40000" y="5661000"/>
            <a:ext cx="424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-  Jéssica   Cox 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1044720" y="1773360"/>
            <a:ext cx="6840360" cy="3840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0" name="sound-L'amour%20r%C3%AAve(Andr%C3%A9Gagnon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6624720" cy="4032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5121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Graduada em Psicología pela Universidade do Arizona, ainda atrai olhares quando abastece seu carro nas bombas de gasol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7704000" cy="5329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522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8626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</a:rPr>
              <a:t>Ela pode escrever 25 palavras por minu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0" y="76500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522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5373720"/>
            <a:ext cx="68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</a:rPr>
              <a:t>secar o cabelo, e maquiar-se norm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8360" y="765000"/>
            <a:ext cx="3744720" cy="4032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522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559640" cy="4464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6920" y="53625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</a:rPr>
              <a:t>Trocar as lentes de contacto como qualquer outra pesso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888000" cy="270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5280" y="522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865760" y="3500280"/>
            <a:ext cx="3809880" cy="302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39640" y="3500280"/>
            <a:ext cx="3888000" cy="3024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9080" y="260280"/>
            <a:ext cx="8604000" cy="6381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76360" y="4005360"/>
            <a:ext cx="71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136000" cy="4753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6920" y="5337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Jéssica com 26 anos e 1,55 metros de altura, é a primeira mulher piloto na historia da aviação que pilota sem braç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14280"/>
            <a:ext cx="7417080" cy="3546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3933720"/>
            <a:ext cx="8424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Esta mulher, inspiradora e heroína para muitos, irradia felicidade e um grande senso de humo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no Día das Mães em maio do ano pasado, voou sozinha com um letreiro suspenso que acertadamente diz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Olha mamãe, sem mãos!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3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327640" cy="3743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5280" y="4530600"/>
            <a:ext cx="7921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Quando ainda não voava, me dei conta de que meu temor era porque eu não sabia muito sobre i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Há um medo universal na gente, é o temor da insuficiência e da falta de fé em nós mesmos"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96000" y="549360"/>
            <a:ext cx="29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té a data, tinha contabilizado aproximadamente 130 horas de vôo sozinh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817720"/>
            <a:ext cx="27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 afirma: o medo pode basear-se no desconhec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390920" cy="5977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64000" y="1486080"/>
            <a:ext cx="30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Graças a sua confiança, perseverança, preparação e ambição, Jéssica tem percorrido um longo caminho para converter-se em quem é hoje em 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81040" y="549360"/>
            <a:ext cx="4135320" cy="568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91280" y="1341360"/>
            <a:ext cx="316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lém de ser uma oradora motivacional (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www.rightfooted.com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), ela também tem sido incentivadora na Rede Internacional de Crianças Amputadas nos últimos cinco a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0" y="803160"/>
            <a:ext cx="41767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Jéssica nasceu sem braços, devido a uma rara enfermidade congêni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Como qualquer criança, não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entendia porque  não tinha braços como as demais pesso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Era difícil ser diferent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547560"/>
            <a:ext cx="4010040" cy="57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5280" y="289080"/>
            <a:ext cx="8280360" cy="6308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454560" y="5154480"/>
            <a:ext cx="47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"Sei que será difícil ter uma familia, mas sei que serei uma boa mã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94172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Jéssica espera casar-se e ter filh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848360" cy="5977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1577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E diz entre ris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501336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ifícil vai ser para o pretendente pedir minha “mão” a meus p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1640" y="581040"/>
            <a:ext cx="37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ão tenho braços, mas não é isso que determina até onde eu posso chegar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7840" y="2924280"/>
            <a:ext cx="381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"Nosso temor mais profundo não é que sejamos insuficientes, é que sejamos poderosos além da medida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476280"/>
            <a:ext cx="45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o ser humano precisa ter momentos baixos na vida, para sentir, ainda mais fortes, os momentos emocionant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61008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Quanto maior for a dificuldade, maior será a glori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91520" cy="597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46200" y="47628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 a você, o que te faz falta para “tocar” o cé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6157800"/>
            <a:ext cx="57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Traduzido do Espanhol por SC Antonio Rodrig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4720" y="431640"/>
            <a:ext cx="4643640" cy="602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35640" y="1860480"/>
            <a:ext cx="324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em embargo, tomou parte em diversas atividades como ginástica, baile e canto para crianças, realizadas em grandes cená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547560"/>
            <a:ext cx="4103640" cy="5689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03640" y="1447920"/>
            <a:ext cx="3456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Quando era jovenzinha se enfadava, batendo os pés e gritando em suas birras por não ter braç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ão obstante, centrou toda sua energia na prática de espo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547560"/>
            <a:ext cx="4103640" cy="5689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75280" y="1928880"/>
            <a:ext cx="338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ara Jéssica, o maior desafio por ter nascido sem braços, mais que a adversidade física, eram as constantes encaradas das pessoa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477720"/>
            <a:ext cx="5400720" cy="367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46134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Porém tinha aprendido a ver o lado positivo dessas situações que me deram a oportunidade de utilizar esse canal de vibrações positivas e ser um exemplo de otimismo.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627120"/>
            <a:ext cx="26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“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Eu me irritava muito quando as pessoas me olhavam caminhando pela rua ou pela  maneira de comer com os pé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76360" y="479520"/>
            <a:ext cx="5904000" cy="3454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1280" y="4238640"/>
            <a:ext cx="7777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Seus pais foram seus modelos de conduta e seus pilares de apo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"Minha mãe é meu modelo e sempre me diz que posso fazer qualquer coisa a que eu me propo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622440"/>
            <a:ext cx="5040360" cy="3454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32000" y="4543560"/>
            <a:ext cx="64087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É difícil ser pai de um filho incap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Papai foi minha rocha durante os tempos difíceis e é quem formou a pessoa que eu sou atualment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1640" y="1197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eu pai não derramou uma lágrima quando nasci porque não me vê como uma ví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32000" y="501480"/>
            <a:ext cx="6408720" cy="3648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1280" y="4281480"/>
            <a:ext cx="7991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Quando pela primeira vez aprendeu a diirigir um auto, foi graças ao uso de modificações especia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Sem embargo, depois de ter aprendido bem, decidiu suprimir as modificações e agora é titular de uma permissão para dirigir sem restri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080" y="260280"/>
            <a:ext cx="8604000" cy="6381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1:42:59Z</dcterms:created>
  <dc:creator>Client</dc:creator>
  <dc:description/>
  <dc:language>en-US</dc:language>
  <cp:lastModifiedBy>Antonio</cp:lastModifiedBy>
  <dcterms:modified xsi:type="dcterms:W3CDTF">2009-08-27T17:49:10Z</dcterms:modified>
  <cp:revision>69</cp:revision>
  <dc:subject/>
  <dc:title>Diapositive 1</dc:title>
</cp:coreProperties>
</file>