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Eternit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5D2-718A-492A-8910-B3367A92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A40-A49D-4386-BC3C-FA9B83EC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2A2-585E-4826-8DCB-2DE4DE6C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10C-8486-406A-95AA-1F49042C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543-33B2-4590-9683-DE6724BC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E50-8BB3-44AB-8A24-2087DC67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6C7-61D4-4347-BC7B-07E1289F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65B-2000-4767-9831-BD53B7D8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BAC-5D4D-4568-9AE8-CD65BE1F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29B-A9D9-4045-BF26-98E49E59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A43-433A-4475-A434-7AE0AFD8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704-1CE6-4847-9FC0-331276C6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FCF6-7902-4709-8991-67A1483A2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Eternit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3219480"/>
            <a:ext cx="739152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noFill/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Deus</a:t>
            </a:r>
            <a:endParaRPr b="1" lang="en-US" sz="9600" spc="1" strike="noStrike">
              <a:ln w="0">
                <a:noFill/>
              </a:ln>
              <a:noFill/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8776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Bar dir="vert"/>
    <p:sndAc>
      <p:stSnd>
        <p:snd r:embed="rId2" name="Ernesto%20Cortazar%20-%20Eternit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89260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Alguma vez estiveste numa situação muito problemática sem teres a menor idéia de como  resolver e de repente a solução aparece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1780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É DE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que toma os nossos problemas nas Suas Mã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92600"/>
            <a:ext cx="9144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Alguma vez sentiste uma imensa tristeza na alma e de repente é como se um bálsamo fosse derramado e uma paz inexplicável invade teu ser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91780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É DE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que te consola com um abraço e te dá esperanç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9548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Alguma vez te sentiste tão cansado da vida, a ponto de querer morrer... e de repente um dia, sentes que tens força suficiente para continuar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91780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É  DE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que te carrega nos Braços e te dá descans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895480"/>
            <a:ext cx="91440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Tudo é melhor quand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0000"/>
                </a:solidFill>
                <a:latin typeface="Times New Roman"/>
              </a:rPr>
              <a:t>É DEUS QUEM ESTÁ À FRENTE DE TUDO!!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2895480"/>
            <a:ext cx="8991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Pensas que esta mensagem te foi enviada por acaso?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14600"/>
            <a:ext cx="899172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ffff"/>
                </a:solidFill>
                <a:latin typeface="Times New Roman"/>
              </a:rPr>
              <a:t>Foi DEUS que tocou meu cora</a:t>
            </a: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ção e me fez lembrar de ti. Não por ser uma pessoa amiga, ou mesmo colega, até um parente, mas porque és importante para DEUS e para mi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ffff"/>
                </a:solidFill>
                <a:latin typeface="Times New Roman"/>
              </a:rPr>
              <a:t>e eu gosto muito de você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3920"/>
            <a:ext cx="4191120" cy="66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300" spc="-1" strike="noStrike">
                <a:solidFill>
                  <a:srgbClr val="ffffff"/>
                </a:solidFill>
                <a:latin typeface="Times New Roman"/>
              </a:rPr>
              <a:t>Deixa DEUS tocar teu coração e te fazer enviar esta mensagem a todos os teus amigos, colegas, parentes e, até  mesmo, para as pessoas que não são tão amigas assim, para umas que nem se pode chamar de colega, e para aquelas que tu nem chamarias de irmão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09880"/>
            <a:ext cx="9144000" cy="19479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6954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badi MT Condensed Light"/>
              </a:rPr>
              <a:t>Alguma vez sentist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badi MT Condensed Light"/>
              </a:rPr>
              <a:t>o desejo de fazer uma coisa agradável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badi MT Condensed Light"/>
              </a:rPr>
              <a:t>por alguém a quem tens carinho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3505320"/>
            <a:ext cx="8915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Vamos compartilhar o </a:t>
            </a:r>
            <a:r>
              <a:rPr b="1" i="1" lang="es-ES_tradnl" sz="3500" spc="-1" strike="noStrike">
                <a:solidFill>
                  <a:srgbClr val="000099"/>
                </a:solidFill>
                <a:latin typeface="Times New Roman"/>
              </a:rPr>
              <a:t>AMOR  DE DEUS</a:t>
            </a: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89548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ffffff"/>
                </a:solidFill>
                <a:latin typeface="Times New Roman"/>
              </a:rPr>
              <a:t>É DEU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que te fala através do Espírito Sant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89548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Alguma vez sentiste tristeza e solidão, embora parecendo que alguém está ao teu lado?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9548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É DEU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que te acolhe através de Jesus Crist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9260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Alguma vez ao pensares em alguém que te é querido e não vês há muito tempo, acontece que de repente encontras essa pessoa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91780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É DEUS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porque o acaso não exist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89260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Alguma vez recebeste algo maravilhoso que nem  tinhas pedido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91780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É DE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500" spc="-1" strike="noStrike">
                <a:solidFill>
                  <a:srgbClr val="000000"/>
                </a:solidFill>
                <a:latin typeface="Times New Roman"/>
              </a:rPr>
              <a:t>que conhece bem os segredos do teu coraçã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18:07:15Z</dcterms:created>
  <dc:creator>Trad.: mcc@net</dc:creator>
  <dc:description/>
  <dc:language>en-US</dc:language>
  <cp:lastModifiedBy>Newton</cp:lastModifiedBy>
  <dcterms:modified xsi:type="dcterms:W3CDTF">2005-06-18T22:20:36Z</dcterms:modified>
  <cp:revision>23</cp:revision>
  <dc:subject/>
  <dc:title>AlgumaVez</dc:title>
</cp:coreProperties>
</file>