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17A66-E8F0-4144-B640-3C05501F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3968-91C6-44DA-B24F-A9941584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93724-1A42-4670-8795-8524D4BB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035D1-A1E2-4807-B8E7-F1257FBB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F82B-B6E0-4ECE-A43F-F15EBD2C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2BF8-CEC8-43A5-BDBF-07BD888A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8374-720B-4DF4-AB68-0061F68F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2293-6BC1-4911-A1F6-B1D6712E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BAD5-C616-40DA-B4EE-EB472C9D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0FC5-2E95-4F0A-AC36-A9C05228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1604-6AAC-459E-8CAA-AC2AA7D5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CB6B6-0CA8-4A7B-A322-E996EE77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3CD1-BD69-4D0B-B2A1-E1E90AB0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6674-3460-4AA7-A1FE-B70AF519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97CF-D386-44B4-87F1-828B8227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EDC0-BF98-4997-9FE8-9C00D7D9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1145-B972-4621-B045-AADD1184E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54583-DEE1-4EE2-AC49-2650613D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C1C6A-82A5-4995-8116-B0B40823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488E-6061-420E-AAD7-43AA52B8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00268-C84E-4089-A463-2D4A1D48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F5BA0-E911-4956-B7BE-CB2D2011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A32FB-47EE-4D10-8950-CCFBAF38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71BC9-6AE0-4AFC-828B-6D19AB90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68B0-32E8-43E8-82E0-100EB49074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626E-E0CC-4BDD-9516-AFA44F2371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newsdaily.com/stories/tre57h1qb-us-russia-dam/" TargetMode="External"/><Relationship Id="rId3" Type="http://schemas.openxmlformats.org/officeDocument/2006/relationships/hyperlink" Target="http://www.newsdaily.com/stories/tre57h1qb-us-russia-dam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Russian Electic Hydro Power Plant Explosion 13"/>
          <p:cNvPicPr/>
          <p:nvPr/>
        </p:nvPicPr>
        <p:blipFill>
          <a:blip r:embed="rId1"/>
          <a:stretch/>
        </p:blipFill>
        <p:spPr>
          <a:xfrm>
            <a:off x="900000" y="981000"/>
            <a:ext cx="7429680" cy="5251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idente em Usina Hidreletrica na Russ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630864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ayano-Shushenskaya – 17 Agosto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aixaDeTexto 5"/>
          <p:cNvSpPr/>
          <p:nvPr/>
        </p:nvSpPr>
        <p:spPr>
          <a:xfrm>
            <a:off x="1187280" y="6550200"/>
            <a:ext cx="67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Calibri"/>
              </a:rPr>
              <a:t>General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Russian Electic Hydro Power Plant Explosion 12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39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995640" y="2708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513"/>
                </a:solidFill>
                <a:latin typeface="Arial"/>
              </a:rPr>
              <a:t>D U T O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ros 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357800" cy="32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4643280" y="3213000"/>
            <a:ext cx="4332600" cy="3251160"/>
          </a:xfrm>
          <a:prstGeom prst="rect">
            <a:avLst/>
          </a:prstGeom>
          <a:ln w="0">
            <a:noFill/>
          </a:ln>
        </p:spPr>
      </p:pic>
      <p:sp>
        <p:nvSpPr>
          <p:cNvPr id="126" name="CaixaDeTexto 5"/>
          <p:cNvSpPr/>
          <p:nvPr/>
        </p:nvSpPr>
        <p:spPr>
          <a:xfrm>
            <a:off x="4714920" y="1500120"/>
            <a:ext cx="407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nda não se sabe exatamente quantas pessoas foram afetadas pelo acid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aixaDeTexto 6"/>
          <p:cNvSpPr/>
          <p:nvPr/>
        </p:nvSpPr>
        <p:spPr>
          <a:xfrm>
            <a:off x="-252360" y="4724280"/>
            <a:ext cx="464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sina supria 10% das necessidades de energia da Sibe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Indústrias de Alumino consumiam mais que 70% da energia gerada pela us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CaixaDeTexto 6"/>
          <p:cNvSpPr/>
          <p:nvPr/>
        </p:nvSpPr>
        <p:spPr>
          <a:xfrm>
            <a:off x="3924360" y="227664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 U T O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aixaDeTexto 6"/>
          <p:cNvSpPr/>
          <p:nvPr/>
        </p:nvSpPr>
        <p:spPr>
          <a:xfrm>
            <a:off x="2411280" y="249228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GRADO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ixaDeTexto 6"/>
          <p:cNvSpPr/>
          <p:nvPr/>
        </p:nvSpPr>
        <p:spPr>
          <a:xfrm>
            <a:off x="3419640" y="3429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sa de For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aixaDeTexto 6"/>
          <p:cNvSpPr/>
          <p:nvPr/>
        </p:nvSpPr>
        <p:spPr>
          <a:xfrm>
            <a:off x="3276720" y="184464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  E  P  R  E  S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6"/>
          <p:cNvSpPr/>
          <p:nvPr/>
        </p:nvSpPr>
        <p:spPr>
          <a:xfrm>
            <a:off x="5940360" y="38606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la de Cont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866920" y="3429000"/>
            <a:ext cx="5050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2852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92720" y="2852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2852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2360" y="2852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2852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852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2852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2852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2852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1280" y="2852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263700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Turbi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5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1189080" y="0"/>
            <a:ext cx="10333080" cy="6872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2410200">
            <a:off x="7092360" y="249192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 U T O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488800">
            <a:off x="5866560" y="4292280"/>
            <a:ext cx="29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bos de transmi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940000" y="4005360"/>
            <a:ext cx="57636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227280" y="4005360"/>
            <a:ext cx="28908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372000" y="4076640"/>
            <a:ext cx="14436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443280" y="4076640"/>
            <a:ext cx="730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983400">
            <a:off x="4716000" y="1844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GRADO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161200">
            <a:off x="3714120" y="5069880"/>
            <a:ext cx="186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A DE FORÇ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395200">
            <a:off x="2626560" y="3428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form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4149720"/>
            <a:ext cx="720720" cy="792000"/>
          </a:xfrm>
          <a:prstGeom prst="line">
            <a:avLst/>
          </a:prstGeom>
          <a:ln w="25560">
            <a:solidFill>
              <a:srgbClr val="e5f5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Momento do Acid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604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ci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17 de Agosto 2009 ás 08:13h hora local (00:13h GMT - Hora Média de Greenwich), a usina sofreu uma  catastrofica “onda de pressão" conhecida como martelo hidraulico. O golpe repentino da água provocou ejeção da turbina 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 e arrancou todos os equipamentos auxiliares das bases que juntos totalizavam uma massa de 900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água imediatamente inundou a sala das máquinas e das turbinas causando curto-circuito e explosão de um transformador e consequentes danos elétricos nas demais turbi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teto da sala das turbinas desabou avariando as turbinas 3, 4 e 5. As turbinas 7 e 9 soferam danos severos. Apenas a turbina 6 sofreu danos menores por estar parada para reparos no momento do acidente. Foi a única que não sofreu danos elétricos devidos a curto-circuito nos transformadores e poderá voltar a operar mais rapid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23 de agosto as autoridades declararam a morte de 69 pessoas. Seis outras foram declaradas desaparec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ttp://en.wikipedia.org/wiki/2009_Sayano%E2%80%93Shushenskaya_hydroelectric_power_station_acc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1552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ala Antes do Acid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http://static.liga.net/IMAGES/sshg_17_8_9_8_do_.jpg"/>
          <p:cNvPicPr/>
          <p:nvPr/>
        </p:nvPicPr>
        <p:blipFill>
          <a:blip r:embed="rId1"/>
          <a:srcRect l="0" t="0" r="930" b="5459"/>
          <a:stretch/>
        </p:blipFill>
        <p:spPr>
          <a:xfrm>
            <a:off x="0" y="89388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163" name="CaixaDeTexto 6"/>
          <p:cNvSpPr/>
          <p:nvPr/>
        </p:nvSpPr>
        <p:spPr>
          <a:xfrm>
            <a:off x="6804000" y="386064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r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aixaDeTexto 21"/>
          <p:cNvSpPr/>
          <p:nvPr/>
        </p:nvSpPr>
        <p:spPr>
          <a:xfrm>
            <a:off x="1763640" y="6093000"/>
            <a:ext cx="134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Tanque subterran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aixaDeTexto 21"/>
          <p:cNvSpPr/>
          <p:nvPr/>
        </p:nvSpPr>
        <p:spPr>
          <a:xfrm>
            <a:off x="2050920" y="45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nques de Ar-Ól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aixaDeTexto 21"/>
          <p:cNvSpPr/>
          <p:nvPr/>
        </p:nvSpPr>
        <p:spPr>
          <a:xfrm>
            <a:off x="5364000" y="6021360"/>
            <a:ext cx="115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Govern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Pum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Conector de seta reta 16"/>
          <p:cNvCxnSpPr/>
          <p:nvPr/>
        </p:nvCxnSpPr>
        <p:spPr>
          <a:xfrm flipH="1" flipV="1">
            <a:off x="4571280" y="5876640"/>
            <a:ext cx="786600" cy="286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68" name=""/>
          <p:cNvSpPr/>
          <p:nvPr/>
        </p:nvSpPr>
        <p:spPr>
          <a:xfrm>
            <a:off x="6300720" y="6308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so dos g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ixaDeTexto 6"/>
          <p:cNvSpPr/>
          <p:nvPr/>
        </p:nvSpPr>
        <p:spPr>
          <a:xfrm>
            <a:off x="6227640" y="299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nte Rol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24720" y="4149720"/>
            <a:ext cx="7164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24720" y="4149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164000" y="4149720"/>
            <a:ext cx="360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987640" y="6021360"/>
            <a:ext cx="9367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4653000"/>
            <a:ext cx="43164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2600" y="457200"/>
            <a:ext cx="771516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es do Acid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aixaDeTexto 4"/>
          <p:cNvSpPr/>
          <p:nvPr/>
        </p:nvSpPr>
        <p:spPr>
          <a:xfrm>
            <a:off x="1214280" y="6357960"/>
            <a:ext cx="67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Calibri"/>
              </a:rPr>
              <a:t>Generator Ru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rcRect l="0" t="10438" r="0" b="0"/>
          <a:stretch/>
        </p:blipFill>
        <p:spPr>
          <a:xfrm>
            <a:off x="285840" y="857160"/>
            <a:ext cx="8572320" cy="5500800"/>
          </a:xfrm>
          <a:prstGeom prst="rect">
            <a:avLst/>
          </a:prstGeom>
          <a:ln w="0">
            <a:noFill/>
          </a:ln>
        </p:spPr>
      </p:pic>
      <p:sp>
        <p:nvSpPr>
          <p:cNvPr id="178" name="CaixaDeTexto 21"/>
          <p:cNvSpPr/>
          <p:nvPr/>
        </p:nvSpPr>
        <p:spPr>
          <a:xfrm>
            <a:off x="3276720" y="2349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otor do Gerador n</a:t>
            </a:r>
            <a:r>
              <a:rPr b="1" lang="en-US" sz="1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5084640"/>
            <a:ext cx="5473800" cy="1224000"/>
          </a:xfrm>
          <a:prstGeom prst="ellipse">
            <a:avLst/>
          </a:prstGeom>
          <a:noFill/>
          <a:ln w="2232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aixaDeTexto 21"/>
          <p:cNvSpPr/>
          <p:nvPr/>
        </p:nvSpPr>
        <p:spPr>
          <a:xfrm>
            <a:off x="3132000" y="551664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 acidente começou aq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11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21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716360" y="4221000"/>
            <a:ext cx="0" cy="2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64000" y="4221000"/>
            <a:ext cx="0" cy="2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ler Cr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enheiro Consultor – Turb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fael Ces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enheiro Meca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sil – 24 Agost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 e Adap: Gilson Card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6613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780000" y="1268280"/>
            <a:ext cx="3600360" cy="1800360"/>
          </a:xfrm>
          <a:prstGeom prst="ellipse">
            <a:avLst/>
          </a:prstGeom>
          <a:noFill/>
          <a:ln w="381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67280" y="3141720"/>
            <a:ext cx="2160360" cy="1871640"/>
          </a:xfrm>
          <a:prstGeom prst="ellipse">
            <a:avLst/>
          </a:prstGeom>
          <a:noFill/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80360" y="19890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ff00"/>
                </a:solidFill>
                <a:latin typeface="Arial"/>
              </a:rPr>
              <a:t>Uni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72360" y="3789360"/>
            <a:ext cx="93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Units 7 and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4500360" y="2420640"/>
            <a:ext cx="215640" cy="576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508720" y="2420640"/>
            <a:ext cx="287280" cy="647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148360" y="2276640"/>
            <a:ext cx="0" cy="720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364000" y="3284640"/>
            <a:ext cx="216000" cy="5047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357720"/>
            <a:ext cx="216000" cy="431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32360" y="3573360"/>
            <a:ext cx="2872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76720" y="4005360"/>
            <a:ext cx="287280" cy="431640"/>
          </a:xfrm>
          <a:custGeom>
            <a:avLst/>
            <a:gdLst>
              <a:gd name="textAreaLeft" fmla="*/ 38520 w 287280"/>
              <a:gd name="textAreaRight" fmla="*/ 248760 w 287280"/>
              <a:gd name="textAreaTop" fmla="*/ 75600 h 431640"/>
              <a:gd name="textAreaBottom" fmla="*/ 3132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>
              <a:alpha val="8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500720" y="3933360"/>
            <a:ext cx="0" cy="360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580000" y="3933360"/>
            <a:ext cx="0" cy="360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148360" y="4868640"/>
            <a:ext cx="71280" cy="431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867280" y="5300640"/>
            <a:ext cx="433440" cy="730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67183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084720" y="350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F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6360" y="342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F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rcesario\Meus documentos\Acidente - Usina da Rússia\imagem03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00760"/>
          </a:xfrm>
          <a:prstGeom prst="rect">
            <a:avLst/>
          </a:prstGeom>
          <a:ln w="0">
            <a:noFill/>
          </a:ln>
        </p:spPr>
      </p:pic>
      <p:sp>
        <p:nvSpPr>
          <p:cNvPr id="205" name="Elipse 4"/>
          <p:cNvSpPr/>
          <p:nvPr/>
        </p:nvSpPr>
        <p:spPr>
          <a:xfrm>
            <a:off x="3000240" y="2428920"/>
            <a:ext cx="1071720" cy="714240"/>
          </a:xfrm>
          <a:prstGeom prst="ellipse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lipse 6"/>
          <p:cNvSpPr/>
          <p:nvPr/>
        </p:nvSpPr>
        <p:spPr>
          <a:xfrm>
            <a:off x="1042920" y="2060640"/>
            <a:ext cx="7923240" cy="722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lipse 7"/>
          <p:cNvSpPr/>
          <p:nvPr/>
        </p:nvSpPr>
        <p:spPr>
          <a:xfrm>
            <a:off x="4427640" y="1428840"/>
            <a:ext cx="792000" cy="487440"/>
          </a:xfrm>
          <a:prstGeom prst="ellipse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lipse 8"/>
          <p:cNvSpPr/>
          <p:nvPr/>
        </p:nvSpPr>
        <p:spPr>
          <a:xfrm>
            <a:off x="5292720" y="1214280"/>
            <a:ext cx="503280" cy="414360"/>
          </a:xfrm>
          <a:prstGeom prst="ellipse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aixaDeTexto 9"/>
          <p:cNvSpPr/>
          <p:nvPr/>
        </p:nvSpPr>
        <p:spPr>
          <a:xfrm>
            <a:off x="4500720" y="450864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Unit 9: destro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aixaDeTexto 9"/>
          <p:cNvSpPr/>
          <p:nvPr/>
        </p:nvSpPr>
        <p:spPr>
          <a:xfrm>
            <a:off x="5364000" y="2349360"/>
            <a:ext cx="16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Turbina 7: destru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lipse 6"/>
          <p:cNvSpPr/>
          <p:nvPr/>
        </p:nvSpPr>
        <p:spPr>
          <a:xfrm rot="208800">
            <a:off x="-1692360" y="3933360"/>
            <a:ext cx="10620360" cy="2157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0" y="60012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213" name="CaixaDeTexto 11"/>
          <p:cNvSpPr/>
          <p:nvPr/>
        </p:nvSpPr>
        <p:spPr>
          <a:xfrm>
            <a:off x="4427640" y="393372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Cross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aixaDeTexto 21"/>
          <p:cNvSpPr/>
          <p:nvPr/>
        </p:nvSpPr>
        <p:spPr>
          <a:xfrm>
            <a:off x="1692360" y="1989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ump T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aixaDeTexto 21"/>
          <p:cNvSpPr/>
          <p:nvPr/>
        </p:nvSpPr>
        <p:spPr>
          <a:xfrm>
            <a:off x="539640" y="2781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anque de Óleo-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rcesario\Meus documentos\Acidente - Usina da Rússia\imagem06.JPG"/>
          <p:cNvPicPr/>
          <p:nvPr/>
        </p:nvPicPr>
        <p:blipFill>
          <a:blip r:embed="rId1"/>
          <a:stretch/>
        </p:blipFill>
        <p:spPr>
          <a:xfrm>
            <a:off x="0" y="552600"/>
            <a:ext cx="9144000" cy="5992560"/>
          </a:xfrm>
          <a:prstGeom prst="rect">
            <a:avLst/>
          </a:prstGeom>
          <a:ln w="0">
            <a:noFill/>
          </a:ln>
        </p:spPr>
      </p:pic>
      <p:sp>
        <p:nvSpPr>
          <p:cNvPr id="217" name="CaixaDeTexto 21"/>
          <p:cNvSpPr/>
          <p:nvPr/>
        </p:nvSpPr>
        <p:spPr>
          <a:xfrm>
            <a:off x="468360" y="220500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urbina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aixaDeTexto 8"/>
          <p:cNvSpPr/>
          <p:nvPr/>
        </p:nvSpPr>
        <p:spPr>
          <a:xfrm>
            <a:off x="2771640" y="42210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urbina 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285840" y="798480"/>
            <a:ext cx="8577000" cy="5654880"/>
          </a:xfrm>
          <a:prstGeom prst="rect">
            <a:avLst/>
          </a:prstGeom>
          <a:ln w="0">
            <a:noFill/>
          </a:ln>
        </p:spPr>
      </p:pic>
      <p:sp>
        <p:nvSpPr>
          <p:cNvPr id="220" name="CaixaDeTexto 4"/>
          <p:cNvSpPr/>
          <p:nvPr/>
        </p:nvSpPr>
        <p:spPr>
          <a:xfrm>
            <a:off x="1214280" y="6357960"/>
            <a:ext cx="67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Calibri"/>
              </a:rPr>
              <a:t>Generator flo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71516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ós o Acid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21"/>
          <p:cNvSpPr/>
          <p:nvPr/>
        </p:nvSpPr>
        <p:spPr>
          <a:xfrm>
            <a:off x="1258920" y="314172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anques de Ar-Ól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aixaDeTexto 21"/>
          <p:cNvSpPr/>
          <p:nvPr/>
        </p:nvSpPr>
        <p:spPr>
          <a:xfrm>
            <a:off x="3571920" y="25718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Tanque subtrran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aixaDeTexto 18"/>
          <p:cNvSpPr/>
          <p:nvPr/>
        </p:nvSpPr>
        <p:spPr>
          <a:xfrm>
            <a:off x="6732720" y="4797360"/>
            <a:ext cx="138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Crosshead – Uni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aixaDeTexto 21"/>
          <p:cNvSpPr/>
          <p:nvPr/>
        </p:nvSpPr>
        <p:spPr>
          <a:xfrm>
            <a:off x="3635280" y="4581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nel cole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6000" y="4941720"/>
            <a:ext cx="504720" cy="43200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aixaDeTexto 18"/>
          <p:cNvSpPr/>
          <p:nvPr/>
        </p:nvSpPr>
        <p:spPr>
          <a:xfrm>
            <a:off x="5219640" y="537372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urbin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924000" y="2852640"/>
            <a:ext cx="360360" cy="576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476360" y="3500280"/>
            <a:ext cx="287280" cy="649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5280" y="3500280"/>
            <a:ext cx="1584360" cy="216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6720" y="2565360"/>
            <a:ext cx="360360" cy="1295280"/>
          </a:xfrm>
          <a:custGeom>
            <a:avLst/>
            <a:gdLst/>
            <a:ahLst/>
            <a:rect l="l" t="t" r="r" b="b"/>
            <a:pathLst>
              <a:path w="227" h="816">
                <a:moveTo>
                  <a:pt x="227" y="0"/>
                </a:moveTo>
                <a:lnTo>
                  <a:pt x="181" y="816"/>
                </a:lnTo>
                <a:lnTo>
                  <a:pt x="0" y="816"/>
                </a:lnTo>
                <a:lnTo>
                  <a:pt x="45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aixaDeTexto 18"/>
          <p:cNvSpPr/>
          <p:nvPr/>
        </p:nvSpPr>
        <p:spPr>
          <a:xfrm>
            <a:off x="3924360" y="371628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urbina 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48360" y="3776760"/>
            <a:ext cx="1668240" cy="672840"/>
          </a:xfrm>
          <a:custGeom>
            <a:avLst/>
            <a:gdLst/>
            <a:ahLst/>
            <a:rect l="l" t="t" r="r" b="b"/>
            <a:pathLst>
              <a:path w="1051" h="424">
                <a:moveTo>
                  <a:pt x="0" y="235"/>
                </a:moveTo>
                <a:cubicBezTo>
                  <a:pt x="94" y="163"/>
                  <a:pt x="189" y="91"/>
                  <a:pt x="272" y="53"/>
                </a:cubicBezTo>
                <a:cubicBezTo>
                  <a:pt x="355" y="15"/>
                  <a:pt x="416" y="0"/>
                  <a:pt x="499" y="8"/>
                </a:cubicBezTo>
                <a:cubicBezTo>
                  <a:pt x="582" y="16"/>
                  <a:pt x="688" y="39"/>
                  <a:pt x="771" y="99"/>
                </a:cubicBezTo>
                <a:cubicBezTo>
                  <a:pt x="854" y="159"/>
                  <a:pt x="960" y="333"/>
                  <a:pt x="998" y="371"/>
                </a:cubicBezTo>
                <a:cubicBezTo>
                  <a:pt x="1036" y="409"/>
                  <a:pt x="991" y="318"/>
                  <a:pt x="998" y="325"/>
                </a:cubicBezTo>
                <a:cubicBezTo>
                  <a:pt x="1005" y="332"/>
                  <a:pt x="1051" y="408"/>
                  <a:pt x="1043" y="416"/>
                </a:cubicBezTo>
                <a:cubicBezTo>
                  <a:pt x="1035" y="424"/>
                  <a:pt x="952" y="371"/>
                  <a:pt x="952" y="371"/>
                </a:cubicBezTo>
                <a:cubicBezTo>
                  <a:pt x="952" y="371"/>
                  <a:pt x="997" y="393"/>
                  <a:pt x="1043" y="416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aixaDeTexto 21"/>
          <p:cNvSpPr/>
          <p:nvPr/>
        </p:nvSpPr>
        <p:spPr>
          <a:xfrm>
            <a:off x="4211640" y="321300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Asssoal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000"/>
                            </p:stCondLst>
                            <p:childTnLst>
                              <p:par>
                                <p:cTn id="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Documents and Settings\rcesario\Meus documentos\Acidente - Usina da Rússia\imagem05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aixaDeTexto 4"/>
          <p:cNvSpPr/>
          <p:nvPr/>
        </p:nvSpPr>
        <p:spPr>
          <a:xfrm>
            <a:off x="1214280" y="6357960"/>
            <a:ext cx="67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Calibri"/>
              </a:rPr>
              <a:t>General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246240" y="785880"/>
            <a:ext cx="8611920" cy="5572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484360" y="3573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500360" y="5013360"/>
            <a:ext cx="431640" cy="5032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987280" y="4221000"/>
            <a:ext cx="360360" cy="216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508720" y="3716280"/>
            <a:ext cx="358560" cy="36036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242200" cy="5572080"/>
          </a:xfrm>
          <a:prstGeom prst="rect">
            <a:avLst/>
          </a:prstGeom>
          <a:ln w="0">
            <a:noFill/>
          </a:ln>
        </p:spPr>
      </p:pic>
      <p:sp>
        <p:nvSpPr>
          <p:cNvPr id="243" name="CaixaDeTexto 6"/>
          <p:cNvSpPr/>
          <p:nvPr/>
        </p:nvSpPr>
        <p:spPr>
          <a:xfrm>
            <a:off x="1214280" y="6357960"/>
            <a:ext cx="67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Calibri"/>
              </a:rPr>
              <a:t>General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60012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45" name="CaixaDeTexto 21"/>
          <p:cNvSpPr/>
          <p:nvPr/>
        </p:nvSpPr>
        <p:spPr>
          <a:xfrm>
            <a:off x="6858000" y="3286080"/>
            <a:ext cx="2000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ancal superior do Rotor do ger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Conector de seta reta 5"/>
          <p:cNvCxnSpPr/>
          <p:nvPr/>
        </p:nvCxnSpPr>
        <p:spPr>
          <a:xfrm flipH="1">
            <a:off x="5714280" y="3714840"/>
            <a:ext cx="1429560" cy="7149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seminar alguns aspectos gerais e tecnicos do acid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ender o acontecimento e previnir ocorrencias semelhantes futu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677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125440" y="321300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f513"/>
                </a:solidFill>
                <a:latin typeface="Arial"/>
              </a:rPr>
              <a:t>Restos do r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0" y="611280"/>
            <a:ext cx="9144000" cy="5922720"/>
          </a:xfrm>
          <a:prstGeom prst="rect">
            <a:avLst/>
          </a:prstGeom>
          <a:ln w="0">
            <a:noFill/>
          </a:ln>
        </p:spPr>
      </p:pic>
      <p:sp>
        <p:nvSpPr>
          <p:cNvPr id="250" name="CaixaDeTexto 21"/>
          <p:cNvSpPr/>
          <p:nvPr/>
        </p:nvSpPr>
        <p:spPr>
          <a:xfrm>
            <a:off x="6500880" y="142884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Barramento sel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Conector de seta reta 10"/>
          <p:cNvCxnSpPr/>
          <p:nvPr/>
        </p:nvCxnSpPr>
        <p:spPr>
          <a:xfrm flipH="1">
            <a:off x="6000120" y="1856880"/>
            <a:ext cx="786600" cy="107244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0" y="60012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53" name="CaixaDeTexto 4"/>
          <p:cNvSpPr/>
          <p:nvPr/>
        </p:nvSpPr>
        <p:spPr>
          <a:xfrm>
            <a:off x="5724360" y="155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Assembly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Conector de seta reta 5"/>
          <p:cNvCxnSpPr/>
          <p:nvPr/>
        </p:nvCxnSpPr>
        <p:spPr>
          <a:xfrm flipH="1">
            <a:off x="5214600" y="1857240"/>
            <a:ext cx="929520" cy="5724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55" name="Conector de seta reta 8"/>
          <p:cNvCxnSpPr/>
          <p:nvPr/>
        </p:nvCxnSpPr>
        <p:spPr>
          <a:xfrm>
            <a:off x="6500880" y="1856880"/>
            <a:ext cx="643320" cy="71532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56" name="CaixaDeTexto 14"/>
          <p:cNvSpPr/>
          <p:nvPr/>
        </p:nvSpPr>
        <p:spPr>
          <a:xfrm>
            <a:off x="3492360" y="515772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Smaller Runner Generator’s Po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Conector de seta reta 15"/>
          <p:cNvCxnSpPr>
            <a:stCxn id="256" idx="3"/>
          </p:cNvCxnSpPr>
          <p:nvPr/>
        </p:nvCxnSpPr>
        <p:spPr>
          <a:xfrm>
            <a:off x="5492880" y="5416200"/>
            <a:ext cx="714960" cy="990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58" name="CaixaDeTexto 19"/>
          <p:cNvSpPr/>
          <p:nvPr/>
        </p:nvSpPr>
        <p:spPr>
          <a:xfrm>
            <a:off x="714240" y="20718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Cross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Conector de seta reta 20"/>
          <p:cNvCxnSpPr/>
          <p:nvPr/>
        </p:nvCxnSpPr>
        <p:spPr>
          <a:xfrm flipH="1">
            <a:off x="928440" y="2499840"/>
            <a:ext cx="357840" cy="13582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60" name="CaixaDeTexto 4"/>
          <p:cNvSpPr/>
          <p:nvPr/>
        </p:nvSpPr>
        <p:spPr>
          <a:xfrm>
            <a:off x="5508720" y="83664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Cr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aixaDeTexto 4"/>
          <p:cNvSpPr/>
          <p:nvPr/>
        </p:nvSpPr>
        <p:spPr>
          <a:xfrm>
            <a:off x="1979640" y="6093000"/>
            <a:ext cx="22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ownstream crane r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8000" y="6237360"/>
            <a:ext cx="187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-39672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500720" y="2205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513"/>
                </a:solidFill>
                <a:latin typeface="Arial"/>
              </a:rPr>
              <a:t>Transfor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0" y="60012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66" name="CaixaDeTexto 4"/>
          <p:cNvSpPr/>
          <p:nvPr/>
        </p:nvSpPr>
        <p:spPr>
          <a:xfrm>
            <a:off x="1403280" y="278136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ransform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aixaDeTexto 4"/>
          <p:cNvSpPr/>
          <p:nvPr/>
        </p:nvSpPr>
        <p:spPr>
          <a:xfrm>
            <a:off x="5292720" y="292428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uportes do T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292360" y="3213000"/>
            <a:ext cx="358920" cy="1447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51640" y="3213000"/>
            <a:ext cx="1873080" cy="432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651640" y="3213000"/>
            <a:ext cx="504720" cy="136836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" descr="C:\Documents and Settings\rcesario\Desktop\article-1207093-0616CB97000005DC-952_634x465.jpg"/>
          <p:cNvPicPr/>
          <p:nvPr/>
        </p:nvPicPr>
        <p:blipFill>
          <a:blip r:embed="rId1"/>
          <a:stretch/>
        </p:blipFill>
        <p:spPr>
          <a:xfrm>
            <a:off x="0" y="60012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72" name="CaixaDeTexto 4"/>
          <p:cNvSpPr/>
          <p:nvPr/>
        </p:nvSpPr>
        <p:spPr>
          <a:xfrm>
            <a:off x="1692360" y="386064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aixaDeTexto 4"/>
          <p:cNvSpPr/>
          <p:nvPr/>
        </p:nvSpPr>
        <p:spPr>
          <a:xfrm>
            <a:off x="6012000" y="206064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0" y="60012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quenci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50920" y="1196640"/>
            <a:ext cx="475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6 pessoas mor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tindo deste número, supõe-se que  havia umas 100 pessoas na casa de força. Normalmente, mesmo durante trabalhos  de manutenção, não ha tantas pessoa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que havia tanta g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822920" y="3429000"/>
            <a:ext cx="4321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C:\Documents and Settings\rcesario\Meus documentos\Acidente - Usina da Rússia\imagem04.JPG"/>
          <p:cNvPicPr/>
          <p:nvPr/>
        </p:nvPicPr>
        <p:blipFill>
          <a:blip r:embed="rId1"/>
          <a:stretch/>
        </p:blipFill>
        <p:spPr>
          <a:xfrm>
            <a:off x="6572160" y="3083040"/>
            <a:ext cx="2476440" cy="37036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qu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50920" y="1773000"/>
            <a:ext cx="605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danos custarão ao menos  US$ 310 milh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 longo tempo (em torno de 20 meses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reparar os d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dução de mais de 500 mil Ton de aluminio serão perd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a grande massa de Oleo contaminou as aguas do 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sta analise é preliminar, e foi baseada apenas nos filmes e fotografias feitos logo após uma semana decorrida do acidente. Assim, somente hipoteses são aqui apresent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95280" y="1125360"/>
            <a:ext cx="822960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is hipoteses acerca da sequencia do acid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Observação: São hipoteses preliminares baseadas apenas nas fotografia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ntino fechamento da comporta da turbina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e martelo hidraulico na carcaça e no duto, causando o colapso de amb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orno da onda de choque causando a destruição da estruturas de concreto acima da carcaça da turb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ão das águas ascendentes na casa de força causando elevação e projeção das estruturas e outras par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ápida inundação da casa de for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binas 7 e 9, sem cobertura em alta velocidade e com os geradores expostos á inund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ítulo 1"/>
          <p:cNvSpPr/>
          <p:nvPr/>
        </p:nvSpPr>
        <p:spPr>
          <a:xfrm>
            <a:off x="324000" y="26028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- Cau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5280" y="1268280"/>
            <a:ext cx="822960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oteses acerca das causas do súbito bloqueio da águ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a peça grande teria penetrado na turbuina e prendeu-se por não poder passar pelas palhetas da turb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eça teria girado com a turbina golpeando as palhetas da valvula de admissão causando o seu fechamento em uma fração de seg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eça pode ter sido: um tronco de arvore que passou pela grade de contenção, ou uma das palhetas fixas ou moveis que solta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 (menos provavelment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ptura da tubulação de oleo do servomotor de que movimenta a valvula-palheta de admissão de água à turb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ptura sequencial dos links da valvula-palheta, e consequente fechamento da valvula o por pressão da ág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ítulo 1"/>
          <p:cNvSpPr/>
          <p:nvPr/>
        </p:nvSpPr>
        <p:spPr>
          <a:xfrm>
            <a:off x="324000" y="26028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- Cau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rcesario\Meus documentos\Acidente - Usina da Rússia\imagem02.JPG"/>
          <p:cNvPicPr/>
          <p:nvPr/>
        </p:nvPicPr>
        <p:blipFill>
          <a:blip r:embed="rId1"/>
          <a:stretch/>
        </p:blipFill>
        <p:spPr>
          <a:xfrm>
            <a:off x="1403280" y="2276640"/>
            <a:ext cx="6551640" cy="42894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11280" y="692280"/>
            <a:ext cx="813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ca de Viti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balhos Prelimin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:\Documents and Settings\rcesario\Meus documentos\Acidente - Usina da Rússia\imagem07.JPG"/>
          <p:cNvPicPr/>
          <p:nvPr/>
        </p:nvPicPr>
        <p:blipFill>
          <a:blip r:embed="rId1"/>
          <a:stretch/>
        </p:blipFill>
        <p:spPr>
          <a:xfrm>
            <a:off x="0" y="528480"/>
            <a:ext cx="9144000" cy="59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" descr=""/>
          <p:cNvPicPr/>
          <p:nvPr/>
        </p:nvPicPr>
        <p:blipFill>
          <a:blip r:embed="rId1"/>
          <a:stretch/>
        </p:blipFill>
        <p:spPr>
          <a:xfrm>
            <a:off x="0" y="600120"/>
            <a:ext cx="914400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rcRect l="0" t="7828" r="0" b="0"/>
          <a:stretch/>
        </p:blipFill>
        <p:spPr>
          <a:xfrm>
            <a:off x="4643280" y="3754440"/>
            <a:ext cx="4357800" cy="30034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9528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ttp://www.dailymail.co.uk/news/worldnews/article-1207093/Accident-Russias-biggest-hydroelectric-plant-leaves-seven-workers-dea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newsdaily.com/stories/tre57h1qb-us-russia-da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ttp://news.bbc.co.uk/2/hi/europe/8204860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ttp://englishrussia.com/?p=48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ww.1tv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899320" y="2000160"/>
            <a:ext cx="3101760" cy="4748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- Dados das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227628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dade de Máquinas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de turbina:Francis (16 palhe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cia: 650 MW 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zão de descarga: 358,5 m³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90.600 T/h (m³/h)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dade nominal: 142,86 r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ura Líquida: 19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da: 19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o: 156 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metro: 6,77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– Alguns Dados da Hidrelét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a das maiores hidroelétricas do mundo cuja represa se eleva a 245m e cuja extensão é de 1 km cortando o rio Yenise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erta em 1978,  a usina gerava um quarto de toda a energia hidreletrica produzida no país e era o maior supridor de duas grandes companhias metalurgicas do setor de  aluminio da United Company RUSAL, o maior produtor mundial de aluimí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Hidrelétrica se localiza no rio Yenisei, proximo à cidade de Sayanogorsk na República da Cacássia, Russia. Antes do acidente a usina era a maior geradora da Russia e a sexta maior hidreletrrica do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2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627280" y="42210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46800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830160"/>
            <a:ext cx="914400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17:33:18Z</dcterms:created>
  <dc:creator>rcesario</dc:creator>
  <dc:description/>
  <cp:keywords>acidente hidroeletrica matelo-hidraulico</cp:keywords>
  <dc:language>en-US</dc:language>
  <cp:lastModifiedBy>Braskem</cp:lastModifiedBy>
  <dcterms:modified xsi:type="dcterms:W3CDTF">2009-09-13T18:46:06Z</dcterms:modified>
  <cp:revision>179</cp:revision>
  <dc:subject>Acidente em Usina hidroeletrica</dc:subject>
  <dc:title>Acidente em Hidroeletrica na Russia</dc:title>
</cp:coreProperties>
</file>