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16E-B4F9-4192-9AFE-22689245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58F9-12CB-4CC9-B3F9-4E245034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BD81-C964-444B-83E1-22C012D5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71D-0CB4-4594-AD1D-259A67BD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BC2B-E727-4163-A446-DECDFC72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AD8D-07CF-4F68-AC9D-1A32D0F2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798C-5053-4062-84E5-4C316ED5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91E1-81E3-4FA8-B081-D4E65AA8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EB93-75AE-4939-B9D6-591E48F4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5927-7246-4F4B-A516-7EC40B17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0629-1D41-4577-AE41-83886CAD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1489-284B-41EA-B122-1B476E6D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194A-4E77-49DD-BE3B-BF9CE714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0402-5846-4580-92CC-5EF13F72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5486-5F3C-47F8-A7BA-475006F4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A0B1-C725-4C8A-9AE2-E8482BBC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82A5-8656-4363-BCD5-7A6FA644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4340-6944-4704-9027-FAF28177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D28-CBB7-4C7A-8159-09C0ADF9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ABC-4693-42F2-86B7-6416CF62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FC9-E8B0-418D-B84B-79E2B43F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748-83BC-498B-BB54-4D915D15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DF0-BDD6-423D-BC7B-A9DF0D16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2A1-211F-4B2E-B1AB-CB6400C2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2626-6D39-47ED-AF5D-B320BA6C6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3DC4-DFF3-4713-8776-8F52F0C93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ffffff"/>
                </a:solidFill>
                <a:latin typeface="Verdana"/>
              </a:rPr>
              <a:t>Coisas que o seu celular pode fazer: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Verdana"/>
              </a:rPr>
              <a:t>#1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O número de emergência em todo o  mundo é 112. Este número pode ser marcado mesmo que o celular esteja bloqueado ou sem saldo. Experimente!!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Verdana"/>
              </a:rPr>
              <a:t>#2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Fechou o carro e deixou a chave lá dentro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Está a milhas de casa onde tem outro controle remoto para abrir o carro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Pois bem. A solução está em fazer uma chamada para casa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Alguém que aproxime o controle remoto ao telefone e acione-o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Tem de manter o seu celular próximo da porta do carro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Quando alguém em casa aciona o comando, o carro abre!!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Verdana"/>
              </a:rPr>
              <a:t>#3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A bateria do celular descarregou-se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Todos os celulares têm uma reserva de carga na sua bateri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Ao digitar *3370# automaticamente é ativada a reserva dando até cerca de 50% de energia adiciona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Quando voltar a recarregar o celular  automaticamente voltará a carregar esse suplemento de energia podendo ser utilizado outra vez!!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Verdana"/>
              </a:rPr>
              <a:t>#4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mo desativar um celular roubado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imeiro tem de saber o número de série do celular (IMEI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ara o encontrar digite: *#06#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Ao digitar aparece no mostrador 15 dígitos. Este é o número de série do telefon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Escreva-o e guarde-o  num lugar seguro e contacte a sua operadora para cancelar ou anular o telefon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ando dá esse número, ninguém poderá usar o telefone porque o desativaram. Mesmo que troquem de cartão não funcionará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Verdana"/>
              </a:rPr>
              <a:t>Partilhe esta informação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Verdana"/>
              </a:rPr>
              <a:t>Este é um e-mail que toda a gente gostará de receber!!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9:05:04Z</dcterms:created>
  <dc:creator>Aracely</dc:creator>
  <dc:description/>
  <dc:language>en-US</dc:language>
  <cp:lastModifiedBy>J</cp:lastModifiedBy>
  <dcterms:modified xsi:type="dcterms:W3CDTF">2007-11-23T20:10:12Z</dcterms:modified>
  <cp:revision>8</cp:revision>
  <dc:subject/>
  <dc:title>Cosas que tu teléfono portátil puede hacer </dc:title>
</cp:coreProperties>
</file>