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EB87-B46C-49FC-85DD-ADC53AD8A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2788-C0CE-41FF-A172-D5CB039A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A3DF-A57D-4100-A54D-E2E7E4407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0A18-3D4F-4C31-B58B-87D05C779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CB5C-32C7-49BA-8658-B56BD4EB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F6DC-2DFC-4D0D-AE85-A08E0EFD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CE4E-E1A3-44D5-AAEF-A9BE0A8D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5DD3-00F9-4589-8321-09D7CB92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C2C0-BBAE-4496-A3B0-3B33FC03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644B-1EC6-4A41-BFB5-8BB1A33D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3ED4-41EE-4C5D-8349-95C64E49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53BF-AEF7-4A92-86CE-08BFEC78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D446-9139-4C66-AA16-032D95A7E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1660680"/>
            <a:ext cx="8153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ffff"/>
                </a:solidFill>
                <a:latin typeface="Arial"/>
              </a:rPr>
              <a:t>MOTORISTA DO LULA... </a:t>
            </a:r>
            <a:br>
              <a:rPr sz="9000"/>
            </a:b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2120" y="685800"/>
            <a:ext cx="7848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 Lula e seu chofer passavam por uma estrada quando, subitamente, atropelaram um cachorro, matando-o. Imediatamente Lula disse ao motorista que fosse até a fazenda explicar o ocorrido ao dono do animal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304920"/>
            <a:ext cx="8458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Uma hora mais tarde, Lula vê seu chofer voltar cambaleando, com um charuto Monte Cristo nº 1 numa mão e com uma garrafa de Johnny Walker na outra, além da roupa toda amarrotada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419720"/>
            <a:ext cx="800100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"- O que aconteceu?" 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perguntou Lula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00200" y="380880"/>
            <a:ext cx="6019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O motorista respondeu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981080"/>
            <a:ext cx="8001000" cy="4360320"/>
          </a:xfrm>
          <a:prstGeom prst="rect">
            <a:avLst/>
          </a:prstGeom>
          <a:solidFill>
            <a:srgbClr val="ff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"- Bem, o fazendeiro me deu o trago ... Sua mulher me deu o charuto... </a:t>
            </a:r>
            <a:br>
              <a:rPr sz="4000"/>
            </a:b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E sua charmosa filha de 19 anos me encheu de beijinhos e se entregou apaixonadamente a mim!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2280" y="457200"/>
            <a:ext cx="8686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"- Meu Deus! O que você disse para eles?" - perguntou Lula. E o chofer respondeu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2743200"/>
            <a:ext cx="8229600" cy="3751560"/>
          </a:xfrm>
          <a:prstGeom prst="rect">
            <a:avLst/>
          </a:prstGeom>
          <a:solidFill>
            <a:srgbClr val="ff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"- Eu disse: sou o motorista do Lula e acabo de matar o cachorro!!!"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0880" y="457200"/>
            <a:ext cx="2819520" cy="1905120"/>
          </a:xfrm>
          <a:prstGeom prst="wedgeRoundRectCallout">
            <a:avLst>
              <a:gd name="adj1" fmla="val 44370"/>
              <a:gd name="adj2" fmla="val 74333"/>
              <a:gd name="adj3" fmla="val 16667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uta Qu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ariu!!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752560" y="-152280"/>
          <a:ext cx="4257720" cy="437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52560" y="-152280"/>
                    <a:ext cx="4257720" cy="43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9:14:14Z</dcterms:created>
  <dc:creator>CSN</dc:creator>
  <dc:description/>
  <dc:language>en-US</dc:language>
  <cp:lastModifiedBy>pc</cp:lastModifiedBy>
  <dcterms:modified xsi:type="dcterms:W3CDTF">2008-10-13T10:30:29Z</dcterms:modified>
  <cp:revision>2</cp:revision>
  <dc:subject/>
  <dc:title>Slide sem título </dc:title>
</cp:coreProperties>
</file>