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D55-BA0D-4A99-A4D3-09DE712F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EC2-6D3F-44E6-9CCB-4001ED0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300-E761-4ADB-A92A-AA2F24B7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276-6D38-429C-8636-0AAC2314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34D-38CF-4277-9FD7-13D95E1A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E6F-F8AA-42A9-8D44-BB4F96D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C74-5E47-4C16-B6BB-B3EEE544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F60-92F2-4AE6-AFC3-2864271D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8EC-7D2C-44DE-857A-CE6E5D5F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BC3-2DB7-4A00-9009-4385D880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D23-589E-4BF3-84F9-C2C4898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684-0DFA-4541-B392-D167DBA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A589-B38C-42A5-A978-847E3950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 novo Padre da paróquia estava tão nervoso no seu primeiro sermão, que qua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não conseguiu fal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) Existiram 12 Apóstolos e não 10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6) Judas traiu Jesus, não o "sacaneou"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) Jesus foi crucificado, não enforcado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) Tiradentes não tem nada a ver com a históri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) A hóstia não é chicletes; portanto evite tentar fazer bola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) Aquela "casinha" é o confessionário; não o banheir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) Evite apoiar-se na imagem de Nossa Senhora, muito menos abraçá-l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) A iniciativa de chamar o público para cant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    foi louvável, mas fazer trenzinho e correr pela igreja foi demais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) Água benta é para se benzer e não para refrescar a nuc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) Nunca reze a missa sentado na escada do altar;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    muito menos com o pé sobre a Bíblia Sagrad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es do seu segundo sermão, no domingo seguinte, perguntou ao Arcebispo como poder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fazer para relaxar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) As hóstias devem ser distribuídas para o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    fiéis; jamais usadas como aperitivo para acompanhar o vinh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) Procure usar roupas debaixo da batin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) Evite abanar-se com a batina quando estiver com calor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8) Jesus nasceu em Belém, mas isto não significa que ele seja paraens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) Numa missa não se deve fazer perguntas ao públic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) Também não se deve pedir ajuda aos universitários. Até porque eles não sabem nad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21) Quem peca é um pecador; não um "filho da puta"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22) Quem peca vai para o inferno; e não "pra puta que o pariu"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los 45 minutos de missa que acompanhei, notei essas falha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Espero que tais falhas sejam corrigidas já para o próximo domin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tenciosamente,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 O Arcebispo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 P.S.: Uma missa leva em torno de uma hora, e nã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e lhe sugeriu que na próxima vez, colocasse umas gotas de vodka na águ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e que depois de uns goles estaria mais tranqüi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is tempos de 45 minutos cada . E aquele sujeito sentado no cant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 do altar, a quem você se referiu como "travecão de vestido", era eu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domingo seguinte aplicou 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sugestão e sentiu-se tão bem, que poderia falar alto até  no  meio de um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tempestade, de tão feliz e descontraído que se encontrava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ois de regressar à reitoria da Paróquia encontrou uma nota do Arcebispo dizendo-lhe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Prezado Padre, seguem algumas observaçõ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) Na próxima vez, coloque gotas de vodka na água e não gotas de água na vodk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) Não coloque limão e açúcar na borda do cálic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 O manto da imagem de Nosso Senhor Jesus Cristo não deve ser usado como guardanap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5640" y="620640"/>
            <a:ext cx="4897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) Existem 10 Mandamentos e não 1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1:57:20Z</dcterms:created>
  <dc:creator>Luiz Teddo</dc:creator>
  <dc:description/>
  <dc:language>en-US</dc:language>
  <cp:lastModifiedBy>Luiz Teddo</cp:lastModifiedBy>
  <dcterms:modified xsi:type="dcterms:W3CDTF">2006-12-05T12:08:12Z</dcterms:modified>
  <cp:revision>2</cp:revision>
  <dc:subject/>
  <dc:title>O novo Padre da paróquia estava tão nervoso no seu primeiro sermão, que quase  não conseguiu falar.</dc:title>
</cp:coreProperties>
</file>