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B70-E7D6-42FF-9B31-67867063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04D-A5A7-48B7-8B00-F5F76A7F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9EA-EEBD-474D-BE1A-7F8FA63A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8AA-A350-4186-94A6-0FCAACB5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9BD-D7EF-471D-86B3-89691C8F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22B-D991-4373-AC15-EB9A82B3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4B3-0247-46B1-A397-4DDA363D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444-8360-4F06-9158-7491C45E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234-BACA-4977-86E3-8CB2E225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1B3-B3BF-47AA-AAF0-90966B94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25A-8E99-482A-932D-735E8E9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B23-0E55-46D3-A55E-7E79FE8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4FF5-B864-4115-902B-7F9F6CCBC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reginaldorepres@yahoo.com.br" TargetMode="External"/><Relationship Id="rId2" Type="http://schemas.openxmlformats.org/officeDocument/2006/relationships/hyperlink" Target="mailto:reginaldorepres@yahoo.com.br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-DN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13640" y="30492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TESTE D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62320" y="586728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Verdana"/>
              </a:rPr>
              <a:t>é uma viagem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Gillette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3995640" cy="5791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26520" y="1905120"/>
            <a:ext cx="2140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eus p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s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arel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 Gill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lâm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movíve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ecador%20de%20cabelos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008600" cy="579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99080" y="1905120"/>
            <a:ext cx="207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Sua mã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tin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sec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cabe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com tou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eite%20de%20coloni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08480" cy="6172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15600" y="2209680"/>
            <a:ext cx="161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a mã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ô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bilboque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95280" y="1295280"/>
            <a:ext cx="217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cê jog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boquê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ampinha" descr=""/>
          <p:cNvPicPr/>
          <p:nvPr/>
        </p:nvPicPr>
        <p:blipFill>
          <a:blip r:embed="rId1"/>
          <a:stretch/>
        </p:blipFill>
        <p:spPr>
          <a:xfrm>
            <a:off x="463680" y="685800"/>
            <a:ext cx="235584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bombinha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2295720" cy="2038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94080" y="971640"/>
            <a:ext cx="340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va tampinh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rigerante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zer distintiv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í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2960" y="4419720"/>
            <a:ext cx="389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oltava bombinh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quinhentos, em ép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de festa juni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arrinho%20de%20rolimã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353700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35680" y="5715000"/>
            <a:ext cx="59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cê andou de carrinho de rolimã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8queimada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53440" cy="4437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92880" y="556272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Brincou de queim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onnie%20Von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686120" cy="4686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92280" y="5181480"/>
            <a:ext cx="604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Você lembra quando o Ronnie V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jogava franjinha de lado qu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antava “Meu Bem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erdidos%20no%20espaço2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4678200" cy="5333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349680" y="2057400"/>
            <a:ext cx="165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c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s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d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paç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at%20Masterson" descr=""/>
          <p:cNvPicPr/>
          <p:nvPr/>
        </p:nvPicPr>
        <p:blipFill>
          <a:blip r:embed="rId1"/>
          <a:stretch/>
        </p:blipFill>
        <p:spPr>
          <a:xfrm>
            <a:off x="4648320" y="685800"/>
            <a:ext cx="37242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54520" y="2286000"/>
            <a:ext cx="275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Você sa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e c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ú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Bat Masters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2480" y="1905120"/>
            <a:ext cx="49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e você der risada na mai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as questões, é sinal que s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muito bem do que est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al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esponda com sincerida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ed%20Boy%20Marino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2743200" cy="5954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53680" y="2362320"/>
            <a:ext cx="295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d Boy Mari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196556267_reporter_ess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92240" y="5867280"/>
            <a:ext cx="53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Você assistia ao Repórter Es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topo_gigio_03" descr=""/>
          <p:cNvPicPr/>
          <p:nvPr/>
        </p:nvPicPr>
        <p:blipFill>
          <a:blip r:embed="rId1"/>
          <a:stretch/>
        </p:blipFill>
        <p:spPr>
          <a:xfrm>
            <a:off x="5548320" y="380880"/>
            <a:ext cx="2470320" cy="2971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48880" y="1447920"/>
            <a:ext cx="258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ssistia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oppo Gigg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1880" y="4476600"/>
            <a:ext cx="233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 a prime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versã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Vila Sésa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Vila%20Sésamo" descr=""/>
          <p:cNvPicPr/>
          <p:nvPr/>
        </p:nvPicPr>
        <p:blipFill>
          <a:blip r:embed="rId2"/>
          <a:stretch/>
        </p:blipFill>
        <p:spPr>
          <a:xfrm>
            <a:off x="4495680" y="3621240"/>
            <a:ext cx="4343400" cy="292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johnnyweissmuller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4618080" cy="5181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51240" y="2209680"/>
            <a:ext cx="237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Você s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quem f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Joh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Weissmul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Odorico%20Paraguassu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59520" cy="5181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09120" y="59436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Verdana"/>
              </a:rPr>
              <a:t>Sabe quem foi Odorico Paraguass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ompacto%20simples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95680" y="541008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cê se lembra o que era compacto si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 o que era um compacto dup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tenis%20bamba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vulcabras%20752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890240" y="914400"/>
            <a:ext cx="223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cê já t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m bamb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7040" y="4019400"/>
            <a:ext cx="26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e lem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Vulcabrás 75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apona" descr=""/>
          <p:cNvPicPr/>
          <p:nvPr/>
        </p:nvPicPr>
        <p:blipFill>
          <a:blip r:embed="rId1"/>
          <a:stretch/>
        </p:blipFill>
        <p:spPr>
          <a:xfrm>
            <a:off x="1008000" y="457200"/>
            <a:ext cx="166680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estudante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238560" cy="3886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86200" y="9716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Você usava Jap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040" y="3943440"/>
            <a:ext cx="349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ando estudav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s graus e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mário, admissã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násio e científ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gibi" descr=""/>
          <p:cNvPicPr/>
          <p:nvPr/>
        </p:nvPicPr>
        <p:blipFill>
          <a:blip r:embed="rId1"/>
          <a:stretch/>
        </p:blipFill>
        <p:spPr>
          <a:xfrm>
            <a:off x="944640" y="533520"/>
            <a:ext cx="3717720" cy="571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979600" y="1676520"/>
            <a:ext cx="209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Voc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ham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ev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quadrinh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gib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bomba%20de%20flit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4038840" cy="1817640"/>
          </a:xfrm>
          <a:prstGeom prst="rect">
            <a:avLst/>
          </a:prstGeom>
          <a:ln w="0">
            <a:noFill/>
          </a:ln>
        </p:spPr>
      </p:pic>
      <p:pic>
        <p:nvPicPr>
          <p:cNvPr id="156" name="caderneta" descr=""/>
          <p:cNvPicPr/>
          <p:nvPr/>
        </p:nvPicPr>
        <p:blipFill>
          <a:blip r:embed="rId2"/>
          <a:stretch/>
        </p:blipFill>
        <p:spPr>
          <a:xfrm>
            <a:off x="5889600" y="685800"/>
            <a:ext cx="1693800" cy="2209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34040" y="1066680"/>
            <a:ext cx="257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a mãe tin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derneta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maz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59960" y="5638680"/>
            <a:ext cx="35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Usou bomba de fl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60320" y="5486400"/>
            <a:ext cx="40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Você já tomou Q-Su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Q-suco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254400" cy="456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arloslobomoto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66080" y="601992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istiu ao Vigilante Rodoviár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jovem%20guar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136480" y="5335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 a Jovem Guar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simca" descr=""/>
          <p:cNvPicPr/>
          <p:nvPr/>
        </p:nvPicPr>
        <p:blipFill>
          <a:blip r:embed="rId1"/>
          <a:stretch/>
        </p:blipFill>
        <p:spPr>
          <a:xfrm>
            <a:off x="4648320" y="685800"/>
            <a:ext cx="4495680" cy="2743200"/>
          </a:xfrm>
          <a:prstGeom prst="rect">
            <a:avLst/>
          </a:prstGeom>
          <a:ln w="0">
            <a:noFill/>
          </a:ln>
        </p:spPr>
      </p:pic>
      <p:pic>
        <p:nvPicPr>
          <p:cNvPr id="166" name="aero%20willys" descr=""/>
          <p:cNvPicPr/>
          <p:nvPr/>
        </p:nvPicPr>
        <p:blipFill>
          <a:blip r:embed="rId2"/>
          <a:stretch/>
        </p:blipFill>
        <p:spPr>
          <a:xfrm>
            <a:off x="0" y="685800"/>
            <a:ext cx="46483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KarmannGhia_01_e2_la" descr=""/>
          <p:cNvPicPr/>
          <p:nvPr/>
        </p:nvPicPr>
        <p:blipFill>
          <a:blip r:embed="rId3"/>
          <a:stretch/>
        </p:blipFill>
        <p:spPr>
          <a:xfrm>
            <a:off x="0" y="3429000"/>
            <a:ext cx="4724280" cy="2813040"/>
          </a:xfrm>
          <a:prstGeom prst="rect">
            <a:avLst/>
          </a:prstGeom>
          <a:ln w="0">
            <a:noFill/>
          </a:ln>
        </p:spPr>
      </p:pic>
      <p:pic>
        <p:nvPicPr>
          <p:cNvPr id="168" name="vemaguete070704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2797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05320" y="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á andou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680" y="309888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Verdana"/>
              </a:rPr>
              <a:t>Aero Will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07440" y="3098880"/>
            <a:ext cx="23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Verdana"/>
              </a:rPr>
              <a:t>Sinca Chambo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7720" y="5842080"/>
            <a:ext cx="21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Verdana"/>
              </a:rPr>
              <a:t>Kharman Gu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34400" y="5765760"/>
            <a:ext cx="18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Verdana"/>
              </a:rPr>
              <a:t>Vemaguet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3520" y="6338880"/>
            <a:ext cx="59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Já usou gasolina azul no seu car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cera%20parquetina" descr=""/>
          <p:cNvPicPr/>
          <p:nvPr/>
        </p:nvPicPr>
        <p:blipFill>
          <a:blip r:embed="rId1"/>
          <a:stretch/>
        </p:blipFill>
        <p:spPr>
          <a:xfrm>
            <a:off x="4648320" y="914400"/>
            <a:ext cx="3735360" cy="5257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46280" y="1657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43560" y="2590920"/>
            <a:ext cx="303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ua mã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us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êra Parqueti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anagua" descr=""/>
          <p:cNvPicPr/>
          <p:nvPr/>
        </p:nvPicPr>
        <p:blipFill>
          <a:blip r:embed="rId1"/>
          <a:stretch/>
        </p:blipFill>
        <p:spPr>
          <a:xfrm>
            <a:off x="5334120" y="1219320"/>
            <a:ext cx="2587680" cy="4647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05120" y="1676520"/>
            <a:ext cx="377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la us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bombinh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laquê de plást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la chegou a u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meia com risca atrá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 anágu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f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rinso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4263840" cy="481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941440" y="2209680"/>
            <a:ext cx="2334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Você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lem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sabão em p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Rin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Tv%20seletor" descr=""/>
          <p:cNvPicPr/>
          <p:nvPr/>
        </p:nvPicPr>
        <p:blipFill>
          <a:blip r:embed="rId1"/>
          <a:stretch/>
        </p:blipFill>
        <p:spPr>
          <a:xfrm>
            <a:off x="3733920" y="609480"/>
            <a:ext cx="4219560" cy="5838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56480" y="2209680"/>
            <a:ext cx="1742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 da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ca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tativ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lee-jackson01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3047760" cy="2987640"/>
          </a:xfrm>
          <a:prstGeom prst="rect">
            <a:avLst/>
          </a:prstGeom>
          <a:ln w="0">
            <a:noFill/>
          </a:ln>
        </p:spPr>
      </p:pic>
      <p:pic>
        <p:nvPicPr>
          <p:cNvPr id="195" name="pholhas-lp-pholhas" descr=""/>
          <p:cNvPicPr/>
          <p:nvPr/>
        </p:nvPicPr>
        <p:blipFill>
          <a:blip r:embed="rId2"/>
          <a:stretch/>
        </p:blipFill>
        <p:spPr>
          <a:xfrm>
            <a:off x="563868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76960" y="1066680"/>
            <a:ext cx="359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Você freqüentava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bailes de pró-form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do colégio com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conj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Lee Jacks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Sun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Super Som T.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3 do Ri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Dimensão 5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Pholh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ou s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equipe de 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favori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molDNA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089520" cy="3306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346280" y="1752480"/>
            <a:ext cx="37850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Verdana"/>
              </a:rPr>
              <a:t>Se você respondeu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Verdana"/>
              </a:rPr>
              <a:t>para pelo menos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Verdana"/>
              </a:rPr>
              <a:t>das questões, est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Verdana"/>
              </a:rPr>
              <a:t>confirmado seu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DNA</a:t>
            </a:r>
            <a:r>
              <a:rPr b="0" i="1" lang="en-US" sz="2800" spc="-1" strike="noStrike">
                <a:solidFill>
                  <a:srgbClr val="cccc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at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asc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nt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1040" y="380880"/>
            <a:ext cx="6591960" cy="61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ccccff"/>
                </a:solidFill>
                <a:latin typeface="Verdana"/>
              </a:rPr>
              <a:t>Não jogue sujo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ccccff"/>
                </a:solidFill>
                <a:latin typeface="Verdana"/>
              </a:rPr>
              <a:t>Você deve ter respondido </a:t>
            </a:r>
            <a:r>
              <a:rPr b="0" i="1" lang="pt-BR" sz="2800" spc="-1" strike="noStrike">
                <a:solidFill>
                  <a:srgbClr val="ffff00"/>
                </a:solidFill>
                <a:latin typeface="Verdana"/>
              </a:rPr>
              <a:t>SIM</a:t>
            </a:r>
            <a:r>
              <a:rPr b="0" i="1" lang="pt-BR" sz="2800" spc="-1" strike="noStrike">
                <a:solidFill>
                  <a:srgbClr val="cccc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ccccff"/>
                </a:solidFill>
                <a:latin typeface="Verdana"/>
              </a:rPr>
              <a:t>a pelo menos 99% das pergu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ccccff"/>
                </a:solidFill>
                <a:latin typeface="Verdana"/>
              </a:rPr>
              <a:t>Então você não tem problemas de </a:t>
            </a:r>
            <a:r>
              <a:rPr b="0" i="1" lang="pt-BR" sz="2800" spc="-1" strike="noStrike">
                <a:solidFill>
                  <a:srgbClr val="ffff00"/>
                </a:solidFill>
                <a:latin typeface="Verdana"/>
              </a:rPr>
              <a:t>DN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ccccff"/>
                </a:solidFill>
                <a:latin typeface="Verdana"/>
              </a:rPr>
              <a:t>Você teve o privilégio de ter viv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00"/>
                </a:solidFill>
                <a:latin typeface="Verdana"/>
              </a:rPr>
              <a:t>Tempos Maravilhoso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Verdana"/>
              </a:rPr>
              <a:t>Um abraç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Verdana"/>
              </a:rPr>
              <a:t>Reg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ginaldorepres</a:t>
            </a: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@yahoo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Verdana"/>
              </a:rPr>
              <a:t>Trilha sonora: Não Acredito (Leno e Lili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rapette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689360" cy="617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5200" y="1905120"/>
            <a:ext cx="1812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Voc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be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Grapet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uba_libre" descr=""/>
          <p:cNvPicPr/>
          <p:nvPr/>
        </p:nvPicPr>
        <p:blipFill>
          <a:blip r:embed="rId1"/>
          <a:stretch/>
        </p:blipFill>
        <p:spPr>
          <a:xfrm>
            <a:off x="4114800" y="533520"/>
            <a:ext cx="380844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28680" y="2514600"/>
            <a:ext cx="231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50021"/>
                </a:solidFill>
                <a:latin typeface="Verdana"/>
              </a:rPr>
              <a:t>Sua prime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50021"/>
                </a:solidFill>
                <a:latin typeface="Verdana"/>
              </a:rPr>
              <a:t>beb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50021"/>
                </a:solidFill>
                <a:latin typeface="Verdana"/>
              </a:rPr>
              <a:t>alcoólica f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a50021"/>
                </a:solidFill>
                <a:latin typeface="Verdana"/>
              </a:rPr>
              <a:t>Cuba L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iabadaCasca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5520" y="579132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á comeu goiabada cascã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leite%20vigor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3540240" cy="4495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70280" y="1809720"/>
            <a:ext cx="230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cê tom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it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nha 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rraf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dro 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mpin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alumín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ibalena" descr=""/>
          <p:cNvPicPr/>
          <p:nvPr/>
        </p:nvPicPr>
        <p:blipFill>
          <a:blip r:embed="rId1"/>
          <a:stretch/>
        </p:blipFill>
        <p:spPr>
          <a:xfrm>
            <a:off x="5791320" y="533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Biotonico%20Fontoura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264024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6520" y="11430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Já tomou Cibale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20600" y="4267080"/>
            <a:ext cx="48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omou Biotônico Fontou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âncora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836800" cy="2895840"/>
          </a:xfrm>
          <a:prstGeom prst="rect">
            <a:avLst/>
          </a:prstGeom>
          <a:ln w="0">
            <a:noFill/>
          </a:ln>
        </p:spPr>
      </p:pic>
      <p:pic>
        <p:nvPicPr>
          <p:cNvPr id="72" name="violeta_genciana_large" descr=""/>
          <p:cNvPicPr/>
          <p:nvPr/>
        </p:nvPicPr>
        <p:blipFill>
          <a:blip r:embed="rId2"/>
          <a:stretch/>
        </p:blipFill>
        <p:spPr>
          <a:xfrm>
            <a:off x="5638680" y="2362320"/>
            <a:ext cx="2424240" cy="4165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60720" y="762120"/>
            <a:ext cx="440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ccff"/>
                </a:solidFill>
                <a:latin typeface="Verdana"/>
              </a:rPr>
              <a:t>Você cuidou de s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ccff"/>
                </a:solidFill>
                <a:latin typeface="Verdana"/>
              </a:rPr>
              <a:t>espinhas adolesc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ccff"/>
                </a:solidFill>
                <a:latin typeface="Verdana"/>
              </a:rPr>
              <a:t>com pomada Minânc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33640" y="3962520"/>
            <a:ext cx="330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a mãe us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ta Genc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 cuidar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us machu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5:30:01Z</dcterms:created>
  <dc:creator>Reginaldo Vieira Matos</dc:creator>
  <dc:description/>
  <dc:language>en-US</dc:language>
  <cp:lastModifiedBy>Reginaldo Vieira Matos</cp:lastModifiedBy>
  <dcterms:modified xsi:type="dcterms:W3CDTF">2008-05-04T18:51:23Z</dcterms:modified>
  <cp:revision>22</cp:revision>
  <dc:subject/>
  <dc:title>Apresentação do PowerPoint</dc:title>
</cp:coreProperties>
</file>