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nsensatez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F13E-3A05-4B7D-8738-487FB805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82B6-ADD2-45CB-B1AF-3F6E82E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7F68-2716-4C44-9D6B-3C4A551A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A812-9CB5-4B19-B9F3-21A60100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8809-1684-4D68-8496-33F281A3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0795-9CDE-467D-9C10-DE6E6D2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BF5E-4BDB-4FE7-8A8F-2A33728B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EF7-B3CC-441E-9983-5D740A28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4EE3-26C4-4BAB-8D91-6B6B7384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B740-92D7-495B-BF0F-E62AF2A4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70A2-90D4-4951-8C14-D621C38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93FB-4D6C-4AE1-902A-172C65B3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DD46-B000-49CF-8BC0-480E09FC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8EE1-FB34-4778-AEF7-FBC2834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75D9-C827-4861-912C-5704726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C9D6-4173-40B6-BE02-79D45F57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3C6E-6CE4-4C8C-A79C-451319A6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24DE-8793-44A1-8C66-170121FE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E667-A2D8-41DC-B635-0DCE2A6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BFBE-3524-4F55-849B-459BC07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76C2-BC9A-4C87-9B1B-110ED162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9921-CDC4-43A7-99F5-731AADB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C172-6F90-44B7-AA96-19EAC6E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59F6-460B-4456-B5F1-A8CF9D8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5FBB-4E91-4029-A223-E5F851379F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DB7-384A-458E-81D5-D3FDD0C4C99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Insensatez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SA75816"/>
          <p:cNvPicPr/>
          <p:nvPr/>
        </p:nvPicPr>
        <p:blipFill>
          <a:blip r:embed="rId1">
            <a:lum bright="-6000"/>
          </a:blip>
          <a:srcRect l="0" t="8560" r="0" b="0"/>
          <a:stretch/>
        </p:blipFill>
        <p:spPr>
          <a:xfrm>
            <a:off x="2411280" y="476280"/>
            <a:ext cx="6048360" cy="415116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3132000" y="4699080"/>
            <a:ext cx="532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i="1" lang="pt-BR" sz="2600" spc="-1" strike="noStrike">
                <a:solidFill>
                  <a:srgbClr val="9999ff"/>
                </a:solidFill>
                <a:latin typeface="Verdana"/>
              </a:rPr>
              <a:t> </a:t>
            </a:r>
            <a:r>
              <a:rPr b="1" i="1" lang="pt-BR" sz="2800" spc="-1" strike="noStrike">
                <a:solidFill>
                  <a:srgbClr val="ffff00"/>
                </a:solidFill>
                <a:latin typeface="Verdana"/>
              </a:rPr>
              <a:t>O Reverso da Mídia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276720" y="5445000"/>
            <a:ext cx="5197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ffff00"/>
                </a:solidFill>
                <a:latin typeface="Verdana"/>
              </a:rPr>
              <a:t>(ou... </a:t>
            </a: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A Era da Insensatez</a:t>
            </a:r>
            <a:r>
              <a:rPr b="0" i="1" lang="pt-BR" sz="24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403280" y="1125360"/>
            <a:ext cx="6624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O sonho dos atuais diretores televisivos é ter como audiência  uma imensa massa acrítica,        sem uma real capacidade de análise</a:t>
            </a:r>
            <a:r>
              <a:rPr b="0" i="1" lang="pt-BR" sz="27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022480" y="3371760"/>
            <a:ext cx="59342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Um público que não pensa               que não questiona,                                         que é facilmente manipulado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050920" y="5157720"/>
            <a:ext cx="5545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que compra quando e o que            lhe mandam comprar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homer-brain"/>
          <p:cNvPicPr/>
          <p:nvPr/>
        </p:nvPicPr>
        <p:blipFill>
          <a:blip r:embed="rId1"/>
          <a:stretch/>
        </p:blipFill>
        <p:spPr>
          <a:xfrm>
            <a:off x="6443640" y="2924280"/>
            <a:ext cx="2438280" cy="371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755640" y="2924280"/>
            <a:ext cx="2376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Propagan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3564000" y="3429000"/>
            <a:ext cx="2376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Propagan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042920" y="4005360"/>
            <a:ext cx="2376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Propagan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564000" y="443700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Comp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547640" y="494172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B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106800" y="5262480"/>
            <a:ext cx="1752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Consu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1979640" y="5918040"/>
            <a:ext cx="1741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Verdana"/>
              </a:rPr>
              <a:t>Ex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omer-brain"/>
          <p:cNvPicPr/>
          <p:nvPr/>
        </p:nvPicPr>
        <p:blipFill>
          <a:blip r:embed="rId1"/>
          <a:stretch/>
        </p:blipFill>
        <p:spPr>
          <a:xfrm>
            <a:off x="6454800" y="3068640"/>
            <a:ext cx="2438280" cy="3600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885960" y="981000"/>
            <a:ext cx="489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E chega mais um domingo</a:t>
            </a:r>
            <a:r>
              <a:rPr b="0" i="1" lang="pt-BR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pt-BR" sz="2600" spc="-1" strike="noStrike">
                <a:solidFill>
                  <a:srgbClr val="ffff2d"/>
                </a:solidFill>
                <a:latin typeface="Verdana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028880" y="1989000"/>
            <a:ext cx="4392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e o que já era ruim consegue a proeza de piorar ainda mais...</a:t>
            </a:r>
            <a:r>
              <a:rPr b="0" i="1" lang="pt-BR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539640" y="443700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O que dizer do Domingão do Faustã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835280" y="1628640"/>
            <a:ext cx="5545080" cy="20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E o que dizer das           vídeo-cassetadas do Faustão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124000" y="3357720"/>
            <a:ext cx="4969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Pancadas que ferem,       tombos que machucam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1403280" y="1557360"/>
            <a:ext cx="6624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O ser humano ainda não tinha aprendido a amar o próxim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42920" y="2738520"/>
            <a:ext cx="7488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e já tinha inventado a televisão,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000080" y="3373560"/>
            <a:ext cx="7488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que ensina a desprezar o distante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35640" y="4365720"/>
            <a:ext cx="3168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100" spc="-1" strike="noStrike">
                <a:solidFill>
                  <a:srgbClr val="ffff00"/>
                </a:solidFill>
                <a:latin typeface="Verdana"/>
              </a:rPr>
              <a:t>Millôr Fernand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476360" y="1747800"/>
            <a:ext cx="6767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Esta apresentação será interrompida por alguns minuto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835280" y="3284640"/>
            <a:ext cx="5903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Voltaremos logo após os          “Reclames do Plim-Plim”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prop_cerveja 2"/>
          <p:cNvPicPr/>
          <p:nvPr/>
        </p:nvPicPr>
        <p:blipFill>
          <a:blip r:embed="rId1"/>
          <a:stretch/>
        </p:blipFill>
        <p:spPr>
          <a:xfrm>
            <a:off x="2195640" y="836640"/>
            <a:ext cx="5232240" cy="45864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2166840" y="5460840"/>
            <a:ext cx="540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Beba com moderação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900000" y="1268280"/>
            <a:ext cx="7489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Uma série de estudos demonstra que, no Brasil, os jovens bebem cada vez mais e, ainda por cima, começam mais ced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468360" y="306864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É simplesmente risível imaginar que eles teriam mais cautela apenas ouvindo aquela rápida frase de alerta depois do sensualíssimo anúncio com mulheres estupendas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5508720" y="5300640"/>
            <a:ext cx="3240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100" spc="-1" strike="noStrike">
                <a:solidFill>
                  <a:srgbClr val="ffff00"/>
                </a:solidFill>
                <a:latin typeface="Verdana"/>
              </a:rPr>
              <a:t>Gilberto Dimenstei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prop_cerveja 2"/>
          <p:cNvPicPr/>
          <p:nvPr/>
        </p:nvPicPr>
        <p:blipFill>
          <a:blip r:embed="rId1"/>
          <a:stretch/>
        </p:blipFill>
        <p:spPr>
          <a:xfrm>
            <a:off x="1835280" y="692280"/>
            <a:ext cx="5689440" cy="45860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1763640" y="5487840"/>
            <a:ext cx="6048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Embriague-se com moderação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620720" y="1338120"/>
            <a:ext cx="626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E o que dizer de Pedro Bial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620720" y="1914480"/>
            <a:ext cx="6264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quando se dirige aos                 participantes do Big Bro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620720" y="3003480"/>
            <a:ext cx="6264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chamando-os de “nossos heróis”     e “nossos mártires”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539720" y="4508640"/>
            <a:ext cx="626436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(Quão deturpados os conceitos de heroísmo e martírio transmitidos.   A que ponto chegamos..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global_heat"/>
          <p:cNvPicPr/>
          <p:nvPr/>
        </p:nvPicPr>
        <p:blipFill>
          <a:blip r:embed="rId1"/>
          <a:srcRect l="6705" t="0" r="4257" b="5609"/>
          <a:stretch/>
        </p:blipFill>
        <p:spPr>
          <a:xfrm>
            <a:off x="395280" y="148428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4390920" y="1309680"/>
            <a:ext cx="47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Troque de car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292720" y="188136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Troque de tev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4284720" y="2997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Mude para nossa operadora, temos os melhores pl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427640" y="4076640"/>
            <a:ext cx="4716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Beba mais cerve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427640" y="24987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Troque de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4932360" y="5516640"/>
            <a:ext cx="3600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00"/>
                </a:solidFill>
                <a:latin typeface="Verdana"/>
              </a:rPr>
              <a:t>(24 horas por dia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ffff00"/>
                </a:solidFill>
                <a:latin typeface="Verdana"/>
              </a:rPr>
              <a:t>07 dias por seman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5148360" y="5013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Verdana"/>
              </a:rPr>
              <a:t>Etc., etc.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biu"/>
          <p:cNvPicPr/>
          <p:nvPr/>
        </p:nvPicPr>
        <p:blipFill>
          <a:blip r:embed="rId1"/>
          <a:stretch/>
        </p:blipFill>
        <p:spPr>
          <a:xfrm>
            <a:off x="933480" y="1341360"/>
            <a:ext cx="2585880" cy="4319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4067280" y="1197000"/>
            <a:ext cx="453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Escola pública localizada    no sertão pernambuc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356000" y="2421000"/>
            <a:ext cx="396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Não há acabamento                 nas pare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211640" y="4724280"/>
            <a:ext cx="45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O banheiro está interdit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4356000" y="3500280"/>
            <a:ext cx="396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Há um ano sem                 merenda esco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4284720" y="1916280"/>
            <a:ext cx="424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Não seria mais sensato qualificar de heróis e mártires os nossos professores...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3" descr="biu"/>
          <p:cNvPicPr/>
          <p:nvPr/>
        </p:nvPicPr>
        <p:blipFill>
          <a:blip r:embed="rId1"/>
          <a:stretch/>
        </p:blipFill>
        <p:spPr>
          <a:xfrm>
            <a:off x="933480" y="1341360"/>
            <a:ext cx="313380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biu"/>
          <p:cNvPicPr/>
          <p:nvPr/>
        </p:nvPicPr>
        <p:blipFill>
          <a:blip r:embed="rId1"/>
          <a:stretch/>
        </p:blipFill>
        <p:spPr>
          <a:xfrm>
            <a:off x="611280" y="907920"/>
            <a:ext cx="3313080" cy="46818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3995640" y="1700280"/>
            <a:ext cx="489744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Eles que, quase sem  nenhum reconhecimento, e em condições tão adversas, 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tentam manter acesa a chama do saber e do conhecim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biu"/>
          <p:cNvPicPr/>
          <p:nvPr/>
        </p:nvPicPr>
        <p:blipFill>
          <a:blip r:embed="rId1"/>
          <a:stretch/>
        </p:blipFill>
        <p:spPr>
          <a:xfrm>
            <a:off x="539640" y="1341360"/>
            <a:ext cx="2880000" cy="44640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3492360" y="3860640"/>
            <a:ext cx="5472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muitas vezes obrigados   a percorrer longas distâncias a pé para chegar à sala de aula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4167360" y="1512720"/>
            <a:ext cx="446544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Heróis e heroínas        </a:t>
            </a: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são também os pequeninos alunos      com seus chinelos gastos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539640" y="981000"/>
            <a:ext cx="3889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Bial, junte a produção do BBB, e vão assistir   ao documentário                   “Pro Dia Nascer Feliz”, do diretor João Jardim, que aborda a situação da educação no Brasil</a:t>
            </a:r>
            <a:r>
              <a:rPr b="0" i="1" lang="pt-BR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3" descr="pro-dia-nascer-feliz-poster"/>
          <p:cNvPicPr/>
          <p:nvPr/>
        </p:nvPicPr>
        <p:blipFill>
          <a:blip r:embed="rId1"/>
          <a:stretch/>
        </p:blipFill>
        <p:spPr>
          <a:xfrm>
            <a:off x="4788000" y="981000"/>
            <a:ext cx="3781440" cy="5256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468360" y="5013360"/>
            <a:ext cx="37447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00"/>
                </a:solidFill>
                <a:latin typeface="Verdana"/>
              </a:rPr>
              <a:t>(é o mínimo que formadores de opinião deveriam fazer.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pro-dia-nascer-feliz06"/>
          <p:cNvPicPr/>
          <p:nvPr/>
        </p:nvPicPr>
        <p:blipFill>
          <a:blip r:embed="rId1"/>
          <a:stretch/>
        </p:blipFill>
        <p:spPr>
          <a:xfrm>
            <a:off x="1979640" y="549360"/>
            <a:ext cx="5400720" cy="29239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2163600" y="4724280"/>
            <a:ext cx="504036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ffff2d"/>
                </a:solidFill>
                <a:latin typeface="Verdana"/>
              </a:rPr>
              <a:t>seja no sertão nordestino,</a:t>
            </a:r>
            <a:r>
              <a:rPr b="0" i="1" lang="pt-BR" sz="2300" spc="-1" strike="noStrike">
                <a:solidFill>
                  <a:srgbClr val="ffff2d"/>
                </a:solidFill>
                <a:latin typeface="Verdana"/>
              </a:rPr>
              <a:t> 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476360" y="5229360"/>
            <a:ext cx="6769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ffff2d"/>
                </a:solidFill>
                <a:latin typeface="Verdana"/>
              </a:rPr>
              <a:t>seja nas periferias de qualquer capital.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971640" y="3500280"/>
            <a:ext cx="75610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ffff2d"/>
                </a:solidFill>
                <a:latin typeface="Verdana"/>
              </a:rPr>
              <a:t>Quem sabe o próximo “reality show”            possa mostrar a dura realidade de muitos                  professores e alunos da rede pública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332000" y="5950080"/>
            <a:ext cx="6769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ffff2d"/>
                </a:solidFill>
                <a:latin typeface="Verdana"/>
              </a:rPr>
              <a:t>Aí</a:t>
            </a:r>
            <a:r>
              <a:rPr b="0" i="1" lang="pt-BR" sz="2300" spc="-1" strike="noStrike">
                <a:solidFill>
                  <a:srgbClr val="ffff2d"/>
                </a:solidFill>
                <a:latin typeface="Verdana"/>
              </a:rPr>
              <a:t> </a:t>
            </a:r>
            <a:r>
              <a:rPr b="1" i="1" lang="pt-BR" sz="2300" spc="-1" strike="noStrike">
                <a:solidFill>
                  <a:srgbClr val="ffff2d"/>
                </a:solidFill>
                <a:latin typeface="Verdana"/>
              </a:rPr>
              <a:t>sim teríamos um show de realidade.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925560" y="1176480"/>
            <a:ext cx="7200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E o que dizer das festas promovidas pela produção do Big Brother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1835280" y="2421000"/>
            <a:ext cx="52578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Que belo exemplo são para os nossos jovens</a:t>
            </a:r>
            <a:r>
              <a:rPr b="1" i="1" lang="pt-BR" sz="2700" spc="-1" strike="noStrike">
                <a:solidFill>
                  <a:srgbClr val="1808e6"/>
                </a:solidFill>
                <a:latin typeface="Verdana"/>
              </a:rPr>
              <a:t>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1187280" y="3500280"/>
            <a:ext cx="64803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Bebam para serem felizes, para promoverem farras sexuais”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908000" y="4869000"/>
            <a:ext cx="48974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Obrigado, Rede Glob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403280" y="1673280"/>
            <a:ext cx="669780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ffff00"/>
                </a:solidFill>
                <a:latin typeface="Verdana"/>
              </a:rPr>
              <a:t>Enquanto professores e escolas se esforçam para formar cidadãos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2254320" y="3500280"/>
            <a:ext cx="468000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ffff00"/>
                </a:solidFill>
                <a:latin typeface="Verdana"/>
              </a:rPr>
              <a:t>a televisão fabrica consumidor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907920"/>
            <a:ext cx="65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Em outubro, mês das crianças, o valor gasto no Brasil em publicidade dirigida ao público infantil foi de aproximadamente R$ 210 milhões.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3" descr="zxz2"/>
          <p:cNvPicPr/>
          <p:nvPr/>
        </p:nvPicPr>
        <p:blipFill>
          <a:blip r:embed="rId1"/>
          <a:srcRect l="0" t="4304" r="2222" b="5717"/>
          <a:stretch/>
        </p:blipFill>
        <p:spPr>
          <a:xfrm>
            <a:off x="468360" y="3429000"/>
            <a:ext cx="3744720" cy="26020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4224240" y="3357720"/>
            <a:ext cx="4932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Neste mesmo período,  foram investidos no Programa Federal de Desenvolvimento da Educação Infantil (FNDE)                     cerca de R$ 28 milhõe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zxz2"/>
          <p:cNvPicPr/>
          <p:nvPr/>
        </p:nvPicPr>
        <p:blipFill>
          <a:blip r:embed="rId1"/>
          <a:srcRect l="0" t="4304" r="2222" b="5717"/>
          <a:stretch/>
        </p:blipFill>
        <p:spPr>
          <a:xfrm>
            <a:off x="468360" y="2349360"/>
            <a:ext cx="4174920" cy="36817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3995640" y="1052640"/>
            <a:ext cx="4680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00"/>
                </a:solidFill>
                <a:latin typeface="Verdana"/>
              </a:rPr>
              <a:t>A televisão transforma crianças da mais tenra idade em consumidores</a:t>
            </a:r>
            <a:r>
              <a:rPr b="0" i="1" lang="pt-BR" sz="27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global_heat"/>
          <p:cNvPicPr/>
          <p:nvPr/>
        </p:nvPicPr>
        <p:blipFill>
          <a:blip r:embed="rId1"/>
          <a:srcRect l="6705" t="0" r="4257" b="5609"/>
          <a:stretch/>
        </p:blipFill>
        <p:spPr>
          <a:xfrm>
            <a:off x="395280" y="1484280"/>
            <a:ext cx="3816360" cy="49690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4643280" y="3487680"/>
            <a:ext cx="410400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is vivemos na              Era da Insensatez</a:t>
            </a:r>
            <a:r>
              <a:rPr b="0" i="1" lang="pt-BR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356000" y="1523880"/>
            <a:ext cx="4716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Não estranhe se amanhã,   na abertura do Jornal Nacional, anunciarem                o velório da coerênci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Insensatez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611280" y="476280"/>
            <a:ext cx="446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Especialistas em comportamento infantil têm constatado mudanças significativas provocadas pela exposição massiva e precoce à publi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988920" y="6237360"/>
            <a:ext cx="3279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z2"/>
          <p:cNvPicPr/>
          <p:nvPr/>
        </p:nvPicPr>
        <p:blipFill>
          <a:blip r:embed="rId1"/>
          <a:srcRect l="0" t="6685" r="0" b="0"/>
          <a:stretch/>
        </p:blipFill>
        <p:spPr>
          <a:xfrm>
            <a:off x="5435640" y="1197000"/>
            <a:ext cx="2798640" cy="42814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203040" y="3284640"/>
            <a:ext cx="5113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Segundo constatado, dentre   as primeiras palavras pronunciadas, as primeiras intenções de transmitir uma mensagem verbal, já aparece   a palavra “compra”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slee"/>
          <p:cNvPicPr/>
          <p:nvPr/>
        </p:nvPicPr>
        <p:blipFill>
          <a:blip r:embed="rId1"/>
          <a:srcRect l="2201" t="1275" r="5112" b="0"/>
          <a:stretch/>
        </p:blipFill>
        <p:spPr>
          <a:xfrm>
            <a:off x="611280" y="314172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755640" y="771480"/>
            <a:ext cx="748656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Diante da tevê, o telespectador está fisicamente inativo. Dos seus sentidos, trabalham somente a visão e a audição,     mas de maneira extremamente parci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5680080" y="3284640"/>
            <a:ext cx="3024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Os olhos,                     por exemplo, praticamente   não se mexem</a:t>
            </a:r>
            <a:r>
              <a:rPr b="0" i="1" lang="pt-BR" sz="2400" spc="-1" strike="noStrike">
                <a:solidFill>
                  <a:srgbClr val="ffff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826920" y="260280"/>
            <a:ext cx="792036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Os pensamentos estão praticamente inativo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não há tempo para raciocínio consciente        e para fazer associações mentais,                     já que a atividade cognitiva está muito len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451480" y="3213000"/>
            <a:ext cx="345744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ff"/>
                </a:solidFill>
                <a:latin typeface="Verdana"/>
              </a:rPr>
              <a:t>Isso ficou evidenciado em pesquisas    sobre os efeitos neurofisiológicos           da tevê.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4" descr="slee"/>
          <p:cNvPicPr/>
          <p:nvPr/>
        </p:nvPicPr>
        <p:blipFill>
          <a:blip r:embed="rId1"/>
          <a:srcRect l="2201" t="1275" r="5112" b="0"/>
          <a:stretch/>
        </p:blipFill>
        <p:spPr>
          <a:xfrm>
            <a:off x="611280" y="3141720"/>
            <a:ext cx="4608360" cy="306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zsleep3"/>
          <p:cNvPicPr/>
          <p:nvPr/>
        </p:nvPicPr>
        <p:blipFill>
          <a:blip r:embed="rId1"/>
          <a:stretch/>
        </p:blipFill>
        <p:spPr>
          <a:xfrm>
            <a:off x="2987640" y="2924280"/>
            <a:ext cx="5483160" cy="33163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826920" y="333360"/>
            <a:ext cx="777744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O eletro encefalograma e a falta de movimento dos olhos de uma pessoa vendo televisão indicam um estado de desatenção,  de sonolência, de semi-hipnos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zsleep4"/>
          <p:cNvPicPr/>
          <p:nvPr/>
        </p:nvPicPr>
        <p:blipFill>
          <a:blip r:embed="rId1"/>
          <a:srcRect l="5028" t="6769" r="1723" b="2583"/>
          <a:stretch/>
        </p:blipFill>
        <p:spPr>
          <a:xfrm>
            <a:off x="611280" y="249228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3"/>
          <p:cNvSpPr/>
          <p:nvPr/>
        </p:nvSpPr>
        <p:spPr>
          <a:xfrm>
            <a:off x="1187280" y="549360"/>
            <a:ext cx="6481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00"/>
                </a:solidFill>
                <a:latin typeface="Verdana"/>
              </a:rPr>
              <a:t>O piscar da imagem, os estímulos visuais exagerados e contínuos, e         a passividade física do telespectador, especialmente seu olhar fixo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5330880" y="2587680"/>
            <a:ext cx="349236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00"/>
                </a:solidFill>
                <a:latin typeface="Verdana"/>
              </a:rPr>
              <a:t>fazem com que        o cenário seja semelhante a uma sessão de hipno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4716360" y="404640"/>
            <a:ext cx="38880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Na leitura, é preciso produzir uma intensa atividade interior</a:t>
            </a:r>
            <a:r>
              <a:rPr b="0" i="1" lang="pt-BR" sz="2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4559400" y="2394000"/>
            <a:ext cx="434664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num romance,      imaginar o ambiente                  e os personagens</a:t>
            </a:r>
            <a:r>
              <a:rPr b="0" i="1" lang="pt-BR" sz="26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zsleep5"/>
          <p:cNvPicPr/>
          <p:nvPr/>
        </p:nvPicPr>
        <p:blipFill>
          <a:blip r:embed="rId1"/>
          <a:srcRect l="0" t="0" r="4375" b="0"/>
          <a:stretch/>
        </p:blipFill>
        <p:spPr>
          <a:xfrm>
            <a:off x="684360" y="692280"/>
            <a:ext cx="3470040" cy="535464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5"/>
          <p:cNvSpPr/>
          <p:nvPr/>
        </p:nvSpPr>
        <p:spPr>
          <a:xfrm>
            <a:off x="4572000" y="3916440"/>
            <a:ext cx="4346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Verdana"/>
              </a:rPr>
              <a:t>num texto filosófico     ou científico, associar constantemente os conceitos descritos.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4452840" y="696960"/>
            <a:ext cx="439272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A tevê, pelo contrário,             não exige nenhuma atividade mental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4524480" y="2182680"/>
            <a:ext cx="425268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Verdana"/>
              </a:rPr>
              <a:t>- as imagens chegam prontas, não há nada para associar. Não há possibilidade de pensar sobre o que está sendo transmitido...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4" descr="zx"/>
          <p:cNvPicPr/>
          <p:nvPr/>
        </p:nvPicPr>
        <p:blipFill>
          <a:blip r:embed="rId1"/>
          <a:stretch/>
        </p:blipFill>
        <p:spPr>
          <a:xfrm>
            <a:off x="971640" y="907920"/>
            <a:ext cx="317160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00720" y="1341360"/>
            <a:ext cx="432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i="1" lang="pt-BR" sz="2600" spc="-1" strike="noStrike">
                <a:solidFill>
                  <a:srgbClr val="ffffff"/>
                </a:solidFill>
                <a:latin typeface="Verdana"/>
              </a:rPr>
              <a:t>porque as velocidades das mudanças de imagem, de som e de assunto impedem que   o telespectador se concentre e acompanhe a transmissão conscientement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3" descr="zx"/>
          <p:cNvPicPr/>
          <p:nvPr/>
        </p:nvPicPr>
        <p:blipFill>
          <a:blip r:embed="rId1"/>
          <a:stretch/>
        </p:blipFill>
        <p:spPr>
          <a:xfrm>
            <a:off x="900000" y="333360"/>
            <a:ext cx="3171960" cy="54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468360" y="260280"/>
            <a:ext cx="79200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Infelizmente, a televisão vem ocupando um crescente papel na transmissão    dos caminhos da infânci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250920" y="2133720"/>
            <a:ext cx="385272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2d"/>
                </a:solidFill>
                <a:latin typeface="Verdana"/>
              </a:rPr>
              <a:t>As emissoras e         os anunciantes assumiram tal incumbência   pensando no seu próprio lucro imediato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4" descr="tv"/>
          <p:cNvPicPr/>
          <p:nvPr/>
        </p:nvPicPr>
        <p:blipFill>
          <a:blip r:embed="rId1"/>
          <a:srcRect l="0" t="4850" r="0" b="4850"/>
          <a:stretch/>
        </p:blipFill>
        <p:spPr>
          <a:xfrm>
            <a:off x="3995640" y="1989000"/>
            <a:ext cx="4680000" cy="424836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5"/>
          <p:cNvSpPr/>
          <p:nvPr/>
        </p:nvSpPr>
        <p:spPr>
          <a:xfrm>
            <a:off x="187200" y="5084640"/>
            <a:ext cx="36356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2d"/>
                </a:solidFill>
                <a:latin typeface="Verdana"/>
              </a:rPr>
              <a:t>e não nas crianças ou no futuro da naçã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359080"/>
            <a:ext cx="4138560" cy="38307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34920" y="34765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808e6"/>
                </a:solidFill>
                <a:latin typeface="Verdana"/>
              </a:rPr>
              <a:t>Troque de carro,</a:t>
            </a: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4920" y="41241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808e6"/>
                </a:solidFill>
                <a:latin typeface="Verdana"/>
              </a:rPr>
              <a:t>troque de celul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123840" y="472428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808e6"/>
                </a:solidFill>
                <a:latin typeface="Verdana"/>
              </a:rPr>
              <a:t>mude de operadora,     temos os melhores plan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79280" y="5661000"/>
            <a:ext cx="47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808e6"/>
                </a:solidFill>
                <a:latin typeface="Verdana"/>
              </a:rPr>
              <a:t>beba mais cerveja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global_heat"/>
          <p:cNvPicPr/>
          <p:nvPr/>
        </p:nvPicPr>
        <p:blipFill>
          <a:blip r:embed="rId1"/>
          <a:srcRect l="6705" t="0" r="4257" b="5609"/>
          <a:stretch/>
        </p:blipFill>
        <p:spPr>
          <a:xfrm>
            <a:off x="468360" y="134136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5219640" y="2308320"/>
            <a:ext cx="30243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Consumo,                             logo existo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716360" y="3730680"/>
            <a:ext cx="403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Na sociedade consumista, quem não consome não exi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836640"/>
            <a:ext cx="4138560" cy="5616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not9623hu0"/>
          <p:cNvPicPr/>
          <p:nvPr/>
        </p:nvPicPr>
        <p:blipFill>
          <a:blip r:embed="rId2"/>
          <a:srcRect l="10596" t="0" r="16644" b="0"/>
          <a:stretch/>
        </p:blipFill>
        <p:spPr>
          <a:xfrm>
            <a:off x="1042920" y="2637000"/>
            <a:ext cx="2268720" cy="271764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4"/>
          <p:cNvSpPr/>
          <p:nvPr/>
        </p:nvSpPr>
        <p:spPr>
          <a:xfrm>
            <a:off x="1116000" y="5838840"/>
            <a:ext cx="21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Verdana"/>
              </a:rPr>
              <a:t>Compr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427640" y="907920"/>
            <a:ext cx="41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beer 2"/>
          <p:cNvPicPr/>
          <p:nvPr/>
        </p:nvPicPr>
        <p:blipFill>
          <a:blip r:embed="rId2"/>
          <a:stretch/>
        </p:blipFill>
        <p:spPr>
          <a:xfrm>
            <a:off x="915840" y="1916280"/>
            <a:ext cx="2880000" cy="34113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4"/>
          <p:cNvSpPr/>
          <p:nvPr/>
        </p:nvSpPr>
        <p:spPr>
          <a:xfrm>
            <a:off x="1347840" y="5543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Beb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359080"/>
            <a:ext cx="4138560" cy="3830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324000" y="3500280"/>
            <a:ext cx="3816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E agora, os gols de Tuna Luso e Itumbiara pela “série C” do campeonato brasileiro</a:t>
            </a: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359080"/>
            <a:ext cx="4138560" cy="383076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3"/>
          <p:cNvSpPr/>
          <p:nvPr/>
        </p:nvSpPr>
        <p:spPr>
          <a:xfrm>
            <a:off x="574560" y="2997360"/>
            <a:ext cx="34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Deborah Secco de calcinha e sutiã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684360" y="5950080"/>
            <a:ext cx="367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pt-BR" sz="1900" spc="-1" strike="noStrike">
                <a:solidFill>
                  <a:srgbClr val="ffff00"/>
                </a:solidFill>
                <a:latin typeface="Verdana"/>
              </a:rPr>
              <a:t>Fonte: Folha de SP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539640" y="4005360"/>
            <a:ext cx="3492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dá recorde de audiência à novela "Paraíso Tropical"</a:t>
            </a:r>
            <a:r>
              <a:rPr b="1" i="1" lang="pt-BR" sz="2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571680" y="2205000"/>
            <a:ext cx="34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E no horário nobr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8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1916280"/>
            <a:ext cx="4138560" cy="460836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3"/>
          <p:cNvSpPr/>
          <p:nvPr/>
        </p:nvSpPr>
        <p:spPr>
          <a:xfrm>
            <a:off x="496800" y="3200400"/>
            <a:ext cx="370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Com a “Dança                 do Poste” de          Flávia Alessandra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514440" y="4627440"/>
            <a:ext cx="3744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Duas Caras” alcança 40 pontos no ibope pela primeira vez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87520" y="2436840"/>
            <a:ext cx="34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E no nobre horári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133720"/>
            <a:ext cx="4138560" cy="41036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3"/>
          <p:cNvSpPr/>
          <p:nvPr/>
        </p:nvSpPr>
        <p:spPr>
          <a:xfrm>
            <a:off x="468360" y="3357720"/>
            <a:ext cx="3708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Zorra Total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500" spc="-1" strike="noStrike">
                <a:solidFill>
                  <a:srgbClr val="ffff00"/>
                </a:solidFill>
                <a:latin typeface="Verdana"/>
              </a:rPr>
              <a:t>O segundo programa mais assistido pelo público infantil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133720"/>
            <a:ext cx="4138560" cy="405612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"/>
          <p:cNvSpPr/>
          <p:nvPr/>
        </p:nvSpPr>
        <p:spPr>
          <a:xfrm>
            <a:off x="468360" y="2924280"/>
            <a:ext cx="2446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ropagan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476360" y="3789360"/>
            <a:ext cx="295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ropagan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324000" y="4486320"/>
            <a:ext cx="2592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ropagan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2484360" y="4989600"/>
            <a:ext cx="158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Comp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68360" y="5349960"/>
            <a:ext cx="19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Cons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340000" y="5781600"/>
            <a:ext cx="158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oss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356000" y="1700280"/>
            <a:ext cx="4138560" cy="38304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360360" y="4479840"/>
            <a:ext cx="3780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2d"/>
                </a:solidFill>
                <a:latin typeface="Verdana"/>
              </a:rPr>
              <a:t>aquela               espiadinha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6160" y="3357720"/>
            <a:ext cx="2952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2d"/>
                </a:solidFill>
                <a:latin typeface="Verdana"/>
              </a:rPr>
              <a:t>E agora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92000" y="3933720"/>
            <a:ext cx="2953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700" spc="-1" strike="noStrike">
                <a:solidFill>
                  <a:srgbClr val="ffff2d"/>
                </a:solidFill>
                <a:latin typeface="Verdana"/>
              </a:rPr>
              <a:t>vamos d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359080"/>
            <a:ext cx="4138560" cy="38307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652320" y="3530520"/>
            <a:ext cx="338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“</a:t>
            </a: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Se vc quer eliminar fulaninho, ligue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-36360" y="5661000"/>
            <a:ext cx="5040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ffff2d"/>
                </a:solidFill>
                <a:latin typeface="Verdana"/>
              </a:rPr>
              <a:t>(maldade tirar assim o dinheiro dos pobres e dos pouco instruídos..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587520" y="2830680"/>
            <a:ext cx="349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É dia de paredã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628560" y="4540320"/>
            <a:ext cx="3382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2d"/>
                </a:solidFill>
                <a:latin typeface="Verdana"/>
              </a:rPr>
              <a:t>Se vc quer eliminar fulaninha, ligue..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1557360"/>
            <a:ext cx="4138560" cy="4632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324000" y="2924280"/>
            <a:ext cx="396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“</a:t>
            </a: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assarinho quer dança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611280" y="5734080"/>
            <a:ext cx="3527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Tchu tchu tchu..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24000" y="4076640"/>
            <a:ext cx="396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O rabicho balanç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468360" y="4581360"/>
            <a:ext cx="396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Porque acaba de nas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8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755640" y="1700280"/>
            <a:ext cx="471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William Bonner equiparou o telespectador do Jornal Nacional a Homer Simpson,</a:t>
            </a: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" descr="2005_06_18homer"/>
          <p:cNvPicPr/>
          <p:nvPr/>
        </p:nvPicPr>
        <p:blipFill>
          <a:blip r:embed="rId1"/>
          <a:stretch/>
        </p:blipFill>
        <p:spPr>
          <a:xfrm rot="202200">
            <a:off x="6012000" y="2421000"/>
            <a:ext cx="2482560" cy="388296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4"/>
          <p:cNvSpPr/>
          <p:nvPr/>
        </p:nvSpPr>
        <p:spPr>
          <a:xfrm>
            <a:off x="509760" y="3656160"/>
            <a:ext cx="5076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- um sujeito preguiçoso, burro, que adora ficar no sofá, assistindo tevê, comendo rosquinhas e bebendo cerveja, e que só dá mancadas na vida.</a:t>
            </a: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1197000"/>
            <a:ext cx="4138560" cy="49928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3"/>
          <p:cNvSpPr/>
          <p:nvPr/>
        </p:nvSpPr>
        <p:spPr>
          <a:xfrm>
            <a:off x="2484360" y="5157720"/>
            <a:ext cx="1536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00"/>
                </a:solidFill>
                <a:latin typeface="Verdana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HG1292-001"/>
          <p:cNvPicPr/>
          <p:nvPr/>
        </p:nvPicPr>
        <p:blipFill>
          <a:blip r:embed="rId1"/>
          <a:srcRect l="0" t="7465" r="0" b="0"/>
          <a:stretch/>
        </p:blipFill>
        <p:spPr>
          <a:xfrm>
            <a:off x="4500720" y="2359080"/>
            <a:ext cx="4138560" cy="38307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468360" y="4797360"/>
            <a:ext cx="396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2d"/>
                </a:solidFill>
                <a:latin typeface="Verdana"/>
              </a:rPr>
              <a:t>Quão vazia uma vida pode se torna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2000160" y="1214280"/>
            <a:ext cx="53276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2d"/>
                </a:solidFill>
                <a:latin typeface="Verdana"/>
              </a:rPr>
              <a:t>Que infâ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2d"/>
                </a:solidFill>
                <a:latin typeface="Verdana"/>
              </a:rPr>
              <a:t>estamos construi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2143080" y="2928960"/>
            <a:ext cx="60501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Que juven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estamos forman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684360" y="5237280"/>
            <a:ext cx="68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29"/>
                </a:solidFill>
                <a:latin typeface="Verdana"/>
              </a:rPr>
              <a:t>Formatação: um_peregrino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4360" y="5694480"/>
            <a:ext cx="4967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29"/>
                </a:solidFill>
                <a:latin typeface="Verdana"/>
              </a:rPr>
              <a:t>Tema musical: Insensatez </a:t>
            </a:r>
            <a:r>
              <a:rPr b="0" i="1" lang="pt-BR" sz="1700" spc="-1" strike="noStrike">
                <a:solidFill>
                  <a:srgbClr val="ffff29"/>
                </a:solidFill>
                <a:latin typeface="Verdana"/>
              </a:rPr>
              <a:t>(Tom Jobim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826920" y="4340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ADAPTAÇÃO PARA FINS DID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2005_06_18homer"/>
          <p:cNvPicPr/>
          <p:nvPr/>
        </p:nvPicPr>
        <p:blipFill>
          <a:blip r:embed="rId1"/>
          <a:stretch/>
        </p:blipFill>
        <p:spPr>
          <a:xfrm rot="202200">
            <a:off x="6012000" y="2421000"/>
            <a:ext cx="2482560" cy="38829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684360" y="2421000"/>
            <a:ext cx="475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O mais preocupante, porém, não é o fato de termos como editor-chefe e apresentador do maior telejornal do país alguém que nivela milhões de telespectadores com “Homer Simpson”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005_06_18homer"/>
          <p:cNvPicPr/>
          <p:nvPr/>
        </p:nvPicPr>
        <p:blipFill>
          <a:blip r:embed="rId1"/>
          <a:stretch/>
        </p:blipFill>
        <p:spPr>
          <a:xfrm rot="202200">
            <a:off x="6012000" y="2421000"/>
            <a:ext cx="2482560" cy="38829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785880" y="1000080"/>
            <a:ext cx="432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A pergunta que    devemos nos fazer 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071720" y="2214720"/>
            <a:ext cx="367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- E se William Bonner tiver razã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857160" y="3286080"/>
            <a:ext cx="4102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Como foi que alcançamos tal condiçã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14240" y="4786200"/>
            <a:ext cx="432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Verdana"/>
              </a:rPr>
              <a:t>e a quem interessa                          que continuemos assim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athena_tv"/>
          <p:cNvPicPr/>
          <p:nvPr/>
        </p:nvPicPr>
        <p:blipFill>
          <a:blip r:embed="rId1"/>
          <a:stretch/>
        </p:blipFill>
        <p:spPr>
          <a:xfrm>
            <a:off x="468360" y="1844640"/>
            <a:ext cx="3163680" cy="4608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4065480" y="4707000"/>
            <a:ext cx="4859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A televisão amolece o corp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3924360" y="558972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a televisão amolece o espír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tv"/>
          <p:cNvPicPr/>
          <p:nvPr/>
        </p:nvPicPr>
        <p:blipFill>
          <a:blip r:embed="rId2"/>
          <a:srcRect l="41937" t="0" r="889" b="3661"/>
          <a:stretch/>
        </p:blipFill>
        <p:spPr>
          <a:xfrm>
            <a:off x="6012000" y="692280"/>
            <a:ext cx="2809800" cy="35449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tv"/>
          <p:cNvPicPr/>
          <p:nvPr/>
        </p:nvPicPr>
        <p:blipFill>
          <a:blip r:embed="rId3"/>
          <a:srcRect l="2371" t="0" r="58033" b="3661"/>
          <a:stretch/>
        </p:blipFill>
        <p:spPr>
          <a:xfrm>
            <a:off x="4067280" y="692280"/>
            <a:ext cx="1944720" cy="35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athena_tv"/>
          <p:cNvPicPr/>
          <p:nvPr/>
        </p:nvPicPr>
        <p:blipFill>
          <a:blip r:embed="rId1"/>
          <a:stretch/>
        </p:blipFill>
        <p:spPr>
          <a:xfrm>
            <a:off x="468360" y="1557360"/>
            <a:ext cx="3163680" cy="4896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3976560" y="4565520"/>
            <a:ext cx="48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No Brasil, segundo o Ibope, as pessoas vêem, em média, cinco horas de tevê por 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tv"/>
          <p:cNvPicPr/>
          <p:nvPr/>
        </p:nvPicPr>
        <p:blipFill>
          <a:blip r:embed="rId2"/>
          <a:srcRect l="41937" t="0" r="889" b="3661"/>
          <a:stretch/>
        </p:blipFill>
        <p:spPr>
          <a:xfrm>
            <a:off x="6012000" y="692280"/>
            <a:ext cx="2809800" cy="3544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tv"/>
          <p:cNvPicPr/>
          <p:nvPr/>
        </p:nvPicPr>
        <p:blipFill>
          <a:blip r:embed="rId3"/>
          <a:srcRect l="2371" t="0" r="58033" b="3661"/>
          <a:stretch/>
        </p:blipFill>
        <p:spPr>
          <a:xfrm>
            <a:off x="4067280" y="692280"/>
            <a:ext cx="1944720" cy="35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2:31:46Z</dcterms:created>
  <dc:creator>Suzana  Costa Carvalho</dc:creator>
  <dc:description/>
  <dc:language>en-US</dc:language>
  <cp:lastModifiedBy>Cliente</cp:lastModifiedBy>
  <dcterms:modified xsi:type="dcterms:W3CDTF">2009-03-14T13:20:43Z</dcterms:modified>
  <cp:revision>17</cp:revision>
  <dc:subject/>
  <dc:title>Slide 1</dc:title>
</cp:coreProperties>
</file>