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Risada%20Mulh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BDB-1190-4E95-A371-E80EA99C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C67-547D-4A95-BB4B-10EC45CF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329-FCD2-4DD1-8DA5-5C6DFE31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D94-4671-4970-8617-B40432C0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837-857D-4C84-9289-9EFFBEB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D5D-8D5D-434A-AC4C-5D0209EC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0E1-DDC3-4B2D-A846-6071715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710-37E9-4754-A314-B2E2F79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ACE-EF3A-4F86-9503-89B1FC1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672-026E-44A1-B185-57E8738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387-C75A-4426-BDB2-3F0AC6F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694-2924-43A6-B0E4-FEE85E2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95A1-4E14-4C52-BAE6-77F25E6645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Risada%20Mulher.wav" TargetMode="External"/><Relationship Id="rId3" Type="http://schemas.microsoft.com/office/2007/relationships/media" Target="file:///tmp/home/.config/libreoffice/4/user/gallery/Risada%20Mulher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Risada%20Mulh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476280"/>
            <a:ext cx="662940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Aventura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na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3ª Idad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63320" y="5516640"/>
            <a:ext cx="48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ituto do Serviço Soci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33520"/>
            <a:ext cx="8820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Uma velhinha e um velhinho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 conheceram em uma fest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ganizada pelo INSERSO par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terceira idade.    Depois de muita conversa fiada e un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l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hos a mais,decidem ir para um lugar mais tranquil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stacionam o carro e fazem amo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Finalizado o ato e quando voltavam, o velhinho pensou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4859280" y="1341360"/>
            <a:ext cx="3673440" cy="2633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17002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e soubesse que ela era virgem, teria ido a um lugar mais cômodo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3505320"/>
            <a:ext cx="15228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333360"/>
            <a:ext cx="797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Velhinha por seu lado pensava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loud"/>
          <p:cNvSpPr/>
          <p:nvPr/>
        </p:nvSpPr>
        <p:spPr>
          <a:xfrm>
            <a:off x="533520" y="1649520"/>
            <a:ext cx="3962160" cy="3508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057400"/>
            <a:ext cx="25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e soubesse que ele conseguiria a penetração, teria tirado a calcinha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3733920"/>
            <a:ext cx="15264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1120" y="5899320"/>
            <a:ext cx="23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matação: T.Me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dução: Ver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Risada%20Mulher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21:42:58Z</dcterms:created>
  <dc:creator>Mónica </dc:creator>
  <dc:description/>
  <dc:language>en-US</dc:language>
  <cp:lastModifiedBy>PETROBRAS S.A.</cp:lastModifiedBy>
  <dcterms:modified xsi:type="dcterms:W3CDTF">2008-11-11T19:23:57Z</dcterms:modified>
  <cp:revision>16</cp:revision>
  <dc:subject/>
  <dc:title>viejitos INP</dc:title>
</cp:coreProperties>
</file>