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M%C3%BAsica%20celta%20(L)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EEF6-0991-4837-86AE-2F45D83A9F2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D249-BD5A-4B20-8947-01A23950B15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ó repassa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7DC-0AAC-4D3C-B7CA-617F2B41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174-86F3-4F60-BD9C-7BBE5BAA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233-6E65-4970-A1A4-5BAC1E3B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2BC-93BC-4A33-AF96-84F1E8BD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0E3-666E-463D-A939-6329F629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47D-1E24-4AE2-93FB-8F612944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8DA-A924-4707-8326-5818464D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885-4ADD-4753-B52A-2B094428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AAE-F92B-4CE8-BB8A-42830249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6B0-3D5F-49BB-B22E-715CBCB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839-10FB-4BBE-89D9-BB580487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D62-D1AF-4305-80B2-653D0A3E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AEBB-7E7E-484B-A268-E936FDE899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&#250;sica%20celta%20(L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9506160" cy="981000"/>
          </a:xfrm>
          <a:prstGeom prst="rect">
            <a:avLst/>
          </a:prstGeom>
          <a:solidFill>
            <a:srgbClr val="e7361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 Índia da TV e a Índia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M%C3%BAsica%20celta%20(L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lide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-108000" y="260280"/>
            <a:ext cx="8893080" cy="277524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ffffff">
                  <a:alpha val="2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POR ISSO ELES COSTUMAM JOGAR SEUS MORTOS NO RIO, QUANDO NÃO CONSEGUEM LENHA PARA QUEIMÁ-LOS.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lid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por lá são os “deuses” que governam. O Rio Ganges é extremamente sujo, cheio de lixo , esgoto e cadáveres passam boiando a todo o moment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51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AS PESSOAS TOMAM BANHO, BEBEM ÁGUA E FAZEM SEUS RITUAIS NAS MARGENS DESSE “deus” PUTREFATO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lide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581360"/>
            <a:ext cx="9144000" cy="2205360"/>
          </a:xfrm>
          <a:prstGeom prst="rect">
            <a:avLst/>
          </a:prstGeom>
          <a:gradFill rotWithShape="0">
            <a:gsLst>
              <a:gs pos="0">
                <a:srgbClr val="ffffff">
                  <a:alpha val="41176"/>
                </a:srgbClr>
              </a:gs>
              <a:gs pos="100000">
                <a:srgbClr val="ffffff">
                  <a:alpha val="41176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 ONU ENVIOU ENORMES QUANTIAS DE DINHEIRO PARA QUE OS SISTEMAS DE SANEAMENTO DAS CIDADES QUE ESTÃO ÀS MARGENS DO GÂNGES FOSSEM CONSTRUÍD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lide14"/>
          <p:cNvPicPr/>
          <p:nvPr/>
        </p:nvPicPr>
        <p:blipFill>
          <a:blip r:embed="rId1"/>
          <a:stretch/>
        </p:blipFill>
        <p:spPr>
          <a:xfrm>
            <a:off x="0" y="67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269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S OS LÍDERES RELIGIOSOS VETARAM A OBRA, DISSERAM QUE O RIO  GÂNGES NÃO PRECISA DISSO, JÁ QUE ELE É UM D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lid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084640"/>
            <a:ext cx="9144000" cy="1773360"/>
          </a:xfrm>
          <a:prstGeom prst="rect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 SENDO QUE O GÂNGES É UM DEUS ENTÃO  TUDO PODE SER LANÇADO NELE, QUE ELE, ENQUANTO DEUS, TEM PODER DE SE DEPURAR SEM A NOSSA AJUDA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lide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1728720"/>
          </a:xfrm>
          <a:prstGeom prst="rect">
            <a:avLst/>
          </a:prstGeom>
          <a:gradFill rotWithShape="0">
            <a:gsLst>
              <a:gs pos="0">
                <a:srgbClr val="ffffff">
                  <a:alpha val="57254"/>
                </a:srgbClr>
              </a:gs>
              <a:gs pos="100000">
                <a:srgbClr val="f3f3f3">
                  <a:alpha val="57254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E ASSIM, PESSOAS E CARNIÇA DE DEFUNTOS CONVIVEM LADO A LADO NO RIO”SAGRADO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lide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2565000"/>
            <a:ext cx="482616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NESSE RIO, SÃO LANÇADOS OS RESTOS DE CADÁVERES DE PESSOAS QUE TIVERAM SEUS FAMILIARES PARA CREMA-LOS E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Slid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24480" y="333000"/>
            <a:ext cx="382752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</a:rPr>
              <a:t>E NO RIO TAMBÉM SÃO LANÇADOS  CADÁVERES SEM CREMAÇÃO DOS QUE NÃO TIVERAM PARENTES. SÃO ALÍ LANÇADOS PARA QUE O DEUS (o rio) VENHA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Arial"/>
              </a:rPr>
              <a:t>CONSUMÍ-LOS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19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" y="3284640"/>
            <a:ext cx="903600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ESTA FOTO VOCÊ PODE VER QUE O CADÁVER DA FOTO ANTERIOR APARECE NO CANTO INFERIOR  DIREITO AO MESMO TEMPO QUE PESSOAS BANHAM NO RIO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Sli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solidFill>
            <a:srgbClr val="e73613"/>
          </a:solidFill>
          <a:ln w="0">
            <a:noFill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4300" spc="-1" strike="noStrike">
                <a:solidFill>
                  <a:srgbClr val="000000"/>
                </a:solidFill>
                <a:latin typeface="Arial"/>
              </a:rPr>
              <a:t>A Índia que a TV não vai mostrar 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252360" y="5157720"/>
            <a:ext cx="95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Há cenas que mais parecem montagem, mas são reais.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lide20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28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rtanto,a ilusão de uma religião e um mundo fantástico vindo das Índias, promovida pela Rede Globo, cai diante da realidade do país em foco.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lide21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ua religiosidade e os seus inúmeros deuses de nada serviram para no mínimo conduzir esse povo num caminho de bom senso, de eqüidade, de higi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lide22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o contrário de se procurar assimilar sua cultura e crença ignorando a sua realidade, precisamos levá-los à verd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lide23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770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REDE GLOBO PODE TENTAR FUGIR DESTA REALIDADE, PROCURAR OMITÍ-LA, MAS ELA ESTÁ AÍ E ESTE DI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HEGARÁ PARA CADA 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lide24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4292640"/>
            <a:ext cx="9144000" cy="3272760"/>
          </a:xfrm>
          <a:prstGeom prst="rect">
            <a:avLst/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fffff">
                  <a:alpha val="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NTÃO, ALÍ SE VÊ NOS BRAÇOS DO GÂNGES E NO BICO DO CORVO, A REALIDADE DAQUELA QUE UM DIA TALVEZ TENHA SIDO TÃO FORMOSA OU MAIS QUE A JULIANA PAES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lide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800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QUANDO ESTE MOMENTO CHEGAR, SERÁ QUE RITUAIS E OS DEUSES INDIANOS IRÃO GARANTIR UM AMANHÃ MELH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de Glo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de Globo de Televisão tem colocado como tema principal   em  sua  novela das 8h a música 'Simpatia Com o Diabo'  ( Sympathy for the Devil ) . Colocamos disponível  aqui  a  tradução  desta  música para que sirva como um alerta para toda a comunidade cristã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jamos que você tire suas próprias conclusões sobre este assunto, pois é por uma mensagem como esta, escondida atrás de uma melodia bonita, que os nossos filhos poderão ser atraído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idado. O mundo espiritual é mais REAL do que podemos imagina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ja a seguir a traducao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ympathy for the Devil </a:t>
            </a:r>
            <a:br>
              <a:rPr sz="40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Simpatia Com o Diabo</a:t>
            </a: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The Roling 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llow me to introduce my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m a man of wealth and t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been around for a long, lo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le many a man's soul and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r gentileza me permita me apres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 um homem de fortuna e requ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stou por aí já faz alguns 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ubei as almas e a fé de muitos ho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 was 'round when Jesus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his moment of doubt and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damn sure that Pi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ed his hands and sealed his 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 eu estava por perto quando Jesus C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ve seu momento de duvida e 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z muita questão que Pil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vasse suas mãos e selasse seu des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eased to mee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pe you guess m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t what's puzzling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 the nature of my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Um prazer em lhe conh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spero que adivinhem o meu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Mas o que lhes intr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É a natureza do meu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508640"/>
            <a:ext cx="9144000" cy="23493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o país tem 1,1 bilhão de habitantes e 92% da população é considerada pobre ou miserável, pelos padrões da O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tuck around St. Peters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w it was a time for a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ed the Czar and his min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stasia screamed in v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u aguardei em São Petersbu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ando percebi que era hora para muda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tei o Czar e seus min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astácia gritou em v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ode a t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d a general's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Blitzkrieg r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bodies st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lotei um tan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sei a patente de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ando as blitzkrieg urgi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 os corpos fedi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d to mee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 you guess my name, oh ye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's puzzling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nature of my game, oh ye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Um prazer em lhe conh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Espero que adivinhem o meu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Mas o que lhes intrig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É a natureza do meu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tched with g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your kings and qu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ght for ten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Gods they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sisti com orgu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quanto seus reis e rain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utaram por dez déc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los deuses que eles cria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hout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Who killed the Kennedys?' When afte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you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itei bem 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'Quem matou os Kennedy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ando afinal de c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i apenas você 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please introduce my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m a man of wealth and t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 laid traps for trouba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get killed before they reached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mita-me por gentileza me apres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 um homem de fortuna e requ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ixei armadilhas para ministr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 morreram antes de chegarem a Bomb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d to mee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 you guessed! my name, oh ye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's puzzling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nature of my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m prazer em lhe conh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pero que adivinhem o meu nome, oh ye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 o que lhes intr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É a natureza do meu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d to mee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 you guessed my name, oh ye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's confusing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just the nature of my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m prazer em lhe conh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pero que adivinhem o meu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 o que lhes confu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É a natureza do meu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ust as every cop is a cri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d all the sinners S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heads is 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ust call me Luci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Cause I'm in need of some re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ssim como todo cana (policial) é um crimi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 todos os pecadores Sa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mo cara é co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Basta me chamar de Lúci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Pois estou precisando de alguma rest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f you mee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ome court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ome sympathy, and some t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ll your well-learned polit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'll lay your soul to waste, um y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tão se me conhe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nha alguma delicad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nha a simpatia, e algum requ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 toda sua polidez bem apren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 deitarei sua alma para apodre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lide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As ruas são repletas de lixo, e não existe higiene no preparo dos alimentos n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baby, what's m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honey, baby guess m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baby, what's m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ell you one time, you're to b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ga-me baby, qual é o meu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ga-me doçura, qual é o meu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ga-me baby, qual é o meu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he digo uma vez, é sua cul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lide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893080" cy="1425600"/>
          </a:xfrm>
          <a:prstGeom prst="rect">
            <a:avLst/>
          </a:prstGeom>
          <a:gradFill rotWithShape="0">
            <a:gsLst>
              <a:gs pos="0">
                <a:srgbClr val="ffffff">
                  <a:alpha val="55294"/>
                </a:srgbClr>
              </a:gs>
              <a:gs pos="100000">
                <a:srgbClr val="ffffff">
                  <a:alpha val="55294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IZ A BÍBLIA EM HEBREUS 9:27 QUE AO HOMEM ESTÁ ORDENADO A MORRER UMA SÓ VEZ, VINDO DEPOIS DISTO O JUÍ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Slide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4033800" cy="2232000"/>
          </a:xfrm>
          <a:prstGeom prst="rect">
            <a:avLst/>
          </a:prstGeom>
          <a:gradFill rotWithShape="0">
            <a:gsLst>
              <a:gs pos="0">
                <a:srgbClr val="ffffff">
                  <a:alpha val="71372"/>
                </a:srgbClr>
              </a:gs>
              <a:gs pos="100000">
                <a:srgbClr val="f7f7f7">
                  <a:alpha val="71372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QUEM TE LIVRARÁ DO JUÍZO VINDOU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4797360"/>
            <a:ext cx="7019640" cy="1727280"/>
          </a:xfrm>
          <a:prstGeom prst="rect">
            <a:avLst/>
          </a:prstGeom>
          <a:gradFill rotWithShape="0">
            <a:gsLst>
              <a:gs pos="0">
                <a:srgbClr val="ffffff">
                  <a:alpha val="47058"/>
                </a:srgbClr>
              </a:gs>
              <a:gs pos="100000">
                <a:srgbClr val="f7f7f7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O QUE É QUE UM GURU PODERÁ FAZER POR VOCÊ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Slide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6093000"/>
            <a:ext cx="9144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HAVERÁ ESPERANÇA PARA VOCÊ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Slide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00720" y="764640"/>
            <a:ext cx="363528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z a Bíblia que o salário do pecado é a morte...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s o dom gratuito de Deus é a vida eterna em Cristo Jesus, nosso Senhor.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anos 6: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Slide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3860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isse Jesus: Eu sou o caminho, e a verdade, e a vida; ninguém vem ao Pai senão por mim.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oão 14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436640"/>
            <a:ext cx="9144000" cy="2133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Os animais andam e defecam por todos os lugares, sendo recebidos até dentro das casas, pois muitos são considerados deuses, como as vacas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lide6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POR TRÁS DOS SUNTUOSOS MONUMENT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392720"/>
            <a:ext cx="9144000" cy="234936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STÁ A MISÉRIA CAUSADA PELO DOMÍNIO DAS CASTAS SOB O APOIO DE UMA RELIGIOSIDADE TRAIÇOEIRA, MÓRBIDA, HIPNOTIZA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lide8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 cenas da realidade de 90% dos indianos nunca serão mostradas na novela global "Caminho das Índias" pois o objetivo ao que parece é glamourizar e divulgar os "deuses" indianos , que levaram o país a ser um dos mais miseráveis , sem higiene e politeístas do mund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lid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AO RIO GÂNGES É ATRIBUÍDA A ORIGEM E O FIM D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00:05:28Z</dcterms:created>
  <dc:creator>Batista</dc:creator>
  <dc:description/>
  <dc:language>en-US</dc:language>
  <cp:lastModifiedBy>.</cp:lastModifiedBy>
  <dcterms:modified xsi:type="dcterms:W3CDTF">2009-04-22T18:47:50Z</dcterms:modified>
  <cp:revision>10</cp:revision>
  <dc:subject/>
  <dc:title>A Índia da Globo e a Índia Real</dc:title>
</cp:coreProperties>
</file>