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Over%20tne%20Raibow.wav" ContentType="audio/x-wav"/>
  <Override PartName="/ppt/media/image4.jpeg" ContentType="image/jpeg"/>
  <Override PartName="/ppt/media/image3.jpeg" ContentType="image/jpeg"/>
  <Override PartName="/ppt/media/image2.jpeg" ContentType="image/jpeg"/>
  <Override PartName="/ppt/media/pianosuave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ED2-0339-4DC7-A97D-35D5C23F96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371-F90F-423B-B8BD-F8D8947F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32E-9988-400B-9855-F47DFAB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2AB-1B3A-4643-80F0-102BD9DB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817-D1BA-4B40-AFD8-01548B4F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AC9-9F0B-41F4-876B-A103783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4B3-80FD-4012-AAF1-4239AB0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81A-91FC-4F48-A82B-BA2AAA9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A6F-4FF4-4539-A12D-B1068B9F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DD9-40DC-4D8C-BB42-4AE62807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0BA-6D3E-436B-83A2-7F5F143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76C-6AE9-46C7-B32A-73C64E97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F19-8ADD-4C91-9DEB-F986FD2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9554-2CAC-45FE-8401-0BF52901139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ver%20tne%20Raibo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ianosuav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com.br/imgres?imgurl=http://4.bp.blogspot.com/_ew4EH0-Bvbs/RrKgBAAH25I/AAAAAAAAAIU/ikZ3yh7qrKU/s320/renan-finger.jpg&amp;imgrefurl=http://orbismirabilis.blogspot.com/&amp;h=320&amp;w=302&amp;sz=21&amp;tbnid=BoYr3rz1_LJsHM:&amp;tbnh=118&amp;tbnw=111&amp;prev=/images%3Fq%3Dfotos%2Bde%2Brenan%2Bcalheiros&amp;hl=pt-BR&amp;usg=___93qf_oh4T9QevJU243ShHKMvKM=&amp;ei=laFjStTtFZiRtgfx86WyAg&amp;sa=X&amp;oi=image_result&amp;resnum=4&amp;ct=imag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08360" y="256536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CARO(A) AMIGO(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É com muita tristeza que lhe participamos o falecimento de um amigo muito querido que se chamava CARÁ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2158920" cy="2158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 advTm="6000">
    <p:cover dir="rd"/>
    <p:sndAc>
      <p:stSnd>
        <p:snd r:embed="rId2" name="Over%20tne%20Raib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08360" y="2133720"/>
            <a:ext cx="45370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Certamente você já percebeu que a morte do CARÁTER foi precedida pelo faleci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dos seu pais: a DECÊNCIA e a VERGONHA NA C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da sua mulher HONES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da sua filha RESPONSABILIDADE 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filhos BRIO, BOM SENSO e       PATRIOTISMO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295440" cy="50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9000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052640"/>
            <a:ext cx="5184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O CARÀTER deixa o seu lugar para três falsos irmã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« 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Vote em Mim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« 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Você Sabe Com Quem Está Falando?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- « 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Estou Me Lixando Para a Opinião Pública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227640" y="549360"/>
            <a:ext cx="2102040" cy="5805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 advTm="9000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708360" y="234936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Claro que não haverá multidão no seu enterro, porque já não temos muitas pessoas que o tenham conhecido bem, e poucos se darão conta de que ele par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6687" t="3482" r="6620" b="2012"/>
          <a:stretch/>
        </p:blipFill>
        <p:spPr>
          <a:xfrm>
            <a:off x="1403280" y="234936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08360" y="263700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Mas, se você ainda se recorda de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caso queira reavivar a sua lembranç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previna todos os seus amigos do desaparecimento do saudoso CARÁTER fazendo circular esta comunicaç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2158920" cy="143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399960"/>
            <a:ext cx="84247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Lucida Sans Unicode"/>
              </a:rPr>
              <a:t>Senão, não faça nada... deixe tudo como está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ff33"/>
                </a:solidFill>
                <a:latin typeface="Lucida Sans Unicode"/>
              </a:rPr>
              <a:t>E nossos governantes continuarão financiando com o nosso dinheiro as viagens de suas amantes para a Europ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Lucida Sans Unicode"/>
              </a:rPr>
              <a:t>...e os bandidos continuarão soltos e estuprando nossas esposas e filhas dentro de nossas próprias c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33"/>
                </a:solidFill>
                <a:latin typeface="Lucida Sans Unicode"/>
              </a:rPr>
              <a:t>Vamos nos mobilizar e saiamos às ruas se preciso for. Quem sabe ressucitemos o CARÁ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rd"/>
    <p:sndAc>
      <p:stSnd>
        <p:snd r:embed="rId1" name="pianosuav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08360" y="177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…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e que viveu muitos e muitos anos entre nó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2158920" cy="143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708360" y="357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Ninguém conhecia com precisão a sua idade porque o registo do seu nascimento foi desclassificado há muito tempo, tamanha a sua antigu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2158920" cy="144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9000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1341360"/>
            <a:ext cx="53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Mas lembramo-nos muito bem del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principalmente pelas suas lições de 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com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Nosso direito termina quando começa o direito de alguém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A honestidade não é uma virtude a ser aplaudida, e sim praticada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Ou ai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Decência é como gravidez: ou existe, ou não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E também …  » respeite, mesmo se for desrepeitado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1728720" cy="21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1728720" cy="215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1728720" cy="21589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73360"/>
            <a:ext cx="51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O CARÁTER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só vivia com regras simples e práticas com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Não existe qualquer tipo de convivência sem RESPEITO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e de claros princípios básicos como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ffffff"/>
                </a:solidFill>
                <a:latin typeface="Lucida Sans Unicode"/>
              </a:rPr>
              <a:t>O exemplo vem de cima</a:t>
            </a: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»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165564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1655640" cy="2159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08360" y="148428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Acontece que o CARÁTER começou a ficar abalado quando altas personalidades da vida pública deixaram de participar do noticiário político, passando para o pol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José Sarney (Foto: Fábio Rodrigues Pozzebom/ABr)"/>
          <p:cNvPicPr/>
          <p:nvPr/>
        </p:nvPicPr>
        <p:blipFill>
          <a:blip r:embed="rId1"/>
          <a:stretch/>
        </p:blipFill>
        <p:spPr>
          <a:xfrm>
            <a:off x="755640" y="1052640"/>
            <a:ext cx="2521080" cy="1896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" descr="http://orbismirabilis.blogspot.com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141720"/>
            <a:ext cx="257328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492360" y="328464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 chegou a entrar em coma, quando soube que ex-presidentes, presidentes do Senado e a quase totalidade dos parlamentares estavam envolvidos na bandalhe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59280" y="1700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Seu estado se agravou , quando ele soube que dois ex-prefeitos de São Paulo) haviam sido presos (e depois soltos, obviamente) por terem praticados falcatruas no exercício do car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342900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Deteriorou-se mais ainda, quando ficou sabendo que um destacado homem público pagava a pensão de sua amante com dinheiro público surrupiado. E que a esposa traída nem ligou muito para o escândalo. Parece que ela estava mais interessada nas  mordomias que o marido infiel lhe proporcion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http://orbismirabilis.blogspot.com/"/>
          <p:cNvPicPr/>
          <p:nvPr/>
        </p:nvPicPr>
        <p:blipFill>
          <a:blip r:embed="rId1"/>
          <a:stretch/>
        </p:blipFill>
        <p:spPr>
          <a:xfrm>
            <a:off x="324000" y="3213000"/>
            <a:ext cx="257328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" descr="Renan Calheiros mostra fotos de Mônica Veloso pelada"/>
          <p:cNvPicPr/>
          <p:nvPr/>
        </p:nvPicPr>
        <p:blipFill>
          <a:blip r:embed="rId2"/>
          <a:stretch/>
        </p:blipFill>
        <p:spPr>
          <a:xfrm>
            <a:off x="0" y="692280"/>
            <a:ext cx="2843280" cy="21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7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2781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Enfim, o CARÁTER perdeu a vontade de viver quando percebeu que os ladrões e os criminosos recebiam melhor tratamento do que as suas vít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2158920" cy="1574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34136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Também recebeu fortes golpes morais e físicos, quando a Justiça decidiu que era crime defendermo-nos de algum ladrão na nossa própria casa, enquanto a este último é dada a garantia de poder queixar-se por agressão e atentado à integridade físic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15892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146320" cy="215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1765440" cy="2158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581360"/>
            <a:ext cx="87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O Caráter perdeu definitivamente toda a confiança e a vontade de viver quando soube que, antigos opositores do Governo (e agora integrantes do Governo) estavam recebendo polpudas indenizaçõ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Sans Unicode"/>
              </a:rPr>
              <a:t>Por terem feito oposição a um Governo do qual muitos deles chegaram a participar, e em cujas tetas se locupleta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43600" cy="3543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 advTm="12000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1:24:31Z</dcterms:created>
  <dc:creator>CP6301344M</dc:creator>
  <dc:description>A lire sans seulement survoler</dc:description>
  <dc:language>en-US</dc:language>
  <cp:lastModifiedBy>user</cp:lastModifiedBy>
  <dcterms:modified xsi:type="dcterms:W3CDTF">2009-07-19T23:27:20Z</dcterms:modified>
  <cp:revision>35</cp:revision>
  <dc:subject/>
  <dc:title>Diapositive 1</dc:title>
</cp:coreProperties>
</file>