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Rob%C3%B4%20-%20Asterisco.wav" ContentType="audio/x-wav"/>
  <Override PartName="/ppt/media/Rob%C3%B4%20-%20In%C3%ADcio%20do%20Windows.wav" ContentType="audio/x-wav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55B-1811-482D-AB75-0F5F99C6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135-3C1D-46A9-86B1-46BDD0E0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38E-549A-4B10-9586-10682BD7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622-ADD0-4FF3-95D7-F0ECF4CA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3C5-743B-4C5A-AD99-4CB70BB7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B7A-AE63-487C-A804-EEA4C1D5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99B-FB81-42A7-800A-8811A414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0C0-9D9F-4D14-B2A8-CA322673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67B-BC06-47E3-9D4D-4574FFBA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72E-88F0-4ECA-8F0F-C829DFE4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7F5-FC33-4071-B43F-C2E3940A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B5E-2A5C-4501-9CAD-1F79FCC0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7746-CC0C-46AA-A66B-AB29337DF9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Rob&#244;%20-%20Asterisco.wav"/><Relationship Id="rId6" Type="http://schemas.openxmlformats.org/officeDocument/2006/relationships/audio" Target="../media/Rob&#244;%20-%20In&#237;cio%20do%20Window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bject 3" descr=""/>
          <p:cNvPicPr/>
          <p:nvPr/>
        </p:nvPicPr>
        <p:blipFill>
          <a:blip r:embed="rId1"/>
          <a:stretch/>
        </p:blipFill>
        <p:spPr>
          <a:xfrm>
            <a:off x="3962520" y="-19080"/>
            <a:ext cx="761760" cy="665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3933720" y="533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Senho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781440" y="752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neste Nata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657600" y="990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quisera   p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533760" y="1219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armar uma árv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09920" y="14479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belíssima   dentro   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2733840" y="25909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os  amigos  antigos  e  os  mais  rec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2600280" y="281952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Os que vejo a cada  dia  e os que rar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0"/>
          <p:cNvSpPr/>
          <p:nvPr/>
        </p:nvSpPr>
        <p:spPr>
          <a:xfrm>
            <a:off x="15238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quem    muito     dev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1"/>
          <p:cNvSpPr/>
          <p:nvPr/>
        </p:nvSpPr>
        <p:spPr>
          <a:xfrm>
            <a:off x="1447920" y="4876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Important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1295280" y="51055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Uma árvore  de  raízes  muito  profundas  para  que  seus  nomes  nunca  sej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114300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arrancadas  do  meu  coraçã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1066680" y="5562720"/>
            <a:ext cx="701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vindos  de  todas  as  partes,  venham  juntar-se   aos   existentes,   de   sombra,   mu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990720" y="579132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agradável,  para  que  nossa  amizade  seja  sempre  um  momento  eterno  de  harmonia  e  e pa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8"/>
          <p:cNvSpPr/>
          <p:nvPr/>
        </p:nvSpPr>
        <p:spPr>
          <a:xfrm>
            <a:off x="3733920" y="60199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663300"/>
                </a:solidFill>
                <a:latin typeface="Times New Roman"/>
              </a:rPr>
              <a:t>Se   consegui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0"/>
          <p:cNvSpPr/>
          <p:nvPr/>
        </p:nvSpPr>
        <p:spPr>
          <a:xfrm>
            <a:off x="3886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pt-BR" sz="1400" spc="-1" strike="noStrike">
                <a:solidFill>
                  <a:srgbClr val="663300"/>
                </a:solidFill>
                <a:latin typeface="Times New Roman"/>
              </a:rPr>
              <a:t>Senho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3733920" y="6400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663300"/>
                </a:solidFill>
                <a:latin typeface="Times New Roman"/>
              </a:rPr>
              <a:t>Eu  agradeç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2990880" y="21337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presentes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2057400" y="373392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das  horas boas e alegres, os  que  sem  querer  magoei  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152880" y="1905120"/>
            <a:ext cx="11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pendura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2209680" y="35053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intermitentes,  os  das  horas  amargas  e  difíceis  e 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1790640" y="4191120"/>
            <a:ext cx="58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conheço  profundamente  e  aqueles  de  quem me são conhec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1905120" y="396252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aqueles  que  sem  querer  me  magoaram,   aqueles   a   qu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276720" y="16668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meu   coraçã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838600" y="23623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meus  amig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1676520" y="441972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a  não  ser  as  aparência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467080" y="304812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encontro,  os   sempre   lembrados   e os que, à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352600" y="3276720"/>
            <a:ext cx="23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vezes,    ficam   esquecid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9"/>
          <p:cNvSpPr/>
          <p:nvPr/>
        </p:nvSpPr>
        <p:spPr>
          <a:xfrm>
            <a:off x="0" y="6783480"/>
            <a:ext cx="76320" cy="7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6"/>
          <p:cNvSpPr/>
          <p:nvPr/>
        </p:nvSpPr>
        <p:spPr>
          <a:xfrm>
            <a:off x="4572000" y="1676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e   n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7"/>
          <p:cNvSpPr/>
          <p:nvPr/>
        </p:nvSpPr>
        <p:spPr>
          <a:xfrm>
            <a:off x="3962520" y="19051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em       vez   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8"/>
          <p:cNvSpPr/>
          <p:nvPr/>
        </p:nvSpPr>
        <p:spPr>
          <a:xfrm>
            <a:off x="3809880" y="2133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os  nomes de  todos 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9"/>
          <p:cNvSpPr/>
          <p:nvPr/>
        </p:nvSpPr>
        <p:spPr>
          <a:xfrm>
            <a:off x="3962520" y="236232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de   longe  e  de  pert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0"/>
          <p:cNvSpPr/>
          <p:nvPr/>
        </p:nvSpPr>
        <p:spPr>
          <a:xfrm>
            <a:off x="4419720" y="327672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Os    constantes   e   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1"/>
          <p:cNvSpPr/>
          <p:nvPr/>
        </p:nvSpPr>
        <p:spPr>
          <a:xfrm>
            <a:off x="3733920" y="441972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Os  que  pouco  me   devem  e   aqueles 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2438280" y="487692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Os  nomes  de  todos  os   que  já  passaram  pela  minha  vi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4"/>
          <p:cNvSpPr/>
          <p:nvPr/>
        </p:nvSpPr>
        <p:spPr>
          <a:xfrm>
            <a:off x="3429000" y="533412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De  ramos  muito  extensos  para  que  novos  nom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3352680" y="464832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8000"/>
                </a:solidFill>
                <a:latin typeface="Times New Roman"/>
              </a:rPr>
              <a:t>Meus     amigos     humildes    e   meus   ami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6"/>
          <p:cNvGraphicFramePr/>
          <p:nvPr/>
        </p:nvGraphicFramePr>
        <p:xfrm>
          <a:off x="3809880" y="0"/>
          <a:ext cx="838440" cy="78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0"/>
                    <a:ext cx="8384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Claire de Lune de Debussy.rmi" descr=""/>
          <p:cNvPicPr/>
          <p:nvPr/>
        </p:nvPicPr>
        <p:blipFill>
          <a:blip r:embed="rId4"/>
          <a:stretch/>
        </p:blipFill>
        <p:spPr>
          <a:xfrm>
            <a:off x="8153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1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2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1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7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6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4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9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8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86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9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8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3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63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99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29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6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77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14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29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7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66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12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61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79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16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61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12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41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5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6600"/>
                            </p:stCondLst>
                            <p:childTnLst>
                              <p:par>
                                <p:cTn id="1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%C3%B4%20-%20Asterisc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71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%C3%B4%20-%20In%C3%ADcio%20do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86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4:13:24Z</dcterms:created>
  <dc:creator>Lidiane</dc:creator>
  <dc:description/>
  <dc:language>en-US</dc:language>
  <cp:lastModifiedBy>particular</cp:lastModifiedBy>
  <cp:lastPrinted>1998-12-30T17:50:56Z</cp:lastPrinted>
  <dcterms:modified xsi:type="dcterms:W3CDTF">2010-12-22T01:43:00Z</dcterms:modified>
  <cp:revision>25</cp:revision>
  <dc:subject/>
  <dc:title>Slide sem título </dc:title>
</cp:coreProperties>
</file>