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ernesto-cortazar-_-rose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F78-6330-4593-8185-188335AF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29F-7E87-469C-8E58-727604FE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5B00-A94B-4731-A10A-01251259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4B3-9A88-4BAA-8411-0CC6231E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C6D-7C3E-45EF-AA0A-53AC9D9D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E1A8-BAB9-4870-A1CC-0A10157E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A728-F779-468C-B789-BCC7EEF1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68C-C3CD-4E3C-B285-2C3281B1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3484-6A2C-4936-9B04-ABF947C0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255-D9DE-4D23-B35F-0D503E72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39FD-10AD-4F48-AEC4-EEB33C1F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6B0-3382-48F6-A7B5-C75D8D83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8406-B9ED-44DC-942F-C7B34CCC5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nesto-cortazar-_-ros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941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2b2b2"/>
                </a:solidFill>
                <a:latin typeface="Times New Roman"/>
              </a:rPr>
              <a:t>Fantasia, fotografia, som e algumas pérolas de sabedoria para os meus ami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73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2b2b2"/>
                </a:solidFill>
                <a:latin typeface="Times New Roman"/>
              </a:rPr>
              <a:t>Diz o Talmude: “Um sonho que não se interpreta é como uma carta que não se lê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877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2b2b2"/>
                </a:solidFill>
                <a:latin typeface="Times New Roman"/>
              </a:rPr>
              <a:t>Assim, hoje não importa o tamanho do arquivo, mas a qualidade do conteú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2720" y="6308640"/>
            <a:ext cx="33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d04af4"/>
                </a:solidFill>
                <a:latin typeface="Comic Sans MS"/>
              </a:rPr>
              <a:t>Música: “Autumn Rose” – Ernesto Cortaz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64000" y="544500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O segredo da saúde, mental e corporal, está em não se lamentar pelo passado, não se preocupar com o futuro, nem se adiantar aos problemas , mas viver sabia e seriamente o presente.” 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-Bud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260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ida s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890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imes New Roman"/>
              </a:rPr>
              <a:t>Desenvolvimento sustent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093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es-ES_tradnl" sz="1800" spc="-1" strike="noStrike">
                <a:solidFill>
                  <a:srgbClr val="ffff66"/>
                </a:solidFill>
                <a:latin typeface="Times New Roman"/>
              </a:rPr>
              <a:t>No que mais se diferenciam os pássaros do ser humano é na sua capacidade de construír, mas deixando a paisagem como estava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9640" y="645336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66"/>
                </a:solidFill>
                <a:latin typeface="Times New Roman"/>
              </a:rPr>
              <a:t>Robert Lynnd –Irlanda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26028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be0e3"/>
                </a:solidFill>
                <a:latin typeface="Times New Roman"/>
              </a:rPr>
              <a:t>Conforme se ol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51280" y="5877000"/>
            <a:ext cx="468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be0e3"/>
                </a:solidFill>
                <a:latin typeface="Times New Roman"/>
              </a:rPr>
              <a:t>“</a:t>
            </a:r>
            <a:r>
              <a:rPr b="1" lang="es-ES_tradnl" sz="1800" spc="-1" strike="noStrike">
                <a:solidFill>
                  <a:srgbClr val="bbe0e3"/>
                </a:solidFill>
                <a:latin typeface="Times New Roman"/>
              </a:rPr>
              <a:t>A beleza não é um atributo das coisas em si. Só existe na mente que as contempla.”   </a:t>
            </a:r>
            <a:r>
              <a:rPr b="1" lang="es-ES_tradnl" sz="1400" spc="-1" strike="noStrike">
                <a:solidFill>
                  <a:srgbClr val="bbe0e3"/>
                </a:solidFill>
                <a:latin typeface="Times New Roman"/>
              </a:rPr>
              <a:t>David Hume – Escocia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900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Times New Roman"/>
              </a:rPr>
              <a:t>Beleza sem esfor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4797360"/>
            <a:ext cx="4249800" cy="1191240"/>
          </a:xfrm>
          <a:prstGeom prst="rect">
            <a:avLst/>
          </a:prstGeom>
          <a:gradFill rotWithShape="0">
            <a:gsLst>
              <a:gs pos="0">
                <a:srgbClr val="bbe0e3">
                  <a:alpha val="35294"/>
                </a:srgbClr>
              </a:gs>
              <a:gs pos="100000">
                <a:srgbClr val="566768">
                  <a:alpha val="4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Observai como crescem os lírios do campo; não se fatigam, nem fiam. Mas digo-vos que nem Salomão, em toda a sua glória, se vestiu como um dele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6370560"/>
            <a:ext cx="1511280" cy="307080"/>
          </a:xfrm>
          <a:prstGeom prst="rect">
            <a:avLst/>
          </a:prstGeom>
          <a:gradFill rotWithShape="0">
            <a:gsLst>
              <a:gs pos="0">
                <a:srgbClr val="000066">
                  <a:alpha val="39215"/>
                </a:srgbClr>
              </a:gs>
              <a:gs pos="100000">
                <a:srgbClr val="00002f">
                  <a:alpha val="4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Mateus, 6:28-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573408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1" lang="es-ES_tradnl" sz="1800" spc="-1" strike="noStrike">
                <a:solidFill>
                  <a:srgbClr val="cc3300"/>
                </a:solidFill>
                <a:latin typeface="Times New Roman"/>
              </a:rPr>
              <a:t>Os que sonham de dia têm conhecimento de muitas coisas que escapam aos que sonham de noite.”      </a:t>
            </a:r>
            <a:r>
              <a:rPr b="1" lang="es-ES_tradnl" sz="1400" spc="-1" strike="noStrike">
                <a:solidFill>
                  <a:srgbClr val="ff7c80"/>
                </a:solidFill>
                <a:latin typeface="Times New Roman"/>
              </a:rPr>
              <a:t>–Edgar Allan Po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189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3300"/>
                </a:solidFill>
                <a:latin typeface="Times New Roman"/>
              </a:rPr>
              <a:t>Sonhar acor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79280" y="1778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7c80"/>
                </a:solidFill>
                <a:latin typeface="Times New Roman"/>
              </a:rPr>
              <a:t>Conv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5805360"/>
            <a:ext cx="525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7c80"/>
                </a:solidFill>
                <a:latin typeface="Times New Roman"/>
              </a:rPr>
              <a:t>“</a:t>
            </a:r>
            <a:r>
              <a:rPr b="1" lang="es-ES_tradnl" sz="1800" spc="-1" strike="noStrike">
                <a:solidFill>
                  <a:srgbClr val="ff7c80"/>
                </a:solidFill>
                <a:latin typeface="Times New Roman"/>
              </a:rPr>
              <a:t>A primeira flor que floresceu na Terra era um convite à canção ainda não nascida.”                      </a:t>
            </a:r>
            <a:r>
              <a:rPr b="1" lang="es-ES_tradnl" sz="1400" spc="-1" strike="noStrike">
                <a:solidFill>
                  <a:srgbClr val="ff7c80"/>
                </a:solidFill>
                <a:latin typeface="Times New Roman"/>
              </a:rPr>
              <a:t>-Rabindranath Tago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8000" y="18900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Uma das grandes enfermidades é não ser ninguém para ninguém.”                        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-Teresa de Calcut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406728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8000" y="4941720"/>
            <a:ext cx="367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Não temas arriscar-te quando um barco avança, ele equilibra-se” 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-Refrão chinê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32720" y="5589720"/>
            <a:ext cx="2232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Meus queridos amigos: Feliz fim-de-semana para todo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9500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rograma para hoje: expirar, inspirar, expirar.” 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-Bud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333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O dia pela fr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00000" y="59500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 actividade vence o frio. A quietude vence o calor.” 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Lao Tse (século VI a.C.)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60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ntrolo de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000" y="1778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Uma simples vis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5661000"/>
            <a:ext cx="468180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odos estamos de visita neste momento e lugar. Só estamos de passagem. Viemos observar, aprender, crescer, amar e voltar para casa.”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-Dito aborígene australiano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60280"/>
            <a:ext cx="2592360" cy="368280"/>
          </a:xfrm>
          <a:prstGeom prst="rect">
            <a:avLst/>
          </a:prstGeom>
          <a:gradFill rotWithShape="0">
            <a:gsLst>
              <a:gs pos="0">
                <a:srgbClr val="32ba49">
                  <a:alpha val="45098"/>
                </a:srgbClr>
              </a:gs>
              <a:gs pos="100000">
                <a:srgbClr val="258c37">
                  <a:alpha val="5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33"/>
                </a:solidFill>
                <a:latin typeface="Times New Roman"/>
              </a:rPr>
              <a:t>A geracão segu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551664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33"/>
                </a:solidFill>
                <a:latin typeface="Times New Roman"/>
              </a:rPr>
              <a:t>“</a:t>
            </a:r>
            <a:r>
              <a:rPr b="1" lang="es-ES_tradnl" sz="1800" spc="-1" strike="noStrike">
                <a:solidFill>
                  <a:srgbClr val="66ff33"/>
                </a:solidFill>
                <a:latin typeface="Times New Roman"/>
              </a:rPr>
              <a:t>O autêntico conservador é alguém que sabe que o mundo não é uma herança dos seus pais, mas um empréstimo dos seus filhos.”  </a:t>
            </a:r>
            <a:r>
              <a:rPr b="1" lang="es-ES_tradnl" sz="1400" spc="-1" strike="noStrike">
                <a:solidFill>
                  <a:srgbClr val="66ff33"/>
                </a:solidFill>
                <a:latin typeface="Times New Roman"/>
              </a:rPr>
              <a:t>-J.J. Audubon 1800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5589720"/>
            <a:ext cx="8713800" cy="1059840"/>
          </a:xfrm>
          <a:prstGeom prst="rect">
            <a:avLst/>
          </a:prstGeom>
          <a:gradFill rotWithShape="0">
            <a:gsLst>
              <a:gs pos="0">
                <a:srgbClr val="000066">
                  <a:alpha val="39215"/>
                </a:srgbClr>
              </a:gs>
              <a:gs pos="100000">
                <a:srgbClr val="00002f">
                  <a:alpha val="4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66"/>
                </a:solidFill>
                <a:uFillTx/>
                <a:latin typeface="Times New Roman"/>
              </a:rPr>
              <a:t>O VALOR DO T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es-ES_tradnl" sz="1800" spc="-1" strike="noStrike">
                <a:solidFill>
                  <a:srgbClr val="ffff66"/>
                </a:solidFill>
                <a:latin typeface="Times New Roman"/>
              </a:rPr>
              <a:t>Nem com milhões de moedas de ouro se pode recuperar um só instante da vida. Que maior perda, então, do que a do tempo desperdiçado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6669000"/>
            <a:ext cx="2664000" cy="246240"/>
          </a:xfrm>
          <a:prstGeom prst="rect">
            <a:avLst/>
          </a:prstGeom>
          <a:gradFill rotWithShape="0">
            <a:gsLst>
              <a:gs pos="0">
                <a:srgbClr val="333399">
                  <a:alpha val="32156"/>
                </a:srgbClr>
              </a:gs>
              <a:gs pos="100000">
                <a:srgbClr val="7070b7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66"/>
                </a:solidFill>
                <a:latin typeface="Arial"/>
              </a:rPr>
              <a:t>Chanakya Pandita 275 a.C In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260280"/>
            <a:ext cx="2016360" cy="368280"/>
          </a:xfrm>
          <a:prstGeom prst="rect">
            <a:avLst/>
          </a:prstGeom>
          <a:gradFill rotWithShape="0">
            <a:gsLst>
              <a:gs pos="0">
                <a:srgbClr val="bbe0e3">
                  <a:alpha val="41176"/>
                </a:srgbClr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Times New Roman"/>
              </a:rPr>
              <a:t>Simplemente b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6021360"/>
            <a:ext cx="4897440" cy="642600"/>
          </a:xfrm>
          <a:prstGeom prst="rect">
            <a:avLst/>
          </a:prstGeom>
          <a:gradFill rotWithShape="0">
            <a:gsLst>
              <a:gs pos="0">
                <a:srgbClr val="bbe0e3">
                  <a:alpha val="48235"/>
                </a:srgbClr>
              </a:gs>
              <a:gs pos="100000">
                <a:srgbClr val="566768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es-ES_tradnl" sz="1800" spc="-1" strike="noStrike">
                <a:solidFill>
                  <a:srgbClr val="000066"/>
                </a:solidFill>
                <a:latin typeface="Times New Roman"/>
              </a:rPr>
              <a:t>A beleza , quando está mais adornada é quando não o está.”   </a:t>
            </a:r>
            <a:r>
              <a:rPr b="1" lang="es-ES_tradnl" sz="1400" spc="-1" strike="noStrike">
                <a:solidFill>
                  <a:srgbClr val="000066"/>
                </a:solidFill>
                <a:latin typeface="Times New Roman"/>
              </a:rPr>
              <a:t>-São Jerónim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27280" y="0"/>
            <a:ext cx="65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es-ES_tradnl" sz="1800" spc="-1" strike="noStrike">
                <a:solidFill>
                  <a:srgbClr val="000066"/>
                </a:solidFill>
                <a:latin typeface="Times New Roman"/>
              </a:rPr>
              <a:t>A princípio são pequenos, mas no seu percurso fazem-se mais fortes e profundos, e uma vez que tenham começado, já não têm volta. Assim sucede com os rios, os anos e as amizades.”                -</a:t>
            </a:r>
            <a:r>
              <a:rPr b="1" lang="es-ES_tradnl" sz="1400" spc="-1" strike="noStrike">
                <a:solidFill>
                  <a:srgbClr val="000066"/>
                </a:solidFill>
                <a:latin typeface="Times New Roman"/>
              </a:rPr>
              <a:t>Antigo versículo sânscrit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89000"/>
            <a:ext cx="2124000" cy="368280"/>
          </a:xfrm>
          <a:prstGeom prst="rect">
            <a:avLst/>
          </a:prstGeom>
          <a:gradFill rotWithShape="0">
            <a:gsLst>
              <a:gs pos="0">
                <a:srgbClr val="ffff00">
                  <a:alpha val="32156"/>
                </a:srgbClr>
              </a:gs>
              <a:gs pos="100000">
                <a:srgbClr val="fefeb1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Times New Roman"/>
              </a:rPr>
              <a:t>RIOS DE A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92360" y="5877000"/>
            <a:ext cx="4248360" cy="642600"/>
          </a:xfrm>
          <a:prstGeom prst="rect">
            <a:avLst/>
          </a:prstGeom>
          <a:gradFill rotWithShape="0">
            <a:gsLst>
              <a:gs pos="0">
                <a:srgbClr val="bbe0e3">
                  <a:alpha val="53333"/>
                </a:srgbClr>
              </a:gs>
              <a:gs pos="100000">
                <a:srgbClr val="566768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00"/>
                </a:solidFill>
                <a:latin typeface="Times New Roman"/>
              </a:rPr>
              <a:t>O Mundo não te deve nada. Existia antes de ti.”  </a:t>
            </a:r>
            <a:r>
              <a:rPr b="1" lang="es-ES_tradnl" sz="1400" spc="-1" strike="noStrike">
                <a:solidFill>
                  <a:srgbClr val="006600"/>
                </a:solidFill>
                <a:latin typeface="Times New Roman"/>
              </a:rPr>
              <a:t>-Mark Twain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115920"/>
            <a:ext cx="1296720" cy="368280"/>
          </a:xfrm>
          <a:prstGeom prst="rect">
            <a:avLst/>
          </a:prstGeom>
          <a:gradFill rotWithShape="0">
            <a:gsLst>
              <a:gs pos="0">
                <a:srgbClr val="bbe0e3">
                  <a:alpha val="67058"/>
                </a:srgbClr>
              </a:gs>
              <a:gs pos="100000">
                <a:srgbClr val="333d3e">
                  <a:alpha val="4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00"/>
                </a:solidFill>
                <a:latin typeface="Times New Roman"/>
              </a:rPr>
              <a:t>Prior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0:07:20Z</dcterms:created>
  <dc:creator>operacao</dc:creator>
  <dc:description/>
  <dc:language>en-US</dc:language>
  <cp:lastModifiedBy>operacao</cp:lastModifiedBy>
  <dcterms:modified xsi:type="dcterms:W3CDTF">2008-08-29T10:10:26Z</dcterms:modified>
  <cp:revision>1</cp:revision>
  <dc:subject/>
  <dc:title>Diapositivo 1</dc:title>
</cp:coreProperties>
</file>