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4.gif" ContentType="image/gif"/>
  <Override PartName="/ppt/media/image6.jpeg" ContentType="image/jpeg"/>
  <Override PartName="/ppt/media/Bach_Gounod_Ave%20Maria.wav" ContentType="audio/x-wav"/>
  <Override PartName="/ppt/media/image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652F-DEBB-49B6-BEA0-C7433C7D8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1A77-8F8E-46FC-BD8D-1F961FA06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3125-5DE5-4990-B5C7-5DB51B395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6AE5-F109-4CED-92CD-10E857DDE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EF24-50D0-434B-AC04-57175F8A7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8673-B03E-4AE5-81F5-FE0C1F858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ADA7-CD0E-4440-A98B-61BED139C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9EA4-73E3-4FBD-997A-E168E8034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C38A-602F-49B0-9E74-633360FB3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2D4D-4934-4145-9FD6-C5A99A4F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71C3-AE71-42FD-B57A-543B6A8F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7F8B-BA24-4F89-AD1B-D2C5F9B2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811D4-134E-427C-88A6-05C56112F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audio" Target="../media/Bach_Gounod_Ave%20Maria.wav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495680" y="3124080"/>
            <a:ext cx="4419720" cy="32511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9705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5148360" y="260280"/>
            <a:ext cx="375264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Nossa Senhora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d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Fátima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148360" y="4365720"/>
            <a:ext cx="1428480" cy="1552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7451640" y="3068640"/>
            <a:ext cx="1428840" cy="15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16276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2484360" y="189000"/>
            <a:ext cx="6191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Ela é a Virgem Peregrina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528920" y="5445000"/>
            <a:ext cx="60861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e sempre leva muita Luz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os lugares que visita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165400" y="0"/>
            <a:ext cx="50706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258920" y="5184720"/>
            <a:ext cx="71229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cb200"/>
                </a:solidFill>
                <a:latin typeface="BlackChancery"/>
              </a:rPr>
              <a:t>Obrigado por você fazer com que </a:t>
            </a:r>
            <a:br>
              <a:rPr sz="3200"/>
            </a:br>
            <a:r>
              <a:rPr b="1" lang="en-US" sz="3200" spc="-1" strike="noStrike">
                <a:solidFill>
                  <a:srgbClr val="dcb200"/>
                </a:solidFill>
                <a:latin typeface="BlackChancery"/>
              </a:rPr>
              <a:t>se cumpra este plano divino .</a:t>
            </a:r>
            <a:br>
              <a:rPr sz="3200"/>
            </a:br>
            <a:r>
              <a:rPr b="1" lang="en-US" sz="3200" spc="-1" strike="noStrike">
                <a:solidFill>
                  <a:srgbClr val="dcb200"/>
                </a:solidFill>
                <a:latin typeface="Bremen Blk BT"/>
              </a:rPr>
              <a:t>FIQUE EM PAZ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3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5435640" y="5300640"/>
            <a:ext cx="512640" cy="6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2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95280" y="404640"/>
            <a:ext cx="4248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mem..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9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0"/>
                            </p:stCondLst>
                            <p:childTnLst>
                              <p:par>
                                <p:cTn id="1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3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4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6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8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0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5288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356000" y="189000"/>
            <a:ext cx="4572000" cy="62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b200"/>
                </a:solidFill>
                <a:latin typeface="BlackChancery"/>
              </a:rPr>
              <a:t>Hoje  é   </a:t>
            </a:r>
            <a:fld id="{594AB50C-C78D-4BF9-9A94-1EFBBEF6D858}" type="datetime2">
              <a:rPr b="0" lang="en-US" sz="2800" spc="-1" strike="noStrike">
                <a:solidFill>
                  <a:srgbClr val="dcb200"/>
                </a:solidFill>
                <a:latin typeface="BlackChancery"/>
              </a:rPr>
              <a:t>Thursday, July 30, 2026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b200"/>
                </a:solidFill>
                <a:latin typeface="BlackChancery"/>
              </a:rPr>
              <a:t>Agora,  são   </a:t>
            </a:r>
            <a:fld id="{89B883E1-2009-4D31-BC65-B42B57D67ECA}" type="datetime10">
              <a:rPr b="0" lang="en-US" sz="2800" spc="-1" strike="noStrike">
                <a:solidFill>
                  <a:srgbClr val="dcb200"/>
                </a:solidFill>
                <a:latin typeface="BlackChancery"/>
              </a:rPr>
              <a:t>15:03</a:t>
            </a:fld>
            <a:r>
              <a:rPr b="0" lang="en-US" sz="2800" spc="-1" strike="noStrike">
                <a:solidFill>
                  <a:srgbClr val="dcb200"/>
                </a:solidFill>
                <a:latin typeface="BlackChancery"/>
              </a:rPr>
              <a:t> 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b200"/>
                </a:solidFill>
                <a:latin typeface="comic"/>
              </a:rPr>
              <a:t>RELAXE POR alguns Minu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445000"/>
            <a:ext cx="85341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cb200"/>
                </a:solidFill>
                <a:latin typeface="BlackChancery"/>
              </a:rPr>
              <a:t>Voce está recebendo a visita de Nossa Senhora de Fát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7500"/>
                            </p:stCondLst>
                            <p:childTnLst>
                              <p:par>
                                <p:cTn id="2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3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72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724360" y="430560"/>
            <a:ext cx="3024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Arial"/>
              </a:rPr>
              <a:t>É realmente uma flo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Arial"/>
              </a:rPr>
              <a:t>que exala u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Arial"/>
              </a:rPr>
              <a:t>perfume maravilhoso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Arial"/>
              </a:rPr>
              <a:t>que inebr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Arial"/>
              </a:rPr>
              <a:t>inclusive os coraçõ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Arial"/>
              </a:rPr>
              <a:t>dos que não 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Arial"/>
              </a:rPr>
              <a:t>permitem conhecê-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070000" y="0"/>
            <a:ext cx="52228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507960" y="5162400"/>
            <a:ext cx="8312040" cy="165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la visita sua casa e o seu ambiente de trabalho.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ê graças a Deus.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01760" y="0"/>
            <a:ext cx="510696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209680" y="297000"/>
            <a:ext cx="49532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cb200"/>
                </a:solidFill>
                <a:latin typeface="BlackChancery"/>
              </a:rPr>
              <a:t>Reze com E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1058760"/>
            <a:ext cx="1752480" cy="41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b200"/>
                </a:solidFill>
                <a:latin typeface="BlackChancery"/>
              </a:rPr>
              <a:t>Ave Maria, cheia de graça, o Senhor é convosco, bendita sois vós entre as mulheres, bendito é o fruto do vosso ventre Jes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8000" y="2362320"/>
            <a:ext cx="2286000" cy="26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b200"/>
                </a:solidFill>
                <a:latin typeface="BlackChancery"/>
              </a:rPr>
              <a:t>Santa Maria, Mãe de Deus rogai por nós, pecadores, agora e na hora de nossa mor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b200"/>
                </a:solidFill>
                <a:latin typeface="BlackChancery"/>
              </a:rPr>
              <a:t>Amé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3400"/>
                            </p:stCondLst>
                            <p:childTnLst>
                              <p:par>
                                <p:cTn id="60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3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01960" y="0"/>
            <a:ext cx="51624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324000" y="5013360"/>
            <a:ext cx="85802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onfie nela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uas necessidades serão atendidas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17600" y="0"/>
            <a:ext cx="51627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1258920" y="117360"/>
            <a:ext cx="6724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ão a deixe em sua casa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95440" y="5518080"/>
            <a:ext cx="79531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ssim que puder, deixe-a partir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ara visitar seus amigos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5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09840" y="5326920"/>
            <a:ext cx="821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Arial"/>
              </a:rPr>
              <a:t>A imagem Peregrina de Nossa Senhora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63000" y="5949000"/>
            <a:ext cx="704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ff"/>
                </a:solidFill>
                <a:latin typeface="Arial"/>
              </a:rPr>
              <a:t>4 de Junho de 2005 – Festa do Coração Imaculado de Maria</a:t>
            </a:r>
            <a:br>
              <a:rPr sz="2000"/>
            </a:br>
            <a:r>
              <a:rPr b="1" lang="en-US" sz="2000" spc="-1" strike="noStrike" u="sng">
                <a:solidFill>
                  <a:srgbClr val="00ccff"/>
                </a:solidFill>
                <a:uFillTx/>
                <a:latin typeface="Arial"/>
              </a:rPr>
              <a:t>Imagem da Virgem Peregrina de Fátima no Vatic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3203640" y="4870440"/>
            <a:ext cx="55339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Que meu filho proteja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quem lhe enviou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inha oração..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8T12:57:00Z</dcterms:created>
  <dc:creator>Jose Geraldo Gomes</dc:creator>
  <dc:description/>
  <dc:language>en-US</dc:language>
  <cp:lastModifiedBy>Jose Geraldo Gomes</cp:lastModifiedBy>
  <dcterms:modified xsi:type="dcterms:W3CDTF">2007-05-28T12:57:25Z</dcterms:modified>
  <cp:revision>1</cp:revision>
  <dc:subject/>
  <dc:title>Slide 1</dc:title>
</cp:coreProperties>
</file>