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3.png" ContentType="image/png"/>
  <Override PartName="/ppt/media/image6.jpeg" ContentType="image/jpe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Religiosa__Pastores1MP%5B1%5D.wav" ContentType="audio/x-wav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162D-7713-448D-A062-A60C68979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B596-5547-46F3-BBE0-A831D8112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B12F-7F56-45E6-B871-53FAAF94B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CAF8-2083-4143-9FDC-CCADE8238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E3F1-853B-48DF-9663-CBAD9A245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9A56-5470-4895-813B-82132E534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5E96-6918-4748-BAC8-F4894ED50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AEEB-9B27-4065-BE68-09D4895A9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33A3-FC56-4F58-99EF-EFD949839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F176-E139-4AD7-BF23-CEF4C1813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BF34-7AB1-4257-BAE8-1C8907EA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4B4C-3590-4454-B1F8-AB603FB88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E9DDC-33B4-4BDD-979C-F404747194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Religiosa__Pastores1MP%5B1%5D.wav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839880" y="3127320"/>
            <a:ext cx="74628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5050"/>
                </a:solidFill>
                <a:latin typeface="Arial Unicode MS"/>
              </a:rPr>
              <a:t>Você fugiria?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1" name="Religiosa__Pastores1MP%5B1%5D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3587760" y="254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380880" y="1143000"/>
            <a:ext cx="5943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Arial Unicode MS"/>
                <a:ea typeface="Arial"/>
              </a:rPr>
              <a:t>É engraçado como acreditamos em tudo aquilo que os jornais dizem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3497400" y="254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1" descr="image0121312"/>
          <p:cNvPicPr/>
          <p:nvPr/>
        </p:nvPicPr>
        <p:blipFill>
          <a:blip r:embed="rId1"/>
          <a:stretch/>
        </p:blipFill>
        <p:spPr>
          <a:xfrm>
            <a:off x="6553080" y="914400"/>
            <a:ext cx="2286000" cy="20638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12"/>
          <p:cNvSpPr/>
          <p:nvPr/>
        </p:nvSpPr>
        <p:spPr>
          <a:xfrm>
            <a:off x="3352680" y="4800600"/>
            <a:ext cx="556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Arial Unicode MS"/>
                <a:ea typeface="Arial"/>
              </a:rPr>
              <a:t>Mas ignoramos 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Arial Unicode MS"/>
                <a:ea typeface="Arial"/>
              </a:rPr>
              <a:t>que a Biblia diz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13"/>
          <p:cNvSpPr/>
          <p:nvPr/>
        </p:nvSpPr>
        <p:spPr>
          <a:xfrm>
            <a:off x="3211560" y="247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5" descr="image0131413"/>
          <p:cNvPicPr/>
          <p:nvPr/>
        </p:nvPicPr>
        <p:blipFill>
          <a:blip r:embed="rId2"/>
          <a:stretch/>
        </p:blipFill>
        <p:spPr>
          <a:xfrm>
            <a:off x="990720" y="4114800"/>
            <a:ext cx="266688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246960" y="990720"/>
            <a:ext cx="513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Arial Unicode MS"/>
                <a:ea typeface="Arial"/>
              </a:rPr>
              <a:t>É engraçado como to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Arial Unicode MS"/>
                <a:ea typeface="Arial"/>
              </a:rPr>
              <a:t>querem ir para o céu...</a:t>
            </a:r>
            <a:r>
              <a:rPr b="1" lang="en-US" sz="2400" spc="-1" strike="noStrike">
                <a:solidFill>
                  <a:srgbClr val="ccecff"/>
                </a:solidFill>
                <a:latin typeface="Comic Sans MS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5" descr="image0141514"/>
          <p:cNvPicPr/>
          <p:nvPr/>
        </p:nvPicPr>
        <p:blipFill>
          <a:blip r:embed="rId1"/>
          <a:stretch/>
        </p:blipFill>
        <p:spPr>
          <a:xfrm>
            <a:off x="5486400" y="318960"/>
            <a:ext cx="3298680" cy="2244960"/>
          </a:xfrm>
          <a:prstGeom prst="rect">
            <a:avLst/>
          </a:prstGeom>
          <a:ln w="0">
            <a:noFill/>
          </a:ln>
        </p:spPr>
      </p:pic>
      <p:sp>
        <p:nvSpPr>
          <p:cNvPr id="78" name="Text Box 6"/>
          <p:cNvSpPr/>
          <p:nvPr/>
        </p:nvSpPr>
        <p:spPr>
          <a:xfrm>
            <a:off x="2971800" y="4038480"/>
            <a:ext cx="586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Arial Unicode MS"/>
                <a:ea typeface="Arial"/>
              </a:rPr>
              <a:t>Desde que não tenham de acreditar, pensar, dizer, ou fazer aquilo que a Biblia diz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33520" y="3276720"/>
            <a:ext cx="22860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3403440" y="254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1676520" y="380880"/>
            <a:ext cx="6019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Arial Unicode MS"/>
                <a:ea typeface="Arial"/>
              </a:rPr>
              <a:t>É interessante como se mandam milhares de “piadinhas” por e-mail, que se espalham como fogo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3754440" y="254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4648320" y="3581280"/>
            <a:ext cx="4114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 Unicode MS"/>
                <a:ea typeface="Arial"/>
              </a:rPr>
              <a:t>Mas quando se começa a enviar mensagens que se referem ao Senhor, pensa-se duas vezes em partilhá-l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1"/>
          <p:cNvSpPr/>
          <p:nvPr/>
        </p:nvSpPr>
        <p:spPr>
          <a:xfrm>
            <a:off x="3244680" y="254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13" descr="image0202120"/>
          <p:cNvPicPr/>
          <p:nvPr/>
        </p:nvPicPr>
        <p:blipFill>
          <a:blip r:embed="rId1"/>
          <a:stretch/>
        </p:blipFill>
        <p:spPr>
          <a:xfrm>
            <a:off x="457200" y="3352680"/>
            <a:ext cx="3809880" cy="27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3168720" y="263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0" y="3808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 Unicode MS"/>
                <a:ea typeface="Arial"/>
              </a:rPr>
              <a:t>É engraçado como as piadinhas lascivas, rudes e obscenas se dispersam livremente pela internet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3311640" y="254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3"/>
          <p:cNvSpPr/>
          <p:nvPr/>
        </p:nvSpPr>
        <p:spPr>
          <a:xfrm>
            <a:off x="228600" y="510552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 Unicode MS"/>
                <a:ea typeface="Arial"/>
              </a:rPr>
              <a:t>...mas a discussão pública sob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 Unicode MS"/>
                <a:ea typeface="Arial"/>
              </a:rPr>
              <a:t>“</a:t>
            </a:r>
            <a:r>
              <a:rPr b="1" lang="en-US" sz="2800" spc="-1" strike="noStrike">
                <a:solidFill>
                  <a:srgbClr val="ff5050"/>
                </a:solidFill>
                <a:latin typeface="Arial Unicode MS"/>
                <a:ea typeface="Arial"/>
              </a:rPr>
              <a:t>Jesus” é suprimida nas escol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 Unicode MS"/>
                <a:ea typeface="Arial"/>
              </a:rPr>
              <a:t>e nos lugares de trabalh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4"/>
          <p:cNvSpPr/>
          <p:nvPr/>
        </p:nvSpPr>
        <p:spPr>
          <a:xfrm>
            <a:off x="3747960" y="254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276720" y="2286000"/>
            <a:ext cx="2266920" cy="2259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048120" y="1752480"/>
            <a:ext cx="333360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533520" y="3121200"/>
            <a:ext cx="807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5050"/>
                </a:solidFill>
                <a:latin typeface="Arial Unicode MS"/>
                <a:ea typeface="Arial"/>
              </a:rPr>
              <a:t>É interessante, não é?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60480" y="1066680"/>
            <a:ext cx="664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 Unicode MS"/>
                <a:ea typeface="Arial"/>
              </a:rPr>
              <a:t>É engraçado que se possa ser tão  incendiado por Cristo no domingo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3519360" y="254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3352680" y="4495680"/>
            <a:ext cx="579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 Unicode MS"/>
                <a:ea typeface="Arial"/>
              </a:rPr>
              <a:t>...mas ser um cristão invisível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 Unicode MS"/>
                <a:ea typeface="Arial"/>
              </a:rPr>
              <a:t>durante o resto da semana 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3587760" y="254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743880" y="304920"/>
            <a:ext cx="2400120" cy="2400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838080" y="3962520"/>
            <a:ext cx="2286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1371600" y="1371600"/>
            <a:ext cx="66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Arial Unicode MS"/>
                <a:ea typeface="Arial"/>
              </a:rPr>
              <a:t>Interessante que quando começar a enviar esta mensagem...</a:t>
            </a:r>
            <a:r>
              <a:rPr b="0" lang="en-US" sz="2800" spc="-1" strike="noStrike">
                <a:solidFill>
                  <a:srgbClr val="3333cc"/>
                </a:solidFill>
                <a:latin typeface="Arial Unicode MS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3379680" y="254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609480" y="2895480"/>
            <a:ext cx="8153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Arial Unicode MS"/>
                <a:ea typeface="Arial"/>
              </a:rPr>
              <a:t>Não vai enviá-la para muitos na su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Arial Unicode MS"/>
                <a:ea typeface="Arial"/>
              </a:rPr>
              <a:t>lista de endereços porque não tem certeza no que eles crêem...ou o que eles pensarão de ti por ter envi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0" y="3808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 Unicode MS"/>
                <a:ea typeface="Arial"/>
              </a:rPr>
              <a:t>Engraçado como posso estar 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Arial Unicode MS"/>
                <a:ea typeface="Arial"/>
              </a:rPr>
              <a:t>mais</a:t>
            </a:r>
            <a:r>
              <a:rPr b="1" lang="en-US" sz="2800" spc="-1" strike="noStrike">
                <a:solidFill>
                  <a:srgbClr val="ff5050"/>
                </a:solidFill>
                <a:latin typeface="Arial Unicode MS"/>
                <a:ea typeface="Arial"/>
              </a:rPr>
              <a:t> preocupado sobre o que os outros pensam de mim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2862360" y="207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0" y="5562720"/>
            <a:ext cx="959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Arial Unicode MS"/>
                <a:ea typeface="Arial"/>
              </a:rPr>
              <a:t>...do que com </a:t>
            </a:r>
            <a:r>
              <a:rPr b="1" lang="en-US" sz="3200" spc="-1" strike="noStrike" u="sng">
                <a:solidFill>
                  <a:srgbClr val="ff5050"/>
                </a:solidFill>
                <a:uFillTx/>
                <a:latin typeface="Arial Unicode MS"/>
                <a:ea typeface="Arial"/>
              </a:rPr>
              <a:t>o que Deus pensa de mim</a:t>
            </a:r>
            <a:r>
              <a:rPr b="1" lang="en-US" sz="3200" spc="-1" strike="noStrike">
                <a:solidFill>
                  <a:srgbClr val="ff5050"/>
                </a:solidFill>
                <a:latin typeface="Arial Unicode MS"/>
                <a:ea typeface="Arial"/>
              </a:rPr>
              <a:t>.</a:t>
            </a:r>
            <a:r>
              <a:rPr b="1" lang="en-US" sz="3200" spc="-1" strike="noStrike">
                <a:solidFill>
                  <a:srgbClr val="ccecff"/>
                </a:solidFill>
                <a:latin typeface="Comic Sans MS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610000" y="2008080"/>
            <a:ext cx="394308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361800" y="838080"/>
            <a:ext cx="398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050"/>
                </a:solidFill>
                <a:latin typeface="Arial Unicode MS"/>
                <a:ea typeface="Arial"/>
              </a:rPr>
              <a:t>Está a pensar???</a:t>
            </a:r>
            <a:r>
              <a:rPr b="1" lang="en-US" sz="3200" spc="-1" strike="noStrike">
                <a:solidFill>
                  <a:srgbClr val="ccecff"/>
                </a:solidFill>
                <a:latin typeface="Comic Sans MS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3568680" y="254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248000" y="1066680"/>
            <a:ext cx="421020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228600" y="25290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050"/>
                </a:solidFill>
                <a:latin typeface="Arial Unicode MS"/>
              </a:rPr>
              <a:t>Vai enviar aos seus amigos?</a:t>
            </a:r>
            <a:br>
              <a:rPr sz="3600"/>
            </a:br>
            <a:r>
              <a:rPr b="1" lang="en-US" sz="3600" spc="-1" strike="noStrike">
                <a:solidFill>
                  <a:srgbClr val="ff5050"/>
                </a:solidFill>
                <a:latin typeface="Arial Unicode MS"/>
              </a:rPr>
              <a:t>Ou não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23328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304920" y="3200400"/>
            <a:ext cx="88390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5050"/>
                </a:solidFill>
                <a:latin typeface="Arial Unicode MS"/>
                <a:ea typeface="Arial"/>
              </a:rPr>
              <a:t>Imagina que isto está   acontecendo..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4309560" y="3124080"/>
            <a:ext cx="429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050"/>
                </a:solidFill>
                <a:latin typeface="Arial Unicode MS"/>
                <a:ea typeface="Arial"/>
              </a:rPr>
              <a:t>Eu escolhi VOCÊ !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3825720" y="254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143000" y="2209680"/>
            <a:ext cx="2438280" cy="23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0" y="1460520"/>
            <a:ext cx="9144000" cy="47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50"/>
                </a:solidFill>
                <a:latin typeface="Arial Unicode MS"/>
                <a:ea typeface="Arial"/>
              </a:rPr>
              <a:t>O SENHOR te abençoe e te guard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50"/>
                </a:solidFill>
                <a:latin typeface="Arial Unicode MS"/>
                <a:ea typeface="Arial"/>
              </a:rPr>
              <a:t>O SENHOR faça resplandecer o seu rosto sobre ti, e tenha misericórdia de ti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50"/>
                </a:solidFill>
                <a:latin typeface="Arial Unicode MS"/>
                <a:ea typeface="Arial"/>
              </a:rPr>
              <a:t>O SENHOR sobre ti levante o Seu rosto e te dê a pa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Arial Unicode MS"/>
                <a:ea typeface="Arial"/>
              </a:rPr>
              <a:t>(Números 6: 24-2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0" y="32767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Arial Unicode MS"/>
                <a:ea typeface="Arial"/>
              </a:rPr>
              <a:t>Ambos mascarados e cobertos de preto da cabeça aos pés e armados com metralhadoras.</a:t>
            </a:r>
            <a:r>
              <a:rPr b="1" lang="en-US" sz="2400" spc="-1" strike="noStrike">
                <a:solidFill>
                  <a:srgbClr val="ff5050"/>
                </a:solidFill>
                <a:latin typeface="Comic Sans MS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3279600" y="254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304920" y="1523880"/>
            <a:ext cx="8458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Arial Unicode MS"/>
                <a:ea typeface="Arial"/>
              </a:rPr>
              <a:t>Numa manhã de domingo, durante o culto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Arial Unicode MS"/>
                <a:ea typeface="Arial"/>
              </a:rPr>
              <a:t>a congregação de 2000 membros é surpreendida ao ver dois homens entr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3857760" y="254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0" y="21337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050"/>
                </a:solidFill>
                <a:latin typeface="Arial Unicode MS"/>
                <a:ea typeface="Arial"/>
              </a:rPr>
              <a:t>Um dos homens proclamou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050"/>
                </a:solidFill>
                <a:latin typeface="Arial Unicode MS"/>
                <a:ea typeface="Arial"/>
              </a:rPr>
              <a:t>“</a:t>
            </a:r>
            <a:r>
              <a:rPr b="1" lang="en-US" sz="3600" spc="-1" strike="noStrike">
                <a:solidFill>
                  <a:srgbClr val="ff5050"/>
                </a:solidFill>
                <a:latin typeface="Arial Unicode MS"/>
                <a:ea typeface="Arial"/>
              </a:rPr>
              <a:t>Quem quiser receber uma bala por Cristo fique onde está."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3840120" y="254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-152280" y="53352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 Unicode MS"/>
                <a:ea typeface="Arial"/>
              </a:rPr>
              <a:t>Imediatamente, o coro fugiu..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3465360" y="239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04920" y="2514600"/>
            <a:ext cx="586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 Unicode MS"/>
                <a:ea typeface="Arial"/>
              </a:rPr>
              <a:t>Dos dirigentes, só restou o mais ancião...</a:t>
            </a:r>
            <a:r>
              <a:rPr b="1" lang="en-US" sz="3200" spc="-1" strike="noStrike">
                <a:solidFill>
                  <a:srgbClr val="ff5050"/>
                </a:solidFill>
                <a:latin typeface="Comic Sans MS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0" y="5105520"/>
            <a:ext cx="594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 Unicode MS"/>
                <a:ea typeface="Arial"/>
              </a:rPr>
              <a:t>E a maior parte dos fiéis desapareceram....</a:t>
            </a:r>
            <a:r>
              <a:rPr b="0" lang="en-US" sz="2400" spc="-1" strike="noStrike">
                <a:solidFill>
                  <a:srgbClr val="ff5050"/>
                </a:solidFill>
                <a:latin typeface="Comic Sans MS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705720" y="2057400"/>
            <a:ext cx="2043000" cy="25239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943600" y="152280"/>
            <a:ext cx="3048120" cy="1737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172200" y="4800600"/>
            <a:ext cx="281952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0" y="27417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050"/>
                </a:solidFill>
                <a:latin typeface="Arial Unicode MS"/>
                <a:ea typeface="Arial"/>
              </a:rPr>
              <a:t>Dos 2000 membr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050"/>
                </a:solidFill>
                <a:latin typeface="Arial Unicode MS"/>
                <a:ea typeface="Arial"/>
              </a:rPr>
              <a:t>Só ficaram 20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3905280" y="254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3871800" y="254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1066680" y="838080"/>
            <a:ext cx="7315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Arial Unicode MS"/>
                <a:ea typeface="Arial"/>
              </a:rPr>
              <a:t>O homem que tinha falado retirou a sua máscara, olhou para o pregador e diss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Arial Unicode MS"/>
                <a:ea typeface="Arial"/>
              </a:rPr>
              <a:t>“</a:t>
            </a:r>
            <a:r>
              <a:rPr b="1" lang="en-US" sz="3200" spc="-1" strike="noStrike">
                <a:solidFill>
                  <a:srgbClr val="ff5050"/>
                </a:solidFill>
                <a:latin typeface="Arial Unicode MS"/>
                <a:ea typeface="Arial"/>
              </a:rPr>
              <a:t>Pode continuar Pastor, agora coloquei todos os hipócritas na rua”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1523880" y="4038480"/>
            <a:ext cx="624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Arial Unicode MS"/>
                <a:ea typeface="Arial"/>
              </a:rPr>
              <a:t>E os dois homens voltaram as costas e saíram.</a:t>
            </a:r>
            <a:r>
              <a:rPr b="1" lang="en-US" sz="3200" spc="-1" strike="noStrike">
                <a:solidFill>
                  <a:srgbClr val="ff5050"/>
                </a:solidFill>
                <a:latin typeface="Arial Unicode MS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346560" y="254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152280" y="2209680"/>
            <a:ext cx="8839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5050"/>
                </a:solidFill>
                <a:latin typeface="Arial Unicode MS"/>
                <a:ea typeface="Arial"/>
              </a:rPr>
              <a:t>E você?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5050"/>
                </a:solidFill>
                <a:latin typeface="Arial Unicode MS"/>
                <a:ea typeface="Arial"/>
              </a:rPr>
              <a:t>Ficaria ou fugiria?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457200" y="1295280"/>
            <a:ext cx="601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 Unicode MS"/>
                <a:ea typeface="Arial"/>
              </a:rPr>
              <a:t>É engraçado: Como é fácil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 Unicode MS"/>
                <a:ea typeface="Arial"/>
              </a:rPr>
              <a:t>ignorar o Filho de DEUS</a:t>
            </a:r>
            <a:r>
              <a:rPr b="0" lang="en-US" sz="2800" spc="-1" strike="noStrike">
                <a:solidFill>
                  <a:srgbClr val="ff5050"/>
                </a:solidFill>
                <a:latin typeface="Arial Unicode MS"/>
                <a:ea typeface="Arial"/>
              </a:rPr>
              <a:t>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3301920" y="254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3124080" y="4648320"/>
            <a:ext cx="586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 Unicode MS"/>
                <a:ea typeface="Arial"/>
              </a:rPr>
              <a:t>E depois ficarmos idignados por ver o mundo na situação em que hoje está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8" descr="image0111211"/>
          <p:cNvPicPr/>
          <p:nvPr/>
        </p:nvPicPr>
        <p:blipFill>
          <a:blip r:embed="rId1"/>
          <a:stretch/>
        </p:blipFill>
        <p:spPr>
          <a:xfrm>
            <a:off x="228600" y="3902040"/>
            <a:ext cx="2590920" cy="2590920"/>
          </a:xfrm>
          <a:prstGeom prst="rect">
            <a:avLst/>
          </a:prstGeom>
          <a:ln w="9360">
            <a:solidFill>
              <a:srgbClr val="ccecff"/>
            </a:solidFill>
            <a:miter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943600" y="762120"/>
            <a:ext cx="297180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7T02:58:25Z</dcterms:created>
  <dc:creator>Biblioteca Virtual</dc:creator>
  <dc:description/>
  <dc:language>en-US</dc:language>
  <cp:lastModifiedBy>ESTRATEGE</cp:lastModifiedBy>
  <dcterms:modified xsi:type="dcterms:W3CDTF">2008-10-17T20:12:57Z</dcterms:modified>
  <cp:revision>7</cp:revision>
  <dc:subject/>
  <dc:title>Slide sem título </dc:title>
</cp:coreProperties>
</file>