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ZAMFIR.wav" ContentType="audio/x-wav"/>
  <Override PartName="/ppt/media/image1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27CC-78C5-4A86-9933-D7E0832252F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5FF-5A8B-4434-80FC-051DFD46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392-459C-45C9-80A5-F7FC8ACA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447-A7E4-470C-92C6-B51C6ABF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D76-4464-4A6C-AC01-8DC39D9E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1CA-B6E5-4FEF-8E70-AA3EA87B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0CC-9B44-41ED-8023-177CA1C3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361-E2ED-4556-89D6-73B19BB9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EE3-9554-4C53-8472-414ED0E7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B0E-8DC4-4809-AA92-B8624728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9BA-2A62-4C57-BBEA-F9A1D683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6BC-D0BA-4361-AAA4-68643124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200-28C5-4A10-A614-AF2B953E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0C4D-C292-41E5-82BF-B23EE74C4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ZAMFI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robsonpiresxerife.com/blog/wp-content/uploads/2009/01/dilmaluladasilva1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695160"/>
            <a:ext cx="6705360" cy="23209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193760" y="3260160"/>
            <a:ext cx="674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O mundo é composto p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diversos tipos de mulher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8160" y="5012640"/>
            <a:ext cx="77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heres que curam com a força do seu amo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  <p:sndAc>
      <p:stSnd>
        <p:snd r:embed="rId2" name="ZAMFI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35480" y="2650680"/>
            <a:ext cx="7637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O mundo também é compos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por outros tipos de mulher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não tanto conhecid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ou famos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22200" y="708840"/>
            <a:ext cx="661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que deixam t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para trás, ou que v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buscar uma vida nov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013280" cy="295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54520" y="708840"/>
            <a:ext cx="675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que todos os d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se encontram diante de 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novo recomeço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91120" y="3429000"/>
            <a:ext cx="4114800" cy="267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93880" y="1915560"/>
            <a:ext cx="37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sofrem di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das injustiça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2754360" cy="429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64080" y="691560"/>
            <a:ext cx="5301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que sof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diante das per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inexplicávei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86200" y="3124080"/>
            <a:ext cx="4400640" cy="28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62320" y="3212280"/>
            <a:ext cx="435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ães amorosa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07200" y="1162080"/>
            <a:ext cx="2890800" cy="453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66040" y="119628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que se subme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às duras regra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081760" cy="294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93440" y="2059920"/>
            <a:ext cx="413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que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perguntam q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será o se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destino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274320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19120" y="1051920"/>
            <a:ext cx="643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que têm escr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no seu rosto todos os d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da sua vid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4191120" cy="279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8840" y="836280"/>
            <a:ext cx="871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Todas essas s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especi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que merecem todo 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nosso carinho e Respei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Verdadeiras heroí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que vieram ao mundo para SOM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695160"/>
            <a:ext cx="6705360" cy="23209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766880" y="4797000"/>
            <a:ext cx="570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heres que aliviam dores com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a compaixã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6272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Mas existem outra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també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5640" y="1052640"/>
            <a:ext cx="7561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Aquelas que vieram apenas para manchar as out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Algumas mulheres vieram por engano ao mundo. São vazias, sem conteúdo e de total inutilid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000680" cy="299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4000" y="51195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Grossas e mal educada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31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Algumas Mulheres s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3990960" cy="3971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49917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PRETENSIOS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87640" y="333360"/>
            <a:ext cx="3241800" cy="3108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49917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ARROGAN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333360"/>
            <a:ext cx="2938320" cy="388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49917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FINGID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537080" cy="2926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49917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TEM DUAS CAR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3438360" cy="3941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49917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IGNORAN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280040" cy="291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49917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FALS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175280" cy="4967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57668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GANANCIO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4600" y="1627920"/>
            <a:ext cx="449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cantam o 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a gente sente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38667" t="3679" r="17090" b="9030"/>
          <a:stretch/>
        </p:blipFill>
        <p:spPr>
          <a:xfrm>
            <a:off x="985680" y="915840"/>
            <a:ext cx="2899080" cy="365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3838680" cy="5038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5156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  <a:ea typeface="Times New Roman"/>
              </a:rPr>
              <a:t>ESCONDEM UM PASSADO PODRE E CRIMIN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329080" cy="3697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457992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ASSIM COMO SEUS COMPARS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98720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ESSAS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IGNOREMO-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  <a:ea typeface="Times New Roman"/>
              </a:rPr>
              <a:t>NÃO VALEM A PE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43640" y="609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- Fim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9320" y="1627920"/>
            <a:ext cx="449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escrevem o 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a gente sente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955960" cy="396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48520" y="4580640"/>
            <a:ext cx="383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glamourosas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836640"/>
            <a:ext cx="2558880" cy="362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68920" y="2204280"/>
            <a:ext cx="388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aravilhosas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635800" y="685800"/>
            <a:ext cx="2863800" cy="4721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21960" y="2204280"/>
            <a:ext cx="460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que n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fazem rir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00280" y="1238400"/>
            <a:ext cx="2365200" cy="4422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24880" y="2148840"/>
            <a:ext cx="61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batalhadora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724640" cy="246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43640" y="4436280"/>
            <a:ext cx="515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Verdana"/>
                <a:ea typeface="Times New Roman"/>
              </a:rPr>
              <a:t>Mulheres talentos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16621" b="0"/>
          <a:stretch/>
        </p:blipFill>
        <p:spPr>
          <a:xfrm>
            <a:off x="2800440" y="685800"/>
            <a:ext cx="3504960" cy="3394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22:02:03Z</dcterms:created>
  <dc:creator>Usuario</dc:creator>
  <dc:description/>
  <dc:language>en-US</dc:language>
  <cp:lastModifiedBy>*</cp:lastModifiedBy>
  <dcterms:modified xsi:type="dcterms:W3CDTF">2009-11-06T20:07:03Z</dcterms:modified>
  <cp:revision>2</cp:revision>
  <dc:subject/>
  <dc:title>Slide 1</dc:title>
</cp:coreProperties>
</file>