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TOQUINHO-para%20crian%C3%A7a.wav" ContentType="audio/x-wav"/>
  <Override PartName="/ppt/media/image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9C9-D1C5-4F66-89B3-DAC6DDC5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E8C-E431-485A-BE8F-7FA47014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B103-EC69-4AF6-90A5-BE2AC99D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7B7-893A-4D72-9C25-D2039541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55C-2067-44AC-999E-52222F1E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165-177C-4E8D-A95A-FA67700F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81C8-A318-478C-BA8A-C5EA8003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479-2586-4670-A1EF-550A6734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593-2296-4797-B6C6-F67CE6DC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BA3-1D0C-496C-8742-369B9243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55B-9221-4E06-AC10-A97DDABA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C29-B668-4521-921D-7E18314B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9A7A-8F81-4746-9CCA-623F596BB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TOQUINHO-para%20crian&#231;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3429000"/>
            <a:ext cx="3384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omic Sans MS"/>
              </a:rPr>
              <a:t>Se consegues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omic Sans MS"/>
              <a:ea typeface="Comic Sans MS"/>
            </a:endParaRPr>
          </a:p>
        </p:txBody>
      </p:sp>
    </p:spTree>
  </p:cSld>
  <p:transition spd="slow">
    <p:fade/>
    <p:sndAc>
      <p:stSnd>
        <p:snd r:embed="rId4" name="TOQUINHO-para%20crian%C3%A7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43600" y="49417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 consegues aceitar todas as críticas sem nunca te insurgi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37944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 consegues suportar a grosseria de certas pessoas sem nunca as corrigi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5013360"/>
            <a:ext cx="303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 consegues enfrentar a vida sem nunca mentir ou false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791320" y="148428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 consegues descontrair sem nunca tomar uma gota de alco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479736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 consegues dizer muito honestamente, do fundo do teu coração, que  não tens qualquer preconceito contra os idosos, as raças diferentes, outras religiões ou opções sexuai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32360" y="6922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 consegues comer a mesma comida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todos os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dias e continuar feliz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357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 consegues amar sem condições, sem esperar nada em troca</a:t>
            </a:r>
            <a:r>
              <a:rPr b="1" lang="he-IL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333360"/>
            <a:ext cx="39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Então, meu amigo</a:t>
            </a:r>
            <a:r>
              <a:rPr b="1" lang="fr-FR" sz="28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(a)</a:t>
            </a:r>
            <a:r>
              <a:rPr b="1" lang="en-US" sz="28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, és QUASE tão perfeito</a:t>
            </a:r>
            <a:r>
              <a:rPr b="1" lang="fr-FR" sz="28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(a)</a:t>
            </a:r>
            <a:r>
              <a:rPr b="1" lang="en-US" sz="28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como o teu CÃO</a:t>
            </a:r>
            <a:r>
              <a:rPr b="1" lang="he-IL" sz="28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 rot="19900800">
            <a:off x="7236000" y="314136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Fim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47242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 rot="19469400">
            <a:off x="0" y="4797000"/>
            <a:ext cx="2790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o ele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95640" y="544500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…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começar o teu dia sem cafeín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516640"/>
            <a:ext cx="50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 consegues terminá-lo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dativos para dormir,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57800" y="518940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 consegues estar de bom humor, sabendo ignorar os teus males e as tuas do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12000" y="2205000"/>
            <a:ext cx="313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Se consegues nunca te queixar  nem aborrecer os outros com  os teus problem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40360" y="5791320"/>
            <a:ext cx="492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Se consegues compreender quando os que te amam estão ocupados demais para te dispensar o seu temp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4800600"/>
            <a:ext cx="340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Se consegues aceitar que te censurem por uma falta que não cometes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638680" y="38098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Se consegues acreditar que  cuidarão  de  ti até o fim da tua vi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4:53:32Z</dcterms:created>
  <dc:creator>Nini</dc:creator>
  <dc:description>zoupinette2@yahoo.fr</dc:description>
  <dc:language>en-US</dc:language>
  <cp:lastModifiedBy>Mazu</cp:lastModifiedBy>
  <dcterms:modified xsi:type="dcterms:W3CDTF">2008-08-04T22:15:28Z</dcterms:modified>
  <cp:revision>22</cp:revision>
  <dc:subject/>
  <dc:title>Si tu peux</dc:title>
</cp:coreProperties>
</file>