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angel%5B1%5D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B41F-02EC-46C7-987B-AE6B77FE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7CB5-5552-435A-8A0D-8F96996A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347B-0931-4F10-B80B-75E2BF96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458-14AE-4782-BC16-0F0680B5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84B0-4EC6-4A46-808B-01C5B50A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D48F-F753-4B09-ACE4-B97855EE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3AC4-1F53-4F63-BB86-251CF32A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88E2-E903-4EB9-9D33-211BEF43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6014-94D2-4A91-9A5B-30E67313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A642-06B3-414C-99D6-3D7844E1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B01D-A80C-4AC2-9E9B-17AFCD0D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BE36-D58B-4AAC-ACD0-67B63BAE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C84B-1989-4170-83D2-AD3C530F6EB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gel%5B1%5D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94160" y="4005000"/>
            <a:ext cx="564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Stylus BT"/>
              </a:rPr>
              <a:t>Sentido do Matrimônio</a:t>
            </a:r>
            <a:r>
              <a:rPr b="1" lang="pt-BR" sz="4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random/>
    <p:sndAc>
      <p:stSnd>
        <p:snd r:embed="rId2" name="angel%5B1%5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569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Stylus BT"/>
              </a:rPr>
              <a:t>É preciso declarar, todos os dias o amor,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Stylus BT"/>
              </a:rPr>
              <a:t>em gestos e palavras. A primeira palavra que sempre digo para minha esposa ao iniciar o dia é:   "Eu amo você".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Stylus BT"/>
              </a:rPr>
              <a:t>Não é fácil dizer isso às vezes, pois muitas vezes acordo de mal comigo mesmo. Então, faço uma oração pedindo o Espírito Santo e Ele me dá a força do amor para amar aquele dia. Recebo de Deus a força do perdão.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Stylus BT"/>
              </a:rPr>
              <a:t> Faça isso agora também.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Stylus BT"/>
              </a:rPr>
              <a:t>Declare seu amor!</a:t>
            </a:r>
            <a:endParaRPr b="1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7989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Stylus BT"/>
              </a:rPr>
              <a:t>Aos solteiros </a:t>
            </a:r>
            <a:br>
              <a:rPr sz="4000"/>
            </a:br>
            <a:r>
              <a:rPr b="1" lang="pt-BR" sz="4000" spc="-1" strike="noStrike">
                <a:solidFill>
                  <a:srgbClr val="ffffff"/>
                </a:solidFill>
                <a:latin typeface="Stylus BT"/>
              </a:rPr>
              <a:t>e aos que ainda não se casaram, </a:t>
            </a:r>
            <a:br>
              <a:rPr sz="4000"/>
            </a:br>
            <a:r>
              <a:rPr b="1" lang="pt-BR" sz="4000" spc="-1" strike="noStrike">
                <a:solidFill>
                  <a:srgbClr val="ffffff"/>
                </a:solidFill>
                <a:latin typeface="Stylus BT"/>
              </a:rPr>
              <a:t>quero dizer o seguinte: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952560"/>
            <a:ext cx="8820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ffffff"/>
                </a:solidFill>
                <a:latin typeface="Stylus BT"/>
              </a:rPr>
              <a:t>"Se você estiver pensando em casar para ser feliz, não se case! Fique como está, solteiro mesmo". Mas, se sua intenção é casar para fazer alguém feliz, case-se e você será a pessoa mais feliz do mundo! </a:t>
            </a:r>
            <a:br>
              <a:rPr sz="3400"/>
            </a:br>
            <a:br>
              <a:rPr sz="3400"/>
            </a:br>
            <a:br>
              <a:rPr sz="3400"/>
            </a:br>
            <a:r>
              <a:rPr b="1" lang="pt-BR" sz="3400" spc="-1" strike="noStrike">
                <a:solidFill>
                  <a:srgbClr val="ffffff"/>
                </a:solidFill>
                <a:latin typeface="Stylus BT"/>
              </a:rPr>
              <a:t>O segredo da felicidade é fazer o outro feliz! Quem disse isso foi Aquele que mais entende de felicidade: "JESUS".</a:t>
            </a:r>
            <a:br>
              <a:rPr sz="3400"/>
            </a:br>
            <a:r>
              <a:rPr b="1" lang="pt-BR" sz="3400" spc="-1" strike="noStrike">
                <a:solidFill>
                  <a:srgbClr val="ffffff"/>
                </a:solidFill>
                <a:latin typeface="Stylus BT"/>
              </a:rPr>
              <a:t>                                           </a:t>
            </a:r>
            <a:r>
              <a:rPr b="0" lang="pt-BR" sz="2000" spc="-1" strike="noStrike">
                <a:solidFill>
                  <a:srgbClr val="ffffff"/>
                </a:solidFill>
                <a:latin typeface="Stylus BT"/>
              </a:rPr>
              <a:t>(autor desconhecido)</a:t>
            </a:r>
            <a:endParaRPr b="1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31640" y="3789000"/>
            <a:ext cx="583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Stylus BT"/>
              </a:rPr>
              <a:t>...tenha um bom dia...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random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66560" y="378900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Stylus BT"/>
              </a:rPr>
              <a:t>...e uma ótima semana.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32360" y="3644640"/>
            <a:ext cx="403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Stylus BT"/>
              </a:rPr>
              <a:t>Seja Feliz !...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Stylus BT"/>
              </a:rPr>
              <a:t>O café da manhã que mamãe preparava era maravilhoso! 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Stylus BT"/>
              </a:rPr>
              <a:t>Embora fôssemos uma família humilde, minha mãe sempre preparava com muito carinho a primeira refeição do dia. 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Stylus BT"/>
              </a:rPr>
              <a:t>Era ovo frito com pão, outro dia era ovo escaldado, depois era bife com pão, lingüiça com ovo e pão... 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Stylus BT"/>
              </a:rPr>
              <a:t>Tudo feito com simplicidade.</a:t>
            </a:r>
            <a:r>
              <a:rPr b="1" lang="pt-BR" sz="3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848360" cy="60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Stylus BT"/>
              </a:rPr>
              <a:t>Ao acordar, naquela manhã, 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Stylus BT"/>
              </a:rPr>
              <a:t>quando retornei da "lua-de-mel", 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Stylus BT"/>
              </a:rPr>
              <a:t>para ir ao trabalho, 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Stylus BT"/>
              </a:rPr>
              <a:t>pensei que encontraria a mesa posta, 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Stylus BT"/>
              </a:rPr>
              <a:t>o café da manhã preparado. 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Stylus BT"/>
              </a:rPr>
              <a:t>Como estava acostumado com a casa da mamã, pensei que acordaria com aquele gostoso cheirinho que vinha sempre da cozinha lá de casa.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Stylus BT"/>
              </a:rPr>
              <a:t>Olhei para o lado e vi minha esposa, SOL, dormindo profundamente. 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Stylus BT"/>
              </a:rPr>
              <a:t>Feito um anjinho - de pedra! 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Stylus BT"/>
              </a:rPr>
              <a:t>Raspei a garganta, fiz barulho tentando acordá-la. Nada!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Stylus BT"/>
              </a:rPr>
              <a:t>Fui para o trabalho irritado, 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Stylus BT"/>
              </a:rPr>
              <a:t>de barriga vazia. 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Stylus BT"/>
              </a:rPr>
              <a:t>O local do trabalho ficava a uns cinco minutos do apartamento que alugávamos.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Stylus BT"/>
              </a:rPr>
              <a:t>Ao me sentar na mesa de trabalho,</a:t>
            </a:r>
            <a:br>
              <a:rPr sz="3000"/>
            </a:br>
            <a:r>
              <a:rPr b="1" lang="pt-BR" sz="3000" spc="-1" strike="noStrike">
                <a:solidFill>
                  <a:srgbClr val="ffffff"/>
                </a:solidFill>
                <a:latin typeface="Stylus BT"/>
              </a:rPr>
              <a:t> sentindo a estômago roncar, </a:t>
            </a:r>
            <a:br>
              <a:rPr sz="3000"/>
            </a:br>
            <a:r>
              <a:rPr b="1" lang="pt-BR" sz="3000" spc="-1" strike="noStrike">
                <a:solidFill>
                  <a:srgbClr val="ffffff"/>
                </a:solidFill>
                <a:latin typeface="Stylus BT"/>
              </a:rPr>
              <a:t>abri a Bíblia no seguinte trecho: </a:t>
            </a:r>
            <a:br>
              <a:rPr sz="3000"/>
            </a:br>
            <a:r>
              <a:rPr b="1" lang="pt-BR" sz="3000" spc="-1" strike="noStrike">
                <a:solidFill>
                  <a:srgbClr val="ffffff"/>
                </a:solidFill>
                <a:latin typeface="Stylus BT"/>
              </a:rPr>
              <a:t>"O</a:t>
            </a:r>
            <a:r>
              <a:rPr b="1" lang="pt-BR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pt-BR" sz="3000" spc="-1" strike="noStrike">
                <a:solidFill>
                  <a:srgbClr val="ffffff"/>
                </a:solidFill>
                <a:latin typeface="Stylus BT"/>
              </a:rPr>
              <a:t>que quereis que os homens vos façam,</a:t>
            </a:r>
            <a:br>
              <a:rPr sz="3000"/>
            </a:br>
            <a:r>
              <a:rPr b="1" lang="pt-BR" sz="3000" spc="-1" strike="noStrike">
                <a:solidFill>
                  <a:srgbClr val="ffffff"/>
                </a:solidFill>
                <a:latin typeface="Stylus BT"/>
              </a:rPr>
              <a:t> fazei-o também a eles" (Lc. 6:31). </a:t>
            </a:r>
            <a:br>
              <a:rPr sz="3000"/>
            </a:br>
            <a:r>
              <a:rPr b="1" lang="pt-BR" sz="3000" spc="-1" strike="noStrike">
                <a:solidFill>
                  <a:srgbClr val="ffffff"/>
                </a:solidFill>
                <a:latin typeface="Stylus BT"/>
              </a:rPr>
              <a:t>Disse pra mim mesmo:</a:t>
            </a:r>
            <a:br>
              <a:rPr sz="3000"/>
            </a:br>
            <a:r>
              <a:rPr b="1" lang="pt-BR" sz="3000" spc="-1" strike="noStrike">
                <a:solidFill>
                  <a:srgbClr val="ffffff"/>
                </a:solidFill>
                <a:latin typeface="Stylus BT"/>
              </a:rPr>
              <a:t> "O Senhor não precisa dizer mais nada".</a:t>
            </a:r>
            <a:br>
              <a:rPr sz="3000"/>
            </a:br>
            <a:r>
              <a:rPr b="1" lang="pt-BR" sz="3000" spc="-1" strike="noStrike">
                <a:solidFill>
                  <a:srgbClr val="ffffff"/>
                </a:solidFill>
                <a:latin typeface="Stylus BT"/>
              </a:rPr>
              <a:t>Lá pelas nove horas da manhã, hora em que se podia tirar alguns minutos para o café, dei um jeito</a:t>
            </a:r>
            <a:r>
              <a:rPr b="1" lang="pt-BR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pt-BR" sz="3000" spc="-1" strike="noStrike">
                <a:solidFill>
                  <a:srgbClr val="ffffff"/>
                </a:solidFill>
                <a:latin typeface="Stylus BT"/>
              </a:rPr>
              <a:t>de ir até o apartamento, não sem antes passar em uma padaria e comprar algumas guloseimas. Preparei o café da manhã e levei na cama para SOL. </a:t>
            </a:r>
            <a:br>
              <a:rPr sz="3000"/>
            </a:br>
            <a:r>
              <a:rPr b="1" lang="pt-BR" sz="3000" spc="-1" strike="noStrike">
                <a:solidFill>
                  <a:srgbClr val="ffffff"/>
                </a:solidFill>
                <a:latin typeface="Stylus BT"/>
              </a:rPr>
              <a:t>Ela acordou com aquele sorriso tão lindo!</a:t>
            </a:r>
            <a:endParaRPr b="1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9898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Stylus BT"/>
              </a:rPr>
              <a:t>Estamos para completar Bodas de Prata. </a:t>
            </a:r>
            <a:br>
              <a:rPr sz="2600"/>
            </a:br>
            <a:r>
              <a:rPr b="1" lang="pt-BR" sz="2600" spc="-1" strike="noStrike">
                <a:solidFill>
                  <a:srgbClr val="ffffff"/>
                </a:solidFill>
                <a:latin typeface="Stylus BT"/>
              </a:rPr>
              <a:t>Nesses quase vinte e cinco anos de casamento, continuo repetindo esse gesto todos os dias. </a:t>
            </a:r>
            <a:br>
              <a:rPr sz="2600"/>
            </a:br>
            <a:r>
              <a:rPr b="1" lang="pt-BR" sz="2600" spc="-1" strike="noStrike">
                <a:solidFill>
                  <a:srgbClr val="ffffff"/>
                </a:solidFill>
                <a:latin typeface="Stylus BT"/>
              </a:rPr>
              <a:t>E com muito amor! </a:t>
            </a:r>
            <a:br>
              <a:rPr sz="2600"/>
            </a:br>
            <a:r>
              <a:rPr b="1" lang="pt-BR" sz="2600" spc="-1" strike="noStrike">
                <a:solidFill>
                  <a:srgbClr val="ffffff"/>
                </a:solidFill>
                <a:latin typeface="Stylus BT"/>
              </a:rPr>
              <a:t>Estou longe de ser um bom marido, </a:t>
            </a:r>
            <a:br>
              <a:rPr sz="2600"/>
            </a:br>
            <a:r>
              <a:rPr b="1" lang="pt-BR" sz="2600" spc="-1" strike="noStrike">
                <a:solidFill>
                  <a:srgbClr val="ffffff"/>
                </a:solidFill>
                <a:latin typeface="Stylus BT"/>
              </a:rPr>
              <a:t>mas a cada dia me esforço ao máximo...</a:t>
            </a:r>
            <a:br>
              <a:rPr sz="2600"/>
            </a:br>
            <a:r>
              <a:rPr b="1" lang="pt-BR" sz="2600" spc="-1" strike="noStrike">
                <a:solidFill>
                  <a:srgbClr val="ffffff"/>
                </a:solidFill>
                <a:latin typeface="Stylus BT"/>
              </a:rPr>
              <a:t>Tenho muito a melhorar, tenho de ser mais santo, mais paciente, mais carinhoso. Sinto-me ainda longe disso, pois o modelo que estou mirando é Jesus: "Maridos, amai a vossas mulheres, como Cristo amou a Igreja e se entregou por ela" (Ef 5,25)...</a:t>
            </a:r>
            <a:br>
              <a:rPr sz="2600"/>
            </a:br>
            <a:r>
              <a:rPr b="1" lang="pt-BR" sz="2600" spc="-1" strike="noStrike">
                <a:solidFill>
                  <a:srgbClr val="ffffff"/>
                </a:solidFill>
                <a:latin typeface="Stylus BT"/>
              </a:rPr>
              <a:t>O matrimônios é um desafio, </a:t>
            </a:r>
            <a:br>
              <a:rPr sz="2600"/>
            </a:br>
            <a:r>
              <a:rPr b="1" lang="pt-BR" sz="2600" spc="-1" strike="noStrike">
                <a:solidFill>
                  <a:srgbClr val="ffffff"/>
                </a:solidFill>
                <a:latin typeface="Stylus BT"/>
              </a:rPr>
              <a:t>pois a todo o momento temos que </a:t>
            </a:r>
            <a:br>
              <a:rPr sz="2600"/>
            </a:br>
            <a:r>
              <a:rPr b="1" lang="pt-BR" sz="2600" spc="-1" strike="noStrike">
                <a:solidFill>
                  <a:srgbClr val="ffffff"/>
                </a:solidFill>
                <a:latin typeface="Stylus BT"/>
              </a:rPr>
              <a:t>perdoar e pedir perdão.</a:t>
            </a:r>
            <a:r>
              <a:rPr b="1" lang="pt-BR" sz="4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ffffff"/>
                </a:solidFill>
                <a:latin typeface="Stylus BT"/>
              </a:rPr>
              <a:t>A cada dia temos que buscar forças em Jesus, pois sem Ele nada podemos fazer</a:t>
            </a:r>
            <a:br>
              <a:rPr sz="3400"/>
            </a:br>
            <a:r>
              <a:rPr b="1" lang="pt-BR" sz="3400" spc="-1" strike="noStrike">
                <a:solidFill>
                  <a:srgbClr val="ffffff"/>
                </a:solidFill>
                <a:latin typeface="Stylus BT"/>
              </a:rPr>
              <a:t> </a:t>
            </a:r>
            <a:r>
              <a:rPr b="1" lang="pt-BR" sz="3000" spc="-1" strike="noStrike">
                <a:solidFill>
                  <a:srgbClr val="ffffff"/>
                </a:solidFill>
                <a:latin typeface="Stylus BT"/>
              </a:rPr>
              <a:t>(Jo 15,5).</a:t>
            </a:r>
            <a:r>
              <a:rPr b="1" lang="pt-BR" sz="3400" spc="-1" strike="noStrike">
                <a:solidFill>
                  <a:srgbClr val="ffffff"/>
                </a:solidFill>
                <a:latin typeface="Stylus BT"/>
              </a:rPr>
              <a:t> </a:t>
            </a:r>
            <a:br>
              <a:rPr sz="3400"/>
            </a:br>
            <a:r>
              <a:rPr b="1" lang="pt-BR" sz="3400" spc="-1" strike="noStrike">
                <a:solidFill>
                  <a:srgbClr val="ffffff"/>
                </a:solidFill>
                <a:latin typeface="Stylus BT"/>
              </a:rPr>
              <a:t>Quando Paulo se despedia dos cristãos em Éfeso, citou uma bela frase de Jesus</a:t>
            </a:r>
            <a:br>
              <a:rPr sz="3400"/>
            </a:br>
            <a:r>
              <a:rPr b="1" lang="pt-BR" sz="3400" spc="-1" strike="noStrike">
                <a:solidFill>
                  <a:srgbClr val="ffffff"/>
                </a:solidFill>
                <a:latin typeface="Stylus BT"/>
              </a:rPr>
              <a:t> (que, aliás, não está nos Evangelhos):</a:t>
            </a:r>
            <a:br>
              <a:rPr sz="3400"/>
            </a:br>
            <a:r>
              <a:rPr b="1" lang="pt-BR" sz="3400" spc="-1" strike="noStrike">
                <a:solidFill>
                  <a:srgbClr val="ffffff"/>
                </a:solidFill>
                <a:latin typeface="Stylus BT"/>
              </a:rPr>
              <a:t> "É maior felicidade dar que receber" </a:t>
            </a:r>
            <a:br>
              <a:rPr sz="3400"/>
            </a:br>
            <a:r>
              <a:rPr b="1" lang="pt-BR" sz="3200" spc="-1" strike="noStrike">
                <a:solidFill>
                  <a:srgbClr val="ffffff"/>
                </a:solidFill>
                <a:latin typeface="Stylus BT"/>
              </a:rPr>
              <a:t>(At 20,35).</a:t>
            </a:r>
            <a:br>
              <a:rPr sz="3400"/>
            </a:br>
            <a:r>
              <a:rPr b="1" lang="pt-BR" sz="3400" spc="-1" strike="noStrike">
                <a:solidFill>
                  <a:srgbClr val="ffffff"/>
                </a:solidFill>
                <a:latin typeface="Stylus BT"/>
              </a:rPr>
              <a:t>Quando se descobre isso no matrimônio, </a:t>
            </a:r>
            <a:br>
              <a:rPr sz="3400"/>
            </a:br>
            <a:r>
              <a:rPr b="1" lang="pt-BR" sz="3400" spc="-1" strike="noStrike">
                <a:solidFill>
                  <a:srgbClr val="ffffff"/>
                </a:solidFill>
                <a:latin typeface="Stylus BT"/>
              </a:rPr>
              <a:t>se descobre o princípio da felicidade.</a:t>
            </a:r>
            <a:endParaRPr b="1" lang="en-US" sz="3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Stylus BT"/>
              </a:rPr>
              <a:t>Por que muitos casamentos não têm ido adiante?</a:t>
            </a:r>
            <a:r>
              <a:rPr b="1" lang="pt-BR" sz="3200" spc="-1" strike="noStrike">
                <a:solidFill>
                  <a:srgbClr val="ffffff"/>
                </a:solidFill>
                <a:latin typeface="Stylus BT"/>
              </a:rPr>
              <a:t> Porque o egoísmo tomou conta do casal.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Stylus BT"/>
              </a:rPr>
              <a:t>É o "cada um por si" que vigora.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Stylus BT"/>
              </a:rPr>
              <a:t>Estamos na sociedade do descartável: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Stylus BT"/>
              </a:rPr>
              <a:t>copo descartável, prato descartável, etc. Pessoas não são descartáveis, porém,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Stylus BT"/>
              </a:rPr>
              <a:t>o que não é descartável precisa ser cuidado para ser durável.</a:t>
            </a:r>
            <a:r>
              <a:rPr b="1" lang="pt-BR" sz="4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7918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Stylus BT"/>
              </a:rPr>
              <a:t>O mundo precisa do testemunho dos casais de que o matrimônio vale a pena!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Stylus BT"/>
              </a:rPr>
              <a:t>E, para que isso aconteça, é necessário um cuidado amoroso e carinhoso por parte do marido e da esposa. Ambos têm o dever de cuidar um do outro com renovados gestos de carinho e perdão diariamente.</a:t>
            </a:r>
            <a:r>
              <a:rPr b="1" lang="pt-BR" sz="4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2T16:53:44Z</dcterms:created>
  <dc:creator>.......... da Mágica</dc:creator>
  <dc:description/>
  <dc:language>en-US</dc:language>
  <cp:lastModifiedBy>LABORATORIO</cp:lastModifiedBy>
  <dcterms:modified xsi:type="dcterms:W3CDTF">2008-09-01T17:56:24Z</dcterms:modified>
  <cp:revision>27</cp:revision>
  <dc:subject>Tantra e Chakra </dc:subject>
  <dc:title> Dedique dois minutos para esta leitura, é muito bonita!</dc:title>
</cp:coreProperties>
</file>