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explode.wav" ContentType="audio/x-wav"/>
  <Override PartName="/ppt/media/image37.jpeg" ContentType="image/jpeg"/>
  <Override PartName="/ppt/media/image3.jpeg" ContentType="image/jpeg"/>
  <Override PartName="/ppt/media/ej.wav" ContentType="audio/x-wav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C37-5B40-4BA8-B8D3-E68B98E1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AELISCHE AGGRESSO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AELISCHE AGGRESSOREN Ü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AELISCHE AGGRESSOREN ÜBEN VERBRE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AELISCHE AGGRESSOREN ÜBEN VERBRECHEN G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 ÜBEN VERBRECHEN GEGEN DIE MENSC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C49-A22E-4D38-8C89-4E981D16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470-0F9B-4DCF-BD28-B973279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1B7-9D54-4683-BAF7-C972D9E1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F23-323D-4118-93F7-7C4EF63C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66A-7849-4A5F-A83A-2C899CD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112-1687-401B-B30C-E14F29F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980-6CEE-4B78-BCE2-578DAAA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941-D91B-4229-B688-5AC4684B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B7D-CBA0-4698-9BBD-A860D78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C72-9A77-4BAA-9ED9-A4FB7DA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386-A515-46FC-B837-759D0C2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34B-4EDB-4A5C-A7FC-33D63DC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8972-85FB-4E80-9BAA-9BDE241D7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ej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 Ü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ivan2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ivan2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opie%20von%20livan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pie%20von%20livan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opie%20von%20livan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Kopie%20von%20livan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Kopie%20von%20livan10" descr="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livan37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 ÜBEN VERBRE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opie%20von%20livan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Kopie%20von%20livan1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Kopie%20von%20livan12" descr=""/>
          <p:cNvPicPr/>
          <p:nvPr/>
        </p:nvPicPr>
        <p:blipFill>
          <a:blip r:embed="rId1"/>
          <a:stretch/>
        </p:blipFill>
        <p:spPr>
          <a:xfrm>
            <a:off x="2641680" y="0"/>
            <a:ext cx="386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Kopie%20von%20livan13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Kopie%20von%20livan14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opie%20von%20livan1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ivan27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livan2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ivan38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895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 ÜBEN VERBRECHEN GEGEN DIE MENSC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opie%20von%20livan1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opie%20von%20livan2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Kopie%20von%20livan17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Kopie%20von%20livan1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Kopie%20von%20livan1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opie%20von%20livan20" descr=""/>
          <p:cNvPicPr/>
          <p:nvPr/>
        </p:nvPicPr>
        <p:blipFill>
          <a:blip r:embed="rId1"/>
          <a:stretch/>
        </p:blipFill>
        <p:spPr>
          <a:xfrm>
            <a:off x="2744640" y="0"/>
            <a:ext cx="36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opie%20von%20livan2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opie%20von%20livan2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438280"/>
            <a:ext cx="91440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ISCHE AGGRESS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BEN VERBRECHEN GEGEN DIE MENSCHEIT UND GEFÄHRDEN DEN WELTFRI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explod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ivan29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ivan30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ivan31" descr=""/>
          <p:cNvPicPr/>
          <p:nvPr/>
        </p:nvPicPr>
        <p:blipFill>
          <a:blip r:embed="rId1"/>
          <a:stretch/>
        </p:blipFill>
        <p:spPr>
          <a:xfrm>
            <a:off x="224964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opie%20von%20livan3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ivan32" descr="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livan33" descr=""/>
          <p:cNvPicPr/>
          <p:nvPr/>
        </p:nvPicPr>
        <p:blipFill>
          <a:blip r:embed="rId1"/>
          <a:stretch/>
        </p:blipFill>
        <p:spPr>
          <a:xfrm>
            <a:off x="2673360" y="0"/>
            <a:ext cx="37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ivan3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livan35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rafat" descr=""/>
          <p:cNvPicPr/>
          <p:nvPr/>
        </p:nvPicPr>
        <p:blipFill>
          <a:blip r:embed="rId1"/>
          <a:stretch/>
        </p:blipFill>
        <p:spPr>
          <a:xfrm>
            <a:off x="1517760" y="0"/>
            <a:ext cx="61084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ej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opie%20von%20livan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pie%20von%20livan5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livan2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ivan2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ivan3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6:14Z</dcterms:created>
  <dc:creator>shahar</dc:creator>
  <dc:description/>
  <dc:language>en-US</dc:language>
  <cp:lastModifiedBy>shahar</cp:lastModifiedBy>
  <dcterms:modified xsi:type="dcterms:W3CDTF">2009-05-02T08:57:32Z</dcterms:modified>
  <cp:revision>1</cp:revision>
  <dc:subject/>
  <dc:title>PowerPoint-Präsentation</dc:title>
</cp:coreProperties>
</file>