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Nada%20te%20turbe%20WAV.wav" ContentType="audio/x-wav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488-5842-4B2F-A484-76B446E6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FCC-F3DF-4DC5-AEBC-F95EE3BD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855-45D4-453D-A03C-2B529538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BB6-5C41-47E1-ACBE-49D3D863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B6E8-02E0-4576-A2BD-1CECF03A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9B17-FFDD-4EEB-B1D2-90B8833E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916A-6B03-4414-8227-68708EE8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8FB3-D8F2-4891-BA2F-B41DE5F9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2B8C-F8B6-457B-9325-E36B3643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F764-CF20-460D-8EB6-FC14F4FB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2B33-F29B-48F6-8E6B-90B9A70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74A-B3A4-4B60-8076-05012BF4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E19D-0EC0-4C1C-92A8-B3654B8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3E36-23A1-4952-BFE8-2860BCE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C8B4-78DC-4582-9906-539956C6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922E-FCBC-409B-B638-720F3E7A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4A5F-BE9D-4982-848C-6B5D940C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BD42-E173-44DB-9AE3-FE858340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54C2-BD0E-4297-81A2-BAA19FC5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2122-FABF-44BE-AC2C-3215F1A0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1564-D3A8-4016-9BFD-E68E7227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DC27-4437-4D87-8E7C-FDD3C4C5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970-ED56-4945-953D-A4E16E8F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3199-8A30-43BE-A45C-5FCF1496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D09C-71F2-4252-A53C-072A82B5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4445-97DA-4D02-ACF1-F9B3D4C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03B6-791E-49AB-95E5-13E9294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B1C7-BFB0-490E-BE49-D0A7369D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71D3-00E6-4A24-ADA0-8197770B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63E0-4A02-4965-BBD9-7085531D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E57C-563C-4751-AC99-50E8A9B5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BCA1-23EF-4AA6-BFCD-2C17F781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80CB-C30C-4854-BF60-7549E682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AE5-F53C-4FE1-BB80-C16BE0EA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F361-42F7-4EF2-A269-64ACE481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E6D5-6A2A-40CE-9F74-D3B9F56E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7E1DB-994B-4ABC-B720-DA506F67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5C0D-F4F7-4DBB-A7B8-2FF0C32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6256-CCF8-45C1-A289-7B0238D1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B120E-D1A8-43DF-A7DC-15320536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A24D-5D50-4436-A744-5CB33811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B36E-C8A5-4592-80B2-B7F72BB2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0E18-25AB-471B-8F50-023853D6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A9F95-B7EC-4BE8-AB68-C53CDABE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74A-AE25-4A7A-AAE5-0D3FF93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CB97-7BD4-47BB-8515-C335E273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F9835-6612-4E33-800A-22D0018E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BA48-D024-4DE8-8A11-5C2267E4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1124-2FDA-49BE-B008-7AE96CD7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3FE8-B2DE-4B4A-AC44-541EEA4E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E850C-A6CE-4622-85B2-DE36A7A5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1D0A5-937A-4C1F-9A37-74C24CE6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93B01-3876-4D67-A218-9160BA20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4EDFA-CECA-4A8B-BEB0-36680CE3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B393-E180-4091-813F-6DF9D526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46E-D632-4AD8-90A0-64CB2CFD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8BE5-139C-48D4-A06C-F726A9AA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547-4AEC-45F4-A705-3466B73C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2E4-705D-4455-BE95-12306224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0CC-077C-4F13-B590-C5C4BC02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52B9-A0D8-40DF-8BB1-059BCBA189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E97C-BA8F-4336-A43C-91A5EA66F1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B196-1C2D-40B6-8B55-0ACB284B4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3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4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BCC1-E0C7-41D9-94AC-93143B2CE4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9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52D1-473B-4EEB-A7CA-D81C2D55EB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ada%20te%20turbe%20WAV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sers.ipfw.edu/jehle/poesia/teresade.htm" TargetMode="External"/><Relationship Id="rId2" Type="http://schemas.openxmlformats.org/officeDocument/2006/relationships/hyperlink" Target="http://users.ipfw.edu/jehle/poesia/teresade.htm" TargetMode="External"/><Relationship Id="rId3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sers.ipfw.edu/jehle/poesia/teresade.htm" TargetMode="External"/><Relationship Id="rId2" Type="http://schemas.openxmlformats.org/officeDocument/2006/relationships/hyperlink" Target="http://users.ipfw.edu/jehle/poesia/teresade.htm" TargetMode="Externa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8360" y="2727360"/>
            <a:ext cx="1102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0000"/>
                </a:solidFill>
                <a:latin typeface="Arial"/>
              </a:rPr>
              <a:t>Permaneça em silênc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80000" y="558972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r el rat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Nada%20te%20turbe%20WA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Fique em silêncio frente ao Senhor</a:t>
            </a:r>
            <a:r>
              <a:rPr b="1" i="1" lang="es-ES" sz="4000" spc="-1" strike="noStrike">
                <a:solidFill>
                  <a:srgbClr val="ffffff"/>
                </a:solidFill>
                <a:latin typeface="Times New Roman"/>
              </a:rPr>
              <a:t> ..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2362320"/>
            <a:ext cx="632448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squeça as palavr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squeça as lembranç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 seus pedidos e projeto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olhe-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scute-O sem que as vozes interiores lhe distrai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0"/>
            <a:ext cx="74674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Fique em paz frente a El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abandone n’E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toda turbação, todo cuidado, toda preocupação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esqueça tu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-304920" y="434304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99ccff"/>
                </a:solidFill>
                <a:latin typeface="Times New Roman"/>
              </a:rPr>
              <a:t>Fique sem atadur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99ccff"/>
                </a:solidFill>
                <a:latin typeface="Times New Roman"/>
              </a:rPr>
              <a:t>livre dos seus desej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99ccff"/>
                </a:solidFill>
                <a:latin typeface="Times New Roman"/>
              </a:rPr>
              <a:t>pobre como a madeira morta no inver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99ccff"/>
                </a:solidFill>
                <a:latin typeface="Times New Roman"/>
              </a:rPr>
              <a:t>vazia de tudo que não seja ELE.</a:t>
            </a:r>
            <a:r>
              <a:rPr b="1" i="1" lang="es-ES_tradnl" sz="36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300"/>
                            </p:stCondLst>
                            <p:childTnLst>
                              <p:par>
                                <p:cTn id="11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70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0"/>
            <a:ext cx="91440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  <a:ea typeface="Arial"/>
              </a:rPr>
              <a:t>Fique sozinho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  <a:ea typeface="Arial"/>
              </a:rPr>
              <a:t>sem mais ninguém no seu coraçã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  <a:ea typeface="Arial"/>
              </a:rPr>
              <a:t>que nenhuma criatu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  <a:ea typeface="Arial"/>
              </a:rPr>
              <a:t>se interponha entre seus olh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24000" y="-316080"/>
            <a:ext cx="9200880" cy="69343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3399"/>
                </a:solidFill>
                <a:latin typeface="Times New Roman"/>
                <a:ea typeface="Arial"/>
              </a:rPr>
              <a:t>Fique sem se queixar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3399"/>
                </a:solidFill>
                <a:latin typeface="Times New Roman"/>
                <a:ea typeface="Arial"/>
              </a:rPr>
              <a:t>sem estorv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3399"/>
                </a:solidFill>
                <a:latin typeface="Times New Roman"/>
                <a:ea typeface="Arial"/>
              </a:rPr>
              <a:t>sem “hóspedes” estranh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3399"/>
                </a:solidFill>
                <a:latin typeface="Times New Roman"/>
                <a:ea typeface="Arial"/>
              </a:rPr>
              <a:t>sem nada que não seja E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" dur="3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80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3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" dur="3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80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3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-252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-360" y="907560"/>
            <a:ext cx="937260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Fique íntegro, sem mais lembranças que não seja De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sem procurar consolações human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“</a:t>
            </a:r>
            <a:r>
              <a:rPr b="1" i="1" lang="pt-BR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sepultado” com ELE e NEL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desaparecendo voc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para transformar-se em dom no seu Cor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3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300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3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8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3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3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3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91520" cy="68961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ccccff"/>
                </a:solidFill>
                <a:latin typeface="Times New Roman"/>
                <a:ea typeface="Arial"/>
              </a:rPr>
              <a:t>Fique sem tristez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ccccff"/>
                </a:solidFill>
                <a:latin typeface="Times New Roman"/>
                <a:ea typeface="Arial"/>
              </a:rPr>
              <a:t>nem ressentiment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ccccff"/>
                </a:solidFill>
                <a:latin typeface="Times New Roman"/>
                <a:ea typeface="Arial"/>
              </a:rPr>
              <a:t>sem orgulh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ccccff"/>
                </a:solidFill>
                <a:latin typeface="Times New Roman"/>
                <a:ea typeface="Arial"/>
              </a:rPr>
              <a:t>nem falsa imagem de si mes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2514600"/>
            <a:ext cx="868680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 </a:t>
            </a:r>
            <a:r>
              <a:rPr b="1" lang="pt-BR" sz="3600" spc="-1" strike="noStrike">
                <a:solidFill>
                  <a:srgbClr val="ff6699"/>
                </a:solidFill>
                <a:latin typeface="Arial"/>
                <a:ea typeface="Arial"/>
              </a:rPr>
              <a:t>Fique na escuta da sua Palavr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6699"/>
                </a:solidFill>
                <a:latin typeface="Arial"/>
                <a:ea typeface="Arial"/>
              </a:rPr>
              <a:t>Fazendo-se Palavra e Vontade DE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205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2492280"/>
            <a:ext cx="91440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  <a:ea typeface="Arial"/>
              </a:rPr>
              <a:t>Fique sem pod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  <a:ea typeface="Arial"/>
              </a:rPr>
              <a:t>sem privilégios, sem honrarias, sem ídolo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 consinta que Deus seja Deus.</a:t>
            </a:r>
            <a:r>
              <a:rPr b="1" lang="pt-BR" sz="3600" spc="-1" strike="noStrike">
                <a:solidFill>
                  <a:srgbClr val="ffffff"/>
                </a:solidFill>
                <a:latin typeface="Arial Unicode MS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                           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14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20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26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9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32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0280"/>
            <a:ext cx="964728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ff"/>
                </a:solidFill>
                <a:uFillTx/>
                <a:latin typeface="Arial"/>
              </a:rPr>
              <a:t>Nada te tur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da te perturb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da te espan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udo passa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us não mud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paciê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udo conse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Quem a Deus te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da lhe fal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ó Deus é suficiente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anta Teresa de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vil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1515-1582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Fique em adoração tão profu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que nada posa alterar sua atençã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que nem aflições nem goz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quebrem este abandono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8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9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4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3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914400"/>
            <a:ext cx="9144000" cy="22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Arial"/>
                <a:ea typeface="Arial"/>
              </a:rPr>
              <a:t>Fique em silêncio perante o Senh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Arial"/>
                <a:ea typeface="Arial"/>
              </a:rPr>
              <a:t>desapareça voc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Arial"/>
                <a:ea typeface="Arial"/>
              </a:rPr>
              <a:t>e que só ELE esteja em você.</a:t>
            </a: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64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3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1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69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7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74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i="1" lang="pt-BR" sz="3600" spc="-1" strike="noStrike">
                <a:solidFill>
                  <a:srgbClr val="ccffff"/>
                </a:solidFill>
                <a:latin typeface="Times New Roman"/>
              </a:rPr>
              <a:t>Fique em silênci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ccffff"/>
                </a:solidFill>
                <a:latin typeface="Times New Roman"/>
              </a:rPr>
              <a:t>perante o Senhor ..."</a:t>
            </a:r>
            <a:r>
              <a:rPr b="1" lang="pt-BR" sz="3600" spc="-1" strike="noStrike">
                <a:solidFill>
                  <a:srgbClr val="cc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282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28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74320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ccffff"/>
                </a:solidFill>
                <a:latin typeface="Times New Roman"/>
              </a:rPr>
              <a:t>Fique em silêncio ..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97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3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952880" y="5334120"/>
            <a:ext cx="3810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“</a:t>
            </a:r>
            <a:r>
              <a:rPr b="1" i="1" lang="es-ES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Fique..."</a:t>
            </a:r>
            <a:r>
              <a:rPr b="1" lang="es-ES" sz="32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990720" y="285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32000" y="2852280"/>
            <a:ext cx="72784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3300"/>
                </a:solidFill>
                <a:latin typeface="Tahoma"/>
              </a:rPr>
              <a:t>“</a:t>
            </a:r>
            <a:r>
              <a:rPr b="1" i="1" lang="es-ES" sz="4000" spc="-1" strike="noStrike">
                <a:solidFill>
                  <a:srgbClr val="cc3300"/>
                </a:solidFill>
                <a:latin typeface="Tahoma"/>
              </a:rPr>
              <a:t>Descansa junto ao Senhor, espera nele…”</a:t>
            </a:r>
            <a:r>
              <a:rPr b="1" i="1" lang="es-ES" sz="4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3300"/>
                </a:solidFill>
                <a:latin typeface="Tahoma"/>
              </a:rPr>
              <a:t>(Salmo 37, 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Música: Nada te turbe. Taiz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et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ada te turbe, nada te esp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ien a Dios tiene nada le fa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ada te turbe, nada te esp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ólo Dios basta. (Se rep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ª 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odo se pasa, Dios no se mu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paciencia todo lo alca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06840" y="5367240"/>
            <a:ext cx="37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anta Teresa de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vil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1515-15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85800" y="6858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á  “ruídos” de mais em você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.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32004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... “escute” no profundo do seu s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</p:pic>
      <p:sp>
        <p:nvSpPr>
          <p:cNvPr id="262" name="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Há demasiadas “preocupações”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a sua mente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22860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.. e “peso” de mais no seu coração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4800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.. “escute” no profundo do seu ser ...</a:t>
            </a:r>
            <a:r>
              <a:rPr b="1" i="1" lang="pt-BR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3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42920" y="2895480"/>
            <a:ext cx="810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...</a:t>
            </a:r>
            <a:r>
              <a:rPr b="1" i="1" lang="pt-BR" sz="3200" spc="-1" strike="noStrike">
                <a:solidFill>
                  <a:srgbClr val="cccc00"/>
                </a:solidFill>
                <a:latin typeface="Arial"/>
              </a:rPr>
              <a:t>Permaneça em silêncio, sozinho</a:t>
            </a:r>
            <a:r>
              <a:rPr b="1" i="1" lang="es-ES_tradnl" sz="44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4876920"/>
            <a:ext cx="8002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00"/>
                </a:solidFill>
                <a:latin typeface="Swis721 BdCnOul BT"/>
              </a:rPr>
              <a:t>... “escutando” no profundo do seu ser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1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entre no seu “aposento” </a:t>
            </a:r>
            <a:r>
              <a:rPr b="0" lang="es-ES_tradnl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4648320"/>
            <a:ext cx="7315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ff66"/>
                </a:solidFill>
                <a:latin typeface="Times New Roman"/>
                <a:ea typeface="Times New Roman"/>
              </a:rPr>
              <a:t>... </a:t>
            </a:r>
            <a:r>
              <a:rPr b="1" i="1" lang="pt-BR" sz="3200" spc="-1" strike="noStrike">
                <a:solidFill>
                  <a:srgbClr val="ccff66"/>
                </a:solidFill>
                <a:latin typeface="Times New Roman"/>
                <a:ea typeface="Times New Roman"/>
              </a:rPr>
              <a:t>“escute” no profundo do seu s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914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“</a:t>
            </a:r>
            <a:r>
              <a:rPr b="0" lang="pt-BR" sz="4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O Senhor está aqui e te chama ..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213372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.. te ama e te espera </a:t>
            </a:r>
            <a:r>
              <a:rPr b="0" lang="es-ES_tradnl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4572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cff66"/>
                </a:solidFill>
                <a:latin typeface="Times New Roman"/>
                <a:ea typeface="Times New Roman"/>
              </a:rPr>
              <a:t>... “escute-O” no mais profundo do seu s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7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7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3:30:25Z</dcterms:created>
  <dc:creator>a</dc:creator>
  <dc:description/>
  <dc:language>en-US</dc:language>
  <cp:lastModifiedBy>Jose Monteoliva</cp:lastModifiedBy>
  <dcterms:modified xsi:type="dcterms:W3CDTF">2008-06-25T14:33:12Z</dcterms:modified>
  <cp:revision>8</cp:revision>
  <dc:subject/>
  <dc:title>Diapositiva 1</dc:title>
</cp:coreProperties>
</file>