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coral_greg_katan26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F3EA6-B173-4F55-8B77-EF186BA32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F86F6-D7E7-4D88-AC1B-685401953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3EB48-BD64-4A4D-9CAE-690357BAE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995C8-A93A-4B3C-BBAB-EC8A3A103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E80BD-DFBE-4742-84A8-B71881A3A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6BAEE-4A62-4489-9A81-FEBC36C57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040D1-FE4F-4666-B5DF-CC40A3AED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9978E-69D0-4FD1-8047-C018B99BC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36824-5DCD-455C-9382-F55888FB3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96DE7-8610-465F-9718-1500B8242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922EA-F69C-4936-97C6-E4D50FFED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C1E1C-448B-4FD7-946E-FC65948D9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E97B1-D3CB-4A7E-92EE-4A7D733779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oral_greg_katan26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lessed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304920"/>
            <a:ext cx="9144000" cy="36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8800" spc="-1" strike="noStrike">
                <a:solidFill>
                  <a:srgbClr val="ffffff"/>
                </a:solidFill>
                <a:latin typeface="Monotype Corsiva"/>
              </a:rPr>
              <a:t>    </a:t>
            </a:r>
            <a:r>
              <a:rPr b="1" lang="pt-BR" sz="8800" spc="-1" strike="noStrike">
                <a:solidFill>
                  <a:srgbClr val="0000ff"/>
                </a:solidFill>
                <a:latin typeface="Monotype Corsiva"/>
              </a:rPr>
              <a:t>1</a:t>
            </a:r>
            <a:r>
              <a:rPr b="1" lang="pt-BR" sz="4800" spc="-1" strike="noStrike">
                <a:solidFill>
                  <a:srgbClr val="0000ff"/>
                </a:solidFill>
                <a:latin typeface="Monotype Corsiva"/>
              </a:rPr>
              <a:t> </a:t>
            </a:r>
            <a:r>
              <a:rPr b="1" lang="pt-BR" sz="8800" spc="-1" strike="noStrike">
                <a:solidFill>
                  <a:srgbClr val="0000ff"/>
                </a:solidFill>
                <a:latin typeface="Monotype Corsiva"/>
              </a:rPr>
              <a:t>minuto</a:t>
            </a:r>
            <a:r>
              <a:rPr b="1" lang="pt-BR" sz="4800" spc="-1" strike="noStrike">
                <a:solidFill>
                  <a:srgbClr val="0000ff"/>
                </a:solidFill>
                <a:latin typeface="Monotype Corsiva"/>
              </a:rPr>
              <a:t> </a:t>
            </a:r>
            <a:r>
              <a:rPr b="1" lang="pt-BR" sz="8800" spc="-1" strike="noStrike">
                <a:solidFill>
                  <a:srgbClr val="0000ff"/>
                </a:solidFill>
                <a:latin typeface="Monotype Corsiva"/>
              </a:rPr>
              <a:t>com</a:t>
            </a:r>
            <a:r>
              <a:rPr b="1" lang="pt-BR" sz="4800" spc="-1" strike="noStrike">
                <a:solidFill>
                  <a:srgbClr val="0000ff"/>
                </a:solidFill>
                <a:latin typeface="Monotype Corsiva"/>
              </a:rPr>
              <a:t> </a:t>
            </a:r>
            <a:r>
              <a:rPr b="1" lang="pt-BR" sz="8800" spc="-1" strike="noStrike">
                <a:solidFill>
                  <a:srgbClr val="0000ff"/>
                </a:solidFill>
                <a:latin typeface="Monotype Corsiva"/>
              </a:rPr>
              <a:t>DeuS</a:t>
            </a:r>
            <a:r>
              <a:rPr b="1" lang="pt-BR" sz="3600" spc="-1" strike="noStrike">
                <a:solidFill>
                  <a:srgbClr val="8735ff"/>
                </a:solidFill>
                <a:latin typeface="Trebuchet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2000">
    <p:randomBar dir="vert"/>
    <p:sndAc>
      <p:stSnd>
        <p:snd r:embed="rId2" name="coral_greg_katan26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Blessed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5105520" y="457200"/>
            <a:ext cx="4038480" cy="64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Eu sou a luz do mundo, aquele que me segue jamais andará nas trevas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EU TE AMO!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Monotype Corsiva"/>
              </a:rPr>
              <a:t>Jesus Cris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Mande esta mensagem para 10 amigos, e veja o que acontece no 4º dia.  Sua vida irá mudar...</a:t>
            </a:r>
            <a:r>
              <a:rPr b="0" lang="en-US" sz="2400" spc="-1" strike="noStrike">
                <a:solidFill>
                  <a:srgbClr val="ffff00"/>
                </a:solidFill>
                <a:latin typeface="Monotype Corsiv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Não segure esta mensagem seja solidário!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Alguém, em algum lugar,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recisa muito de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5960" y="-5965920"/>
            <a:ext cx="7596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Blessed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562720" y="152280"/>
            <a:ext cx="3504960" cy="35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LEIA até o fim. 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Dura menos de 1 minuto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O que será que você vai fazer com essa mensagem</a:t>
            </a:r>
            <a:r>
              <a:rPr b="0" lang="en-US" sz="3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?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Blessed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4800600" y="762120"/>
            <a:ext cx="434340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George Tomas, um pregador Inglês, apareceu um dia em sua pregação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carregando uma gaiola e a colocou no púlpito, começou a falar.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"Estava andando pela rua ontem, e vi um menino levando essa gaiola co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3 pequenos passarinhos dentro com frio e com medo.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Eu perguntei: Menino o que você vai fazer com esses passarinhos?</a:t>
            </a:r>
            <a:r>
              <a:rPr b="0" lang="en-US" sz="2400" spc="-1" strike="noStrike">
                <a:solidFill>
                  <a:srgbClr val="ffff00"/>
                </a:solidFill>
                <a:latin typeface="Trebuchet MS"/>
                <a:ea typeface="Times New Roman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Blessed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5257800" y="609480"/>
            <a:ext cx="38862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Ele respondeu: leva-los para casa tirar as penas e queima-los, vou me divertir com eles.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Quanto você quer por esses passarinhos menino?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O menino respondeu: - O senhor não va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quere-los, eles não servem para nada. São feios!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O pregador os comprou por 10 dólares! E os soltou em uma árvore!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Blessed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724280" y="228600"/>
            <a:ext cx="4419720" cy="710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735ff"/>
                </a:solidFill>
                <a:latin typeface="Trebuchet MS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Um dia Jesus e Satanás estavam conversando e Jesus perguntou a satanás o  que ele estava fazendo para as pessoas aqui na terra.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Ele respondeu: Estou me divertindo com elas, ensino a fazer bombas e a matar, a usar revolver, a odiar umas a outras, a casar e a divorciar, ensino a abusar de criancinhas, ensino os jovens a usar drogas, a beber e fazer tudo o que não se deve e que os conduzirá a maldição futura!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Blessed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-76320" y="-6041520"/>
            <a:ext cx="7632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6781680"/>
            <a:ext cx="76320" cy="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9520" bIns="295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191120" y="0"/>
            <a:ext cx="4827600" cy="81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Estou me divertindo muito com eles!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Jesus perguntou: E depois o que você vai fazer com eles?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Vou mata-los e acabar com eles!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Jesus perguntou: Quanto você quer por eles?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Satanás respondeu: você não vai querer essas pessoas,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elas são traiçoeiras, mentirosas, falsas, egoístas e avarentas!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Elas não vão te amar de verdade, vão bater e cuspir no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Teu rosto, vão  te desprezar e nem vão levar em consideração o que você fizer! Quanto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você quer por elas satanás?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Blessed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-6041520"/>
            <a:ext cx="7632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733920" y="609480"/>
            <a:ext cx="54100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Quero toda a tua lágrima e todo o teu sangue!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Trato feito!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E Jesus pagou o preço da nossa liberdade!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Como nós podemos nos esquecer de Jesus! Acreditamos em tudo o que nos ensina, mas sempre questionamos as coisas que vem de Deus! Todos querem um dia estar com Deus, mas não querem conhece-lo! E ama-lo!  Muitos dizem: Eu acredito em Deus, (Satanás também!), mas não fazem nada por Ele! As pessoas mandam piadas por e-mail e umas passam para as outras em uma velocidade luz!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Blessed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971800" y="0"/>
            <a:ext cx="6172200" cy="74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Mas quando a mensagem é sobre Deus, as pessoas pensam duas vezes antes de compartilhar com as outras. Dizem a todo o momento, a qual clube pertence, mas pensam duas vezes antes de dizerem: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SOU DE CRISTO E AMO A DEUS!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Tentam ser invisível, quando se trata de JESUS CRISTO! POR QUÊ?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Será que quando você terminar de ler essa mensagem, você mandará ou você não está segura do que as pessoas pensarão sobre você se você enviar!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Falar sobre Jesus Cristo não é um assunto que as pessoas querem ouvir! Somente querem a Jesus quando estão em grandes apuros!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Quem passará essa mensagem?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Blessed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267080" y="212760"/>
            <a:ext cx="487692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735ff"/>
                </a:solidFill>
                <a:latin typeface="Trebuchet MS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Deus perguntou: A quem enviarei? Envie a mim SENHOR!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Se você é uma pessoa que Crê em Deus e o Ama, então envie essa mensagem todos qu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você conhece!!! Deus te recompensará!!!!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Que Deus abençoe abundantemente o teu dia!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Se você não é uma pessoa que Crê em Deus e o Ama, não envie essa mensagem!!! Aja como um covarde. E simplesmente DELETE ela!!! 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Satanás se sentira muito satisfeito, com sua ação!!!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-6041520"/>
            <a:ext cx="7632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14T18:02:43Z</dcterms:created>
  <dc:creator>Paulo César</dc:creator>
  <dc:description/>
  <dc:language>en-US</dc:language>
  <cp:lastModifiedBy>LOJA DO PAPAI</cp:lastModifiedBy>
  <dcterms:modified xsi:type="dcterms:W3CDTF">2006-01-07T13:24:11Z</dcterms:modified>
  <cp:revision>13</cp:revision>
  <dc:subject/>
  <dc:title>Slide sem título </dc:title>
</cp:coreProperties>
</file>