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6932160"/>
            <a:chOff x="0" y="0"/>
            <a:chExt cx="9142200" cy="6932160"/>
          </a:xfrm>
        </p:grpSpPr>
        <p:sp>
          <p:nvSpPr>
            <p:cNvPr id="1" name=""/>
            <p:cNvSpPr/>
            <p:nvPr/>
          </p:nvSpPr>
          <p:spPr>
            <a:xfrm>
              <a:off x="0" y="3503520"/>
              <a:ext cx="3990960" cy="3125520"/>
            </a:xfrm>
            <a:custGeom>
              <a:avLst/>
              <a:gdLst/>
              <a:ahLst/>
              <a:rect l="l" t="t" r="r" b="b"/>
              <a:pathLst>
                <a:path w="11092" h="8689">
                  <a:moveTo>
                    <a:pt x="2751" y="7841"/>
                  </a:moveTo>
                  <a:lnTo>
                    <a:pt x="3280" y="7360"/>
                  </a:lnTo>
                  <a:lnTo>
                    <a:pt x="3677" y="7175"/>
                  </a:lnTo>
                  <a:lnTo>
                    <a:pt x="3757" y="6174"/>
                  </a:lnTo>
                  <a:lnTo>
                    <a:pt x="3677" y="5402"/>
                  </a:lnTo>
                  <a:lnTo>
                    <a:pt x="3863" y="5164"/>
                  </a:lnTo>
                  <a:lnTo>
                    <a:pt x="3973" y="5592"/>
                  </a:lnTo>
                  <a:lnTo>
                    <a:pt x="4317" y="6041"/>
                  </a:lnTo>
                  <a:lnTo>
                    <a:pt x="4921" y="6699"/>
                  </a:lnTo>
                  <a:lnTo>
                    <a:pt x="5428" y="7148"/>
                  </a:lnTo>
                  <a:lnTo>
                    <a:pt x="5966" y="7197"/>
                  </a:lnTo>
                  <a:lnTo>
                    <a:pt x="6487" y="7466"/>
                  </a:lnTo>
                  <a:lnTo>
                    <a:pt x="7338" y="7316"/>
                  </a:lnTo>
                  <a:lnTo>
                    <a:pt x="8021" y="7400"/>
                  </a:lnTo>
                  <a:lnTo>
                    <a:pt x="8709" y="7197"/>
                  </a:lnTo>
                  <a:lnTo>
                    <a:pt x="8348" y="6672"/>
                  </a:lnTo>
                  <a:lnTo>
                    <a:pt x="8467" y="6108"/>
                  </a:lnTo>
                  <a:lnTo>
                    <a:pt x="8264" y="5667"/>
                  </a:lnTo>
                  <a:lnTo>
                    <a:pt x="8224" y="4979"/>
                  </a:lnTo>
                  <a:lnTo>
                    <a:pt x="7862" y="4264"/>
                  </a:lnTo>
                  <a:lnTo>
                    <a:pt x="6733" y="3929"/>
                  </a:lnTo>
                  <a:lnTo>
                    <a:pt x="5684" y="3850"/>
                  </a:lnTo>
                  <a:lnTo>
                    <a:pt x="6143" y="3444"/>
                  </a:lnTo>
                  <a:lnTo>
                    <a:pt x="6830" y="3285"/>
                  </a:lnTo>
                  <a:lnTo>
                    <a:pt x="7144" y="3254"/>
                  </a:lnTo>
                  <a:lnTo>
                    <a:pt x="7730" y="3228"/>
                  </a:lnTo>
                  <a:lnTo>
                    <a:pt x="8524" y="3175"/>
                  </a:lnTo>
                  <a:lnTo>
                    <a:pt x="9291" y="2725"/>
                  </a:lnTo>
                  <a:lnTo>
                    <a:pt x="9820" y="2275"/>
                  </a:lnTo>
                  <a:lnTo>
                    <a:pt x="10482" y="1931"/>
                  </a:lnTo>
                  <a:lnTo>
                    <a:pt x="11091" y="1486"/>
                  </a:lnTo>
                  <a:lnTo>
                    <a:pt x="10672" y="1512"/>
                  </a:lnTo>
                  <a:lnTo>
                    <a:pt x="9662" y="1512"/>
                  </a:lnTo>
                  <a:lnTo>
                    <a:pt x="9159" y="1459"/>
                  </a:lnTo>
                  <a:lnTo>
                    <a:pt x="9053" y="1327"/>
                  </a:lnTo>
                  <a:lnTo>
                    <a:pt x="8603" y="1327"/>
                  </a:lnTo>
                  <a:lnTo>
                    <a:pt x="7915" y="1142"/>
                  </a:lnTo>
                  <a:lnTo>
                    <a:pt x="7254" y="1274"/>
                  </a:lnTo>
                  <a:lnTo>
                    <a:pt x="6381" y="1640"/>
                  </a:lnTo>
                  <a:lnTo>
                    <a:pt x="5719" y="1799"/>
                  </a:lnTo>
                  <a:lnTo>
                    <a:pt x="5084" y="1825"/>
                  </a:lnTo>
                  <a:lnTo>
                    <a:pt x="5768" y="1486"/>
                  </a:lnTo>
                  <a:lnTo>
                    <a:pt x="6460" y="873"/>
                  </a:lnTo>
                  <a:lnTo>
                    <a:pt x="6407" y="740"/>
                  </a:lnTo>
                  <a:lnTo>
                    <a:pt x="6460" y="449"/>
                  </a:lnTo>
                  <a:lnTo>
                    <a:pt x="6513" y="158"/>
                  </a:lnTo>
                  <a:lnTo>
                    <a:pt x="6407" y="0"/>
                  </a:lnTo>
                  <a:lnTo>
                    <a:pt x="6248" y="105"/>
                  </a:lnTo>
                  <a:lnTo>
                    <a:pt x="5979" y="185"/>
                  </a:lnTo>
                  <a:lnTo>
                    <a:pt x="5243" y="449"/>
                  </a:lnTo>
                  <a:lnTo>
                    <a:pt x="4842" y="635"/>
                  </a:lnTo>
                  <a:lnTo>
                    <a:pt x="4524" y="635"/>
                  </a:lnTo>
                  <a:lnTo>
                    <a:pt x="4370" y="740"/>
                  </a:lnTo>
                  <a:lnTo>
                    <a:pt x="3920" y="1459"/>
                  </a:lnTo>
                  <a:lnTo>
                    <a:pt x="3757" y="1799"/>
                  </a:lnTo>
                  <a:lnTo>
                    <a:pt x="3201" y="2116"/>
                  </a:lnTo>
                  <a:lnTo>
                    <a:pt x="2862" y="2381"/>
                  </a:lnTo>
                  <a:lnTo>
                    <a:pt x="2835" y="2381"/>
                  </a:lnTo>
                  <a:lnTo>
                    <a:pt x="2809" y="2355"/>
                  </a:lnTo>
                  <a:lnTo>
                    <a:pt x="2645" y="2275"/>
                  </a:lnTo>
                  <a:lnTo>
                    <a:pt x="2487" y="2169"/>
                  </a:lnTo>
                  <a:lnTo>
                    <a:pt x="2434" y="2143"/>
                  </a:lnTo>
                  <a:lnTo>
                    <a:pt x="2381" y="2090"/>
                  </a:lnTo>
                  <a:lnTo>
                    <a:pt x="2328" y="2037"/>
                  </a:lnTo>
                  <a:lnTo>
                    <a:pt x="2222" y="1958"/>
                  </a:lnTo>
                  <a:lnTo>
                    <a:pt x="2090" y="1878"/>
                  </a:lnTo>
                  <a:lnTo>
                    <a:pt x="1958" y="1799"/>
                  </a:lnTo>
                  <a:lnTo>
                    <a:pt x="1830" y="1719"/>
                  </a:lnTo>
                  <a:lnTo>
                    <a:pt x="1697" y="1640"/>
                  </a:lnTo>
                  <a:lnTo>
                    <a:pt x="1614" y="1614"/>
                  </a:lnTo>
                  <a:lnTo>
                    <a:pt x="1587" y="1587"/>
                  </a:lnTo>
                  <a:lnTo>
                    <a:pt x="846" y="1031"/>
                  </a:lnTo>
                  <a:lnTo>
                    <a:pt x="926" y="1353"/>
                  </a:lnTo>
                  <a:lnTo>
                    <a:pt x="2513" y="2487"/>
                  </a:lnTo>
                  <a:lnTo>
                    <a:pt x="2460" y="2725"/>
                  </a:lnTo>
                  <a:lnTo>
                    <a:pt x="1958" y="3228"/>
                  </a:lnTo>
                  <a:lnTo>
                    <a:pt x="1428" y="3470"/>
                  </a:lnTo>
                  <a:lnTo>
                    <a:pt x="1402" y="3470"/>
                  </a:lnTo>
                  <a:lnTo>
                    <a:pt x="1137" y="3576"/>
                  </a:lnTo>
                  <a:lnTo>
                    <a:pt x="560" y="3761"/>
                  </a:lnTo>
                  <a:lnTo>
                    <a:pt x="0" y="3973"/>
                  </a:lnTo>
                  <a:lnTo>
                    <a:pt x="0" y="5137"/>
                  </a:lnTo>
                  <a:lnTo>
                    <a:pt x="343" y="5058"/>
                  </a:lnTo>
                  <a:lnTo>
                    <a:pt x="1640" y="4476"/>
                  </a:lnTo>
                  <a:lnTo>
                    <a:pt x="1481" y="4926"/>
                  </a:lnTo>
                  <a:lnTo>
                    <a:pt x="979" y="5565"/>
                  </a:lnTo>
                  <a:lnTo>
                    <a:pt x="639" y="6407"/>
                  </a:lnTo>
                  <a:lnTo>
                    <a:pt x="612" y="6434"/>
                  </a:lnTo>
                  <a:lnTo>
                    <a:pt x="586" y="6460"/>
                  </a:lnTo>
                  <a:lnTo>
                    <a:pt x="449" y="6593"/>
                  </a:lnTo>
                  <a:lnTo>
                    <a:pt x="396" y="6646"/>
                  </a:lnTo>
                  <a:lnTo>
                    <a:pt x="370" y="6699"/>
                  </a:lnTo>
                  <a:lnTo>
                    <a:pt x="370" y="6751"/>
                  </a:lnTo>
                  <a:lnTo>
                    <a:pt x="423" y="6778"/>
                  </a:lnTo>
                  <a:lnTo>
                    <a:pt x="502" y="6831"/>
                  </a:lnTo>
                  <a:lnTo>
                    <a:pt x="560" y="6910"/>
                  </a:lnTo>
                  <a:lnTo>
                    <a:pt x="612" y="7043"/>
                  </a:lnTo>
                  <a:lnTo>
                    <a:pt x="639" y="7201"/>
                  </a:lnTo>
                  <a:lnTo>
                    <a:pt x="661" y="7334"/>
                  </a:lnTo>
                  <a:lnTo>
                    <a:pt x="687" y="7466"/>
                  </a:lnTo>
                  <a:lnTo>
                    <a:pt x="714" y="7572"/>
                  </a:lnTo>
                  <a:lnTo>
                    <a:pt x="714" y="7598"/>
                  </a:lnTo>
                  <a:lnTo>
                    <a:pt x="952" y="7920"/>
                  </a:lnTo>
                  <a:lnTo>
                    <a:pt x="952" y="7947"/>
                  </a:lnTo>
                  <a:lnTo>
                    <a:pt x="979" y="8000"/>
                  </a:lnTo>
                  <a:lnTo>
                    <a:pt x="1005" y="8158"/>
                  </a:lnTo>
                  <a:lnTo>
                    <a:pt x="1031" y="8317"/>
                  </a:lnTo>
                  <a:lnTo>
                    <a:pt x="1058" y="8396"/>
                  </a:lnTo>
                  <a:lnTo>
                    <a:pt x="1058" y="8449"/>
                  </a:lnTo>
                  <a:lnTo>
                    <a:pt x="1084" y="8476"/>
                  </a:lnTo>
                  <a:lnTo>
                    <a:pt x="1111" y="8529"/>
                  </a:lnTo>
                  <a:lnTo>
                    <a:pt x="1137" y="8688"/>
                  </a:lnTo>
                  <a:lnTo>
                    <a:pt x="1931" y="8688"/>
                  </a:lnTo>
                  <a:lnTo>
                    <a:pt x="2037" y="8476"/>
                  </a:lnTo>
                  <a:lnTo>
                    <a:pt x="2751" y="7841"/>
                  </a:lnTo>
                  <a:lnTo>
                    <a:pt x="2751" y="7841"/>
                  </a:lnTo>
                  <a:lnTo>
                    <a:pt x="2751" y="7841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0360"/>
              <a:ext cx="3351600" cy="2544840"/>
            </a:xfrm>
            <a:custGeom>
              <a:avLst/>
              <a:gdLst/>
              <a:ahLst/>
              <a:rect l="l" t="t" r="r" b="b"/>
              <a:pathLst>
                <a:path w="9315" h="7074">
                  <a:moveTo>
                    <a:pt x="2544" y="4350"/>
                  </a:moveTo>
                  <a:lnTo>
                    <a:pt x="2386" y="2848"/>
                  </a:lnTo>
                  <a:lnTo>
                    <a:pt x="2939" y="1647"/>
                  </a:lnTo>
                  <a:lnTo>
                    <a:pt x="4066" y="2448"/>
                  </a:lnTo>
                  <a:lnTo>
                    <a:pt x="5326" y="3624"/>
                  </a:lnTo>
                  <a:lnTo>
                    <a:pt x="6506" y="4625"/>
                  </a:lnTo>
                  <a:lnTo>
                    <a:pt x="7896" y="5672"/>
                  </a:lnTo>
                  <a:lnTo>
                    <a:pt x="8261" y="5897"/>
                  </a:lnTo>
                  <a:lnTo>
                    <a:pt x="8054" y="5647"/>
                  </a:lnTo>
                  <a:lnTo>
                    <a:pt x="6190" y="4175"/>
                  </a:lnTo>
                  <a:lnTo>
                    <a:pt x="4773" y="2848"/>
                  </a:lnTo>
                  <a:lnTo>
                    <a:pt x="3171" y="1372"/>
                  </a:lnTo>
                  <a:lnTo>
                    <a:pt x="4382" y="1297"/>
                  </a:lnTo>
                  <a:lnTo>
                    <a:pt x="5641" y="1322"/>
                  </a:lnTo>
                  <a:lnTo>
                    <a:pt x="7080" y="1121"/>
                  </a:lnTo>
                  <a:lnTo>
                    <a:pt x="9314" y="821"/>
                  </a:lnTo>
                  <a:lnTo>
                    <a:pt x="9103" y="721"/>
                  </a:lnTo>
                  <a:lnTo>
                    <a:pt x="6769" y="1071"/>
                  </a:lnTo>
                  <a:lnTo>
                    <a:pt x="5299" y="1147"/>
                  </a:lnTo>
                  <a:lnTo>
                    <a:pt x="3329" y="1071"/>
                  </a:lnTo>
                  <a:lnTo>
                    <a:pt x="3593" y="946"/>
                  </a:lnTo>
                  <a:lnTo>
                    <a:pt x="5010" y="0"/>
                  </a:lnTo>
                  <a:lnTo>
                    <a:pt x="4773" y="125"/>
                  </a:lnTo>
                  <a:lnTo>
                    <a:pt x="4431" y="350"/>
                  </a:lnTo>
                  <a:lnTo>
                    <a:pt x="3751" y="796"/>
                  </a:lnTo>
                  <a:lnTo>
                    <a:pt x="2939" y="1172"/>
                  </a:lnTo>
                  <a:lnTo>
                    <a:pt x="2781" y="1497"/>
                  </a:lnTo>
                  <a:lnTo>
                    <a:pt x="1338" y="2448"/>
                  </a:lnTo>
                  <a:lnTo>
                    <a:pt x="0" y="3023"/>
                  </a:lnTo>
                  <a:lnTo>
                    <a:pt x="0" y="3048"/>
                  </a:lnTo>
                  <a:lnTo>
                    <a:pt x="0" y="3199"/>
                  </a:lnTo>
                  <a:lnTo>
                    <a:pt x="1311" y="2648"/>
                  </a:lnTo>
                  <a:lnTo>
                    <a:pt x="2597" y="1797"/>
                  </a:lnTo>
                  <a:lnTo>
                    <a:pt x="2228" y="2798"/>
                  </a:lnTo>
                  <a:lnTo>
                    <a:pt x="2307" y="4150"/>
                  </a:lnTo>
                  <a:lnTo>
                    <a:pt x="2018" y="4871"/>
                  </a:lnTo>
                  <a:lnTo>
                    <a:pt x="1443" y="6173"/>
                  </a:lnTo>
                  <a:lnTo>
                    <a:pt x="1417" y="7073"/>
                  </a:lnTo>
                  <a:lnTo>
                    <a:pt x="1443" y="7073"/>
                  </a:lnTo>
                  <a:lnTo>
                    <a:pt x="1522" y="6473"/>
                  </a:lnTo>
                  <a:lnTo>
                    <a:pt x="2544" y="4350"/>
                  </a:lnTo>
                  <a:lnTo>
                    <a:pt x="2544" y="4350"/>
                  </a:lnTo>
                  <a:lnTo>
                    <a:pt x="2544" y="4350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19920" y="5130000"/>
              <a:ext cx="5820840" cy="1496160"/>
            </a:xfrm>
            <a:custGeom>
              <a:avLst/>
              <a:gdLst/>
              <a:ahLst/>
              <a:rect l="l" t="t" r="r" b="b"/>
              <a:pathLst>
                <a:path w="16176" h="4160">
                  <a:moveTo>
                    <a:pt x="15354" y="1323"/>
                  </a:moveTo>
                  <a:lnTo>
                    <a:pt x="14719" y="1270"/>
                  </a:lnTo>
                  <a:lnTo>
                    <a:pt x="14640" y="1164"/>
                  </a:lnTo>
                  <a:lnTo>
                    <a:pt x="14084" y="1137"/>
                  </a:lnTo>
                  <a:lnTo>
                    <a:pt x="13312" y="952"/>
                  </a:lnTo>
                  <a:lnTo>
                    <a:pt x="12417" y="1032"/>
                  </a:lnTo>
                  <a:lnTo>
                    <a:pt x="11169" y="1270"/>
                  </a:lnTo>
                  <a:lnTo>
                    <a:pt x="10274" y="1349"/>
                  </a:lnTo>
                  <a:lnTo>
                    <a:pt x="9476" y="1376"/>
                  </a:lnTo>
                  <a:lnTo>
                    <a:pt x="10459" y="1137"/>
                  </a:lnTo>
                  <a:lnTo>
                    <a:pt x="11570" y="688"/>
                  </a:lnTo>
                  <a:lnTo>
                    <a:pt x="11570" y="582"/>
                  </a:lnTo>
                  <a:lnTo>
                    <a:pt x="11756" y="344"/>
                  </a:lnTo>
                  <a:lnTo>
                    <a:pt x="11936" y="105"/>
                  </a:lnTo>
                  <a:lnTo>
                    <a:pt x="11884" y="0"/>
                  </a:lnTo>
                  <a:lnTo>
                    <a:pt x="11650" y="52"/>
                  </a:lnTo>
                  <a:lnTo>
                    <a:pt x="11275" y="132"/>
                  </a:lnTo>
                  <a:lnTo>
                    <a:pt x="11090" y="238"/>
                  </a:lnTo>
                  <a:lnTo>
                    <a:pt x="10693" y="370"/>
                  </a:lnTo>
                  <a:lnTo>
                    <a:pt x="10247" y="291"/>
                  </a:lnTo>
                  <a:lnTo>
                    <a:pt x="9661" y="396"/>
                  </a:lnTo>
                  <a:lnTo>
                    <a:pt x="9264" y="396"/>
                  </a:lnTo>
                  <a:lnTo>
                    <a:pt x="9026" y="476"/>
                  </a:lnTo>
                  <a:lnTo>
                    <a:pt x="8179" y="1005"/>
                  </a:lnTo>
                  <a:lnTo>
                    <a:pt x="7809" y="1270"/>
                  </a:lnTo>
                  <a:lnTo>
                    <a:pt x="7015" y="1486"/>
                  </a:lnTo>
                  <a:lnTo>
                    <a:pt x="6459" y="1671"/>
                  </a:lnTo>
                  <a:lnTo>
                    <a:pt x="6433" y="1671"/>
                  </a:lnTo>
                  <a:lnTo>
                    <a:pt x="6406" y="1645"/>
                  </a:lnTo>
                  <a:lnTo>
                    <a:pt x="6248" y="1592"/>
                  </a:lnTo>
                  <a:lnTo>
                    <a:pt x="6089" y="1512"/>
                  </a:lnTo>
                  <a:lnTo>
                    <a:pt x="6009" y="1459"/>
                  </a:lnTo>
                  <a:lnTo>
                    <a:pt x="5983" y="1428"/>
                  </a:lnTo>
                  <a:lnTo>
                    <a:pt x="5926" y="1376"/>
                  </a:lnTo>
                  <a:lnTo>
                    <a:pt x="5820" y="1323"/>
                  </a:lnTo>
                  <a:lnTo>
                    <a:pt x="5687" y="1270"/>
                  </a:lnTo>
                  <a:lnTo>
                    <a:pt x="5555" y="1190"/>
                  </a:lnTo>
                  <a:lnTo>
                    <a:pt x="5423" y="1111"/>
                  </a:lnTo>
                  <a:lnTo>
                    <a:pt x="5233" y="1001"/>
                  </a:lnTo>
                  <a:lnTo>
                    <a:pt x="4933" y="1001"/>
                  </a:lnTo>
                  <a:lnTo>
                    <a:pt x="5983" y="1750"/>
                  </a:lnTo>
                  <a:lnTo>
                    <a:pt x="5820" y="1931"/>
                  </a:lnTo>
                  <a:lnTo>
                    <a:pt x="5004" y="2302"/>
                  </a:lnTo>
                  <a:lnTo>
                    <a:pt x="4232" y="2460"/>
                  </a:lnTo>
                  <a:lnTo>
                    <a:pt x="3016" y="2646"/>
                  </a:lnTo>
                  <a:lnTo>
                    <a:pt x="2090" y="2778"/>
                  </a:lnTo>
                  <a:lnTo>
                    <a:pt x="1719" y="3016"/>
                  </a:lnTo>
                  <a:lnTo>
                    <a:pt x="582" y="3444"/>
                  </a:lnTo>
                  <a:lnTo>
                    <a:pt x="0" y="3656"/>
                  </a:lnTo>
                  <a:lnTo>
                    <a:pt x="1031" y="3735"/>
                  </a:lnTo>
                  <a:lnTo>
                    <a:pt x="2196" y="3656"/>
                  </a:lnTo>
                  <a:lnTo>
                    <a:pt x="4078" y="3259"/>
                  </a:lnTo>
                  <a:lnTo>
                    <a:pt x="3703" y="3603"/>
                  </a:lnTo>
                  <a:lnTo>
                    <a:pt x="2809" y="4079"/>
                  </a:lnTo>
                  <a:lnTo>
                    <a:pt x="2703" y="4159"/>
                  </a:lnTo>
                  <a:lnTo>
                    <a:pt x="6195" y="4159"/>
                  </a:lnTo>
                  <a:lnTo>
                    <a:pt x="6221" y="4079"/>
                  </a:lnTo>
                  <a:lnTo>
                    <a:pt x="6380" y="4159"/>
                  </a:lnTo>
                  <a:lnTo>
                    <a:pt x="12893" y="4159"/>
                  </a:lnTo>
                  <a:lnTo>
                    <a:pt x="12735" y="3788"/>
                  </a:lnTo>
                  <a:lnTo>
                    <a:pt x="11963" y="3418"/>
                  </a:lnTo>
                  <a:lnTo>
                    <a:pt x="11385" y="3122"/>
                  </a:lnTo>
                  <a:lnTo>
                    <a:pt x="10300" y="2805"/>
                  </a:lnTo>
                  <a:lnTo>
                    <a:pt x="10137" y="2672"/>
                  </a:lnTo>
                  <a:lnTo>
                    <a:pt x="11063" y="2566"/>
                  </a:lnTo>
                  <a:lnTo>
                    <a:pt x="11491" y="2593"/>
                  </a:lnTo>
                  <a:lnTo>
                    <a:pt x="12228" y="2593"/>
                  </a:lnTo>
                  <a:lnTo>
                    <a:pt x="13233" y="2566"/>
                  </a:lnTo>
                  <a:lnTo>
                    <a:pt x="14371" y="2275"/>
                  </a:lnTo>
                  <a:lnTo>
                    <a:pt x="15222" y="1931"/>
                  </a:lnTo>
                  <a:lnTo>
                    <a:pt x="16175" y="1724"/>
                  </a:lnTo>
                  <a:lnTo>
                    <a:pt x="16175" y="1376"/>
                  </a:lnTo>
                  <a:lnTo>
                    <a:pt x="15354" y="1323"/>
                  </a:lnTo>
                  <a:lnTo>
                    <a:pt x="15354" y="1323"/>
                  </a:lnTo>
                  <a:lnTo>
                    <a:pt x="15354" y="1323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240"/>
              <a:ext cx="1545480" cy="1895760"/>
            </a:xfrm>
            <a:custGeom>
              <a:avLst/>
              <a:gdLst/>
              <a:ahLst/>
              <a:rect l="l" t="t" r="r" b="b"/>
              <a:pathLst>
                <a:path w="4293" h="5271">
                  <a:moveTo>
                    <a:pt x="1430" y="5243"/>
                  </a:moveTo>
                  <a:lnTo>
                    <a:pt x="2170" y="5270"/>
                  </a:lnTo>
                  <a:lnTo>
                    <a:pt x="2568" y="5084"/>
                  </a:lnTo>
                  <a:lnTo>
                    <a:pt x="3601" y="4796"/>
                  </a:lnTo>
                  <a:lnTo>
                    <a:pt x="4132" y="4664"/>
                  </a:lnTo>
                  <a:lnTo>
                    <a:pt x="3361" y="4372"/>
                  </a:lnTo>
                  <a:lnTo>
                    <a:pt x="2462" y="4213"/>
                  </a:lnTo>
                  <a:lnTo>
                    <a:pt x="872" y="4292"/>
                  </a:lnTo>
                  <a:lnTo>
                    <a:pt x="1324" y="3948"/>
                  </a:lnTo>
                  <a:lnTo>
                    <a:pt x="2196" y="3550"/>
                  </a:lnTo>
                  <a:lnTo>
                    <a:pt x="3073" y="2966"/>
                  </a:lnTo>
                  <a:lnTo>
                    <a:pt x="3100" y="2966"/>
                  </a:lnTo>
                  <a:lnTo>
                    <a:pt x="3153" y="2940"/>
                  </a:lnTo>
                  <a:lnTo>
                    <a:pt x="3335" y="2860"/>
                  </a:lnTo>
                  <a:lnTo>
                    <a:pt x="3441" y="2833"/>
                  </a:lnTo>
                  <a:lnTo>
                    <a:pt x="3494" y="2780"/>
                  </a:lnTo>
                  <a:lnTo>
                    <a:pt x="3521" y="2727"/>
                  </a:lnTo>
                  <a:lnTo>
                    <a:pt x="3494" y="2701"/>
                  </a:lnTo>
                  <a:lnTo>
                    <a:pt x="3468" y="2648"/>
                  </a:lnTo>
                  <a:lnTo>
                    <a:pt x="3468" y="2542"/>
                  </a:lnTo>
                  <a:lnTo>
                    <a:pt x="3521" y="2409"/>
                  </a:lnTo>
                  <a:lnTo>
                    <a:pt x="3574" y="2276"/>
                  </a:lnTo>
                  <a:lnTo>
                    <a:pt x="3654" y="2144"/>
                  </a:lnTo>
                  <a:lnTo>
                    <a:pt x="3707" y="2011"/>
                  </a:lnTo>
                  <a:lnTo>
                    <a:pt x="3733" y="1932"/>
                  </a:lnTo>
                  <a:lnTo>
                    <a:pt x="3760" y="1905"/>
                  </a:lnTo>
                  <a:lnTo>
                    <a:pt x="3760" y="1534"/>
                  </a:lnTo>
                  <a:lnTo>
                    <a:pt x="3760" y="1507"/>
                  </a:lnTo>
                  <a:lnTo>
                    <a:pt x="3787" y="1481"/>
                  </a:lnTo>
                  <a:lnTo>
                    <a:pt x="3866" y="1348"/>
                  </a:lnTo>
                  <a:lnTo>
                    <a:pt x="3919" y="1189"/>
                  </a:lnTo>
                  <a:lnTo>
                    <a:pt x="3973" y="1056"/>
                  </a:lnTo>
                  <a:lnTo>
                    <a:pt x="3999" y="1003"/>
                  </a:lnTo>
                  <a:lnTo>
                    <a:pt x="4026" y="950"/>
                  </a:lnTo>
                  <a:lnTo>
                    <a:pt x="4105" y="764"/>
                  </a:lnTo>
                  <a:lnTo>
                    <a:pt x="4185" y="605"/>
                  </a:lnTo>
                  <a:lnTo>
                    <a:pt x="4212" y="552"/>
                  </a:lnTo>
                  <a:lnTo>
                    <a:pt x="4212" y="526"/>
                  </a:lnTo>
                  <a:lnTo>
                    <a:pt x="4292" y="0"/>
                  </a:lnTo>
                  <a:lnTo>
                    <a:pt x="4185" y="207"/>
                  </a:lnTo>
                  <a:lnTo>
                    <a:pt x="3468" y="499"/>
                  </a:lnTo>
                  <a:lnTo>
                    <a:pt x="3127" y="711"/>
                  </a:lnTo>
                  <a:lnTo>
                    <a:pt x="2037" y="1030"/>
                  </a:lnTo>
                  <a:lnTo>
                    <a:pt x="1244" y="1268"/>
                  </a:lnTo>
                  <a:lnTo>
                    <a:pt x="766" y="1295"/>
                  </a:lnTo>
                  <a:lnTo>
                    <a:pt x="53" y="2144"/>
                  </a:lnTo>
                  <a:lnTo>
                    <a:pt x="0" y="2250"/>
                  </a:lnTo>
                  <a:lnTo>
                    <a:pt x="0" y="5243"/>
                  </a:lnTo>
                  <a:lnTo>
                    <a:pt x="425" y="5216"/>
                  </a:lnTo>
                  <a:lnTo>
                    <a:pt x="1430" y="5243"/>
                  </a:lnTo>
                  <a:lnTo>
                    <a:pt x="1430" y="5243"/>
                  </a:lnTo>
                  <a:lnTo>
                    <a:pt x="1430" y="5243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9080" y="1080"/>
              <a:ext cx="4078440" cy="3595680"/>
            </a:xfrm>
            <a:custGeom>
              <a:avLst/>
              <a:gdLst/>
              <a:ahLst/>
              <a:rect l="l" t="t" r="r" b="b"/>
              <a:pathLst>
                <a:path w="11335" h="9994">
                  <a:moveTo>
                    <a:pt x="3334" y="2042"/>
                  </a:moveTo>
                  <a:lnTo>
                    <a:pt x="3788" y="2699"/>
                  </a:lnTo>
                  <a:lnTo>
                    <a:pt x="4132" y="3175"/>
                  </a:lnTo>
                  <a:lnTo>
                    <a:pt x="4793" y="3762"/>
                  </a:lnTo>
                  <a:lnTo>
                    <a:pt x="4873" y="4000"/>
                  </a:lnTo>
                  <a:lnTo>
                    <a:pt x="4238" y="4026"/>
                  </a:lnTo>
                  <a:lnTo>
                    <a:pt x="3947" y="3973"/>
                  </a:lnTo>
                  <a:lnTo>
                    <a:pt x="3466" y="3894"/>
                  </a:lnTo>
                  <a:lnTo>
                    <a:pt x="2809" y="3788"/>
                  </a:lnTo>
                  <a:lnTo>
                    <a:pt x="1984" y="4106"/>
                  </a:lnTo>
                  <a:lnTo>
                    <a:pt x="1349" y="4503"/>
                  </a:lnTo>
                  <a:lnTo>
                    <a:pt x="661" y="4741"/>
                  </a:lnTo>
                  <a:lnTo>
                    <a:pt x="0" y="5085"/>
                  </a:lnTo>
                  <a:lnTo>
                    <a:pt x="343" y="5138"/>
                  </a:lnTo>
                  <a:lnTo>
                    <a:pt x="1164" y="5380"/>
                  </a:lnTo>
                  <a:lnTo>
                    <a:pt x="1592" y="5539"/>
                  </a:lnTo>
                  <a:lnTo>
                    <a:pt x="1618" y="5724"/>
                  </a:lnTo>
                  <a:lnTo>
                    <a:pt x="1958" y="5804"/>
                  </a:lnTo>
                  <a:lnTo>
                    <a:pt x="2460" y="6174"/>
                  </a:lnTo>
                  <a:lnTo>
                    <a:pt x="3073" y="6174"/>
                  </a:lnTo>
                  <a:lnTo>
                    <a:pt x="3947" y="5936"/>
                  </a:lnTo>
                  <a:lnTo>
                    <a:pt x="4524" y="5936"/>
                  </a:lnTo>
                  <a:lnTo>
                    <a:pt x="5058" y="5989"/>
                  </a:lnTo>
                  <a:lnTo>
                    <a:pt x="4370" y="6227"/>
                  </a:lnTo>
                  <a:lnTo>
                    <a:pt x="3545" y="6783"/>
                  </a:lnTo>
                  <a:lnTo>
                    <a:pt x="3545" y="6941"/>
                  </a:lnTo>
                  <a:lnTo>
                    <a:pt x="3360" y="7255"/>
                  </a:lnTo>
                  <a:lnTo>
                    <a:pt x="3201" y="7577"/>
                  </a:lnTo>
                  <a:lnTo>
                    <a:pt x="3228" y="7735"/>
                  </a:lnTo>
                  <a:lnTo>
                    <a:pt x="3386" y="7682"/>
                  </a:lnTo>
                  <a:lnTo>
                    <a:pt x="3655" y="7630"/>
                  </a:lnTo>
                  <a:lnTo>
                    <a:pt x="3814" y="7466"/>
                  </a:lnTo>
                  <a:lnTo>
                    <a:pt x="4079" y="7334"/>
                  </a:lnTo>
                  <a:lnTo>
                    <a:pt x="4370" y="7493"/>
                  </a:lnTo>
                  <a:lnTo>
                    <a:pt x="4793" y="7387"/>
                  </a:lnTo>
                  <a:lnTo>
                    <a:pt x="5005" y="7175"/>
                  </a:lnTo>
                  <a:lnTo>
                    <a:pt x="5058" y="7440"/>
                  </a:lnTo>
                  <a:lnTo>
                    <a:pt x="5217" y="7360"/>
                  </a:lnTo>
                  <a:lnTo>
                    <a:pt x="5878" y="6677"/>
                  </a:lnTo>
                  <a:lnTo>
                    <a:pt x="6169" y="6333"/>
                  </a:lnTo>
                  <a:lnTo>
                    <a:pt x="6729" y="6095"/>
                  </a:lnTo>
                  <a:lnTo>
                    <a:pt x="7122" y="5883"/>
                  </a:lnTo>
                  <a:lnTo>
                    <a:pt x="7175" y="5936"/>
                  </a:lnTo>
                  <a:lnTo>
                    <a:pt x="7254" y="6042"/>
                  </a:lnTo>
                  <a:lnTo>
                    <a:pt x="7360" y="6174"/>
                  </a:lnTo>
                  <a:lnTo>
                    <a:pt x="7413" y="6306"/>
                  </a:lnTo>
                  <a:lnTo>
                    <a:pt x="7439" y="6386"/>
                  </a:lnTo>
                  <a:lnTo>
                    <a:pt x="7492" y="6465"/>
                  </a:lnTo>
                  <a:lnTo>
                    <a:pt x="7625" y="6703"/>
                  </a:lnTo>
                  <a:lnTo>
                    <a:pt x="7704" y="6836"/>
                  </a:lnTo>
                  <a:lnTo>
                    <a:pt x="7788" y="6941"/>
                  </a:lnTo>
                  <a:lnTo>
                    <a:pt x="7814" y="6994"/>
                  </a:lnTo>
                  <a:lnTo>
                    <a:pt x="7841" y="7021"/>
                  </a:lnTo>
                  <a:lnTo>
                    <a:pt x="9367" y="9913"/>
                  </a:lnTo>
                  <a:lnTo>
                    <a:pt x="9768" y="9993"/>
                  </a:lnTo>
                  <a:lnTo>
                    <a:pt x="7466" y="5830"/>
                  </a:lnTo>
                  <a:lnTo>
                    <a:pt x="7598" y="5565"/>
                  </a:lnTo>
                  <a:lnTo>
                    <a:pt x="8207" y="5138"/>
                  </a:lnTo>
                  <a:lnTo>
                    <a:pt x="8767" y="4979"/>
                  </a:lnTo>
                  <a:lnTo>
                    <a:pt x="9583" y="4847"/>
                  </a:lnTo>
                  <a:lnTo>
                    <a:pt x="10222" y="4741"/>
                  </a:lnTo>
                  <a:lnTo>
                    <a:pt x="10540" y="4450"/>
                  </a:lnTo>
                  <a:lnTo>
                    <a:pt x="11334" y="3947"/>
                  </a:lnTo>
                  <a:lnTo>
                    <a:pt x="11334" y="3550"/>
                  </a:lnTo>
                  <a:lnTo>
                    <a:pt x="11095" y="3470"/>
                  </a:lnTo>
                  <a:lnTo>
                    <a:pt x="10328" y="3444"/>
                  </a:lnTo>
                  <a:lnTo>
                    <a:pt x="9005" y="3841"/>
                  </a:lnTo>
                  <a:lnTo>
                    <a:pt x="9322" y="3365"/>
                  </a:lnTo>
                  <a:lnTo>
                    <a:pt x="9984" y="2752"/>
                  </a:lnTo>
                  <a:lnTo>
                    <a:pt x="10619" y="1909"/>
                  </a:lnTo>
                  <a:lnTo>
                    <a:pt x="10646" y="1909"/>
                  </a:lnTo>
                  <a:lnTo>
                    <a:pt x="10698" y="1856"/>
                  </a:lnTo>
                  <a:lnTo>
                    <a:pt x="10831" y="1750"/>
                  </a:lnTo>
                  <a:lnTo>
                    <a:pt x="10910" y="1671"/>
                  </a:lnTo>
                  <a:lnTo>
                    <a:pt x="10963" y="1618"/>
                  </a:lnTo>
                  <a:lnTo>
                    <a:pt x="10990" y="1565"/>
                  </a:lnTo>
                  <a:lnTo>
                    <a:pt x="10963" y="1539"/>
                  </a:lnTo>
                  <a:lnTo>
                    <a:pt x="10910" y="1486"/>
                  </a:lnTo>
                  <a:lnTo>
                    <a:pt x="10910" y="1353"/>
                  </a:lnTo>
                  <a:lnTo>
                    <a:pt x="10910" y="1195"/>
                  </a:lnTo>
                  <a:lnTo>
                    <a:pt x="10937" y="1005"/>
                  </a:lnTo>
                  <a:lnTo>
                    <a:pt x="10990" y="846"/>
                  </a:lnTo>
                  <a:lnTo>
                    <a:pt x="11016" y="688"/>
                  </a:lnTo>
                  <a:lnTo>
                    <a:pt x="11042" y="582"/>
                  </a:lnTo>
                  <a:lnTo>
                    <a:pt x="11042" y="555"/>
                  </a:lnTo>
                  <a:lnTo>
                    <a:pt x="10990" y="158"/>
                  </a:lnTo>
                  <a:lnTo>
                    <a:pt x="10990" y="158"/>
                  </a:lnTo>
                  <a:lnTo>
                    <a:pt x="10990" y="105"/>
                  </a:lnTo>
                  <a:lnTo>
                    <a:pt x="11016" y="0"/>
                  </a:lnTo>
                  <a:lnTo>
                    <a:pt x="9270" y="0"/>
                  </a:lnTo>
                  <a:lnTo>
                    <a:pt x="8846" y="264"/>
                  </a:lnTo>
                  <a:lnTo>
                    <a:pt x="8418" y="396"/>
                  </a:lnTo>
                  <a:lnTo>
                    <a:pt x="7973" y="1486"/>
                  </a:lnTo>
                  <a:lnTo>
                    <a:pt x="7704" y="2359"/>
                  </a:lnTo>
                  <a:lnTo>
                    <a:pt x="7439" y="2593"/>
                  </a:lnTo>
                  <a:lnTo>
                    <a:pt x="7545" y="2068"/>
                  </a:lnTo>
                  <a:lnTo>
                    <a:pt x="7439" y="1512"/>
                  </a:lnTo>
                  <a:lnTo>
                    <a:pt x="7201" y="635"/>
                  </a:lnTo>
                  <a:lnTo>
                    <a:pt x="6990" y="52"/>
                  </a:lnTo>
                  <a:lnTo>
                    <a:pt x="6963" y="0"/>
                  </a:lnTo>
                  <a:lnTo>
                    <a:pt x="3466" y="0"/>
                  </a:lnTo>
                  <a:lnTo>
                    <a:pt x="3254" y="820"/>
                  </a:lnTo>
                  <a:lnTo>
                    <a:pt x="3334" y="2042"/>
                  </a:lnTo>
                  <a:lnTo>
                    <a:pt x="3334" y="2042"/>
                  </a:lnTo>
                  <a:lnTo>
                    <a:pt x="3334" y="2042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4040" y="1080"/>
              <a:ext cx="3468960" cy="2392560"/>
            </a:xfrm>
            <a:custGeom>
              <a:avLst/>
              <a:gdLst/>
              <a:ahLst/>
              <a:rect l="l" t="t" r="r" b="b"/>
              <a:pathLst>
                <a:path w="9638" h="6652">
                  <a:moveTo>
                    <a:pt x="4579" y="3389"/>
                  </a:moveTo>
                  <a:lnTo>
                    <a:pt x="5270" y="5457"/>
                  </a:lnTo>
                  <a:lnTo>
                    <a:pt x="4233" y="5272"/>
                  </a:lnTo>
                  <a:lnTo>
                    <a:pt x="3201" y="4980"/>
                  </a:lnTo>
                  <a:lnTo>
                    <a:pt x="1957" y="4900"/>
                  </a:lnTo>
                  <a:lnTo>
                    <a:pt x="0" y="4768"/>
                  </a:lnTo>
                  <a:lnTo>
                    <a:pt x="132" y="4927"/>
                  </a:lnTo>
                  <a:lnTo>
                    <a:pt x="2196" y="5007"/>
                  </a:lnTo>
                  <a:lnTo>
                    <a:pt x="3441" y="5245"/>
                  </a:lnTo>
                  <a:lnTo>
                    <a:pt x="5004" y="5749"/>
                  </a:lnTo>
                  <a:lnTo>
                    <a:pt x="4738" y="5829"/>
                  </a:lnTo>
                  <a:lnTo>
                    <a:pt x="3148" y="6651"/>
                  </a:lnTo>
                  <a:lnTo>
                    <a:pt x="3388" y="6544"/>
                  </a:lnTo>
                  <a:lnTo>
                    <a:pt x="3813" y="6359"/>
                  </a:lnTo>
                  <a:lnTo>
                    <a:pt x="4526" y="5988"/>
                  </a:lnTo>
                  <a:lnTo>
                    <a:pt x="5376" y="5722"/>
                  </a:lnTo>
                  <a:lnTo>
                    <a:pt x="5611" y="5404"/>
                  </a:lnTo>
                  <a:lnTo>
                    <a:pt x="7227" y="4609"/>
                  </a:lnTo>
                  <a:lnTo>
                    <a:pt x="8551" y="4211"/>
                  </a:lnTo>
                  <a:lnTo>
                    <a:pt x="9637" y="3628"/>
                  </a:lnTo>
                  <a:lnTo>
                    <a:pt x="8684" y="4025"/>
                  </a:lnTo>
                  <a:lnTo>
                    <a:pt x="7334" y="4370"/>
                  </a:lnTo>
                  <a:lnTo>
                    <a:pt x="5930" y="5086"/>
                  </a:lnTo>
                  <a:lnTo>
                    <a:pt x="6647" y="3999"/>
                  </a:lnTo>
                  <a:lnTo>
                    <a:pt x="7174" y="2408"/>
                  </a:lnTo>
                  <a:lnTo>
                    <a:pt x="7706" y="1643"/>
                  </a:lnTo>
                  <a:lnTo>
                    <a:pt x="8764" y="265"/>
                  </a:lnTo>
                  <a:lnTo>
                    <a:pt x="8870" y="0"/>
                  </a:lnTo>
                  <a:lnTo>
                    <a:pt x="8737" y="0"/>
                  </a:lnTo>
                  <a:lnTo>
                    <a:pt x="7068" y="2121"/>
                  </a:lnTo>
                  <a:lnTo>
                    <a:pt x="6541" y="3919"/>
                  </a:lnTo>
                  <a:lnTo>
                    <a:pt x="5558" y="5192"/>
                  </a:lnTo>
                  <a:lnTo>
                    <a:pt x="5004" y="3999"/>
                  </a:lnTo>
                  <a:lnTo>
                    <a:pt x="4473" y="2386"/>
                  </a:lnTo>
                  <a:lnTo>
                    <a:pt x="3919" y="981"/>
                  </a:lnTo>
                  <a:lnTo>
                    <a:pt x="3494" y="0"/>
                  </a:lnTo>
                  <a:lnTo>
                    <a:pt x="3334" y="0"/>
                  </a:lnTo>
                  <a:lnTo>
                    <a:pt x="3999" y="1564"/>
                  </a:lnTo>
                  <a:lnTo>
                    <a:pt x="4579" y="3389"/>
                  </a:lnTo>
                  <a:lnTo>
                    <a:pt x="4579" y="3389"/>
                  </a:lnTo>
                  <a:lnTo>
                    <a:pt x="4579" y="3389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600"/>
              <a:ext cx="1294560" cy="1278720"/>
            </a:xfrm>
            <a:custGeom>
              <a:avLst/>
              <a:gdLst/>
              <a:ahLst/>
              <a:rect l="l" t="t" r="r" b="b"/>
              <a:pathLst>
                <a:path w="3600" h="3556">
                  <a:moveTo>
                    <a:pt x="712" y="2493"/>
                  </a:moveTo>
                  <a:lnTo>
                    <a:pt x="1456" y="1936"/>
                  </a:lnTo>
                  <a:lnTo>
                    <a:pt x="2859" y="955"/>
                  </a:lnTo>
                  <a:lnTo>
                    <a:pt x="3599" y="0"/>
                  </a:lnTo>
                  <a:lnTo>
                    <a:pt x="2992" y="663"/>
                  </a:lnTo>
                  <a:lnTo>
                    <a:pt x="637" y="2228"/>
                  </a:lnTo>
                  <a:lnTo>
                    <a:pt x="0" y="3236"/>
                  </a:lnTo>
                  <a:lnTo>
                    <a:pt x="0" y="3555"/>
                  </a:lnTo>
                  <a:lnTo>
                    <a:pt x="712" y="2493"/>
                  </a:lnTo>
                  <a:lnTo>
                    <a:pt x="712" y="2493"/>
                  </a:lnTo>
                  <a:lnTo>
                    <a:pt x="712" y="2493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240"/>
              <a:ext cx="1208880" cy="169560"/>
            </a:xfrm>
            <a:custGeom>
              <a:avLst/>
              <a:gdLst/>
              <a:ahLst/>
              <a:rect l="l" t="t" r="r" b="b"/>
              <a:pathLst>
                <a:path w="3362" h="474">
                  <a:moveTo>
                    <a:pt x="2036" y="291"/>
                  </a:moveTo>
                  <a:lnTo>
                    <a:pt x="3361" y="0"/>
                  </a:lnTo>
                  <a:lnTo>
                    <a:pt x="2196" y="159"/>
                  </a:lnTo>
                  <a:lnTo>
                    <a:pt x="611" y="212"/>
                  </a:lnTo>
                  <a:lnTo>
                    <a:pt x="0" y="344"/>
                  </a:lnTo>
                  <a:lnTo>
                    <a:pt x="0" y="473"/>
                  </a:lnTo>
                  <a:lnTo>
                    <a:pt x="425" y="393"/>
                  </a:lnTo>
                  <a:lnTo>
                    <a:pt x="2036" y="291"/>
                  </a:lnTo>
                  <a:lnTo>
                    <a:pt x="2036" y="291"/>
                  </a:lnTo>
                  <a:lnTo>
                    <a:pt x="2036" y="291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00" y="5443920"/>
              <a:ext cx="5049720" cy="1181880"/>
            </a:xfrm>
            <a:custGeom>
              <a:avLst/>
              <a:gdLst/>
              <a:ahLst/>
              <a:rect l="l" t="t" r="r" b="b"/>
              <a:pathLst>
                <a:path w="14033" h="3287">
                  <a:moveTo>
                    <a:pt x="6140" y="1057"/>
                  </a:moveTo>
                  <a:lnTo>
                    <a:pt x="7677" y="1030"/>
                  </a:lnTo>
                  <a:lnTo>
                    <a:pt x="9240" y="1110"/>
                  </a:lnTo>
                  <a:lnTo>
                    <a:pt x="11091" y="1030"/>
                  </a:lnTo>
                  <a:lnTo>
                    <a:pt x="14032" y="902"/>
                  </a:lnTo>
                  <a:lnTo>
                    <a:pt x="13792" y="822"/>
                  </a:lnTo>
                  <a:lnTo>
                    <a:pt x="10724" y="977"/>
                  </a:lnTo>
                  <a:lnTo>
                    <a:pt x="8868" y="977"/>
                  </a:lnTo>
                  <a:lnTo>
                    <a:pt x="6459" y="822"/>
                  </a:lnTo>
                  <a:lnTo>
                    <a:pt x="6831" y="742"/>
                  </a:lnTo>
                  <a:lnTo>
                    <a:pt x="9028" y="0"/>
                  </a:lnTo>
                  <a:lnTo>
                    <a:pt x="8682" y="106"/>
                  </a:lnTo>
                  <a:lnTo>
                    <a:pt x="8129" y="291"/>
                  </a:lnTo>
                  <a:lnTo>
                    <a:pt x="7092" y="610"/>
                  </a:lnTo>
                  <a:lnTo>
                    <a:pt x="5928" y="875"/>
                  </a:lnTo>
                  <a:lnTo>
                    <a:pt x="5613" y="1110"/>
                  </a:lnTo>
                  <a:lnTo>
                    <a:pt x="3386" y="1826"/>
                  </a:lnTo>
                  <a:lnTo>
                    <a:pt x="1483" y="2224"/>
                  </a:lnTo>
                  <a:lnTo>
                    <a:pt x="0" y="2728"/>
                  </a:lnTo>
                  <a:lnTo>
                    <a:pt x="1324" y="2383"/>
                  </a:lnTo>
                  <a:lnTo>
                    <a:pt x="3253" y="1985"/>
                  </a:lnTo>
                  <a:lnTo>
                    <a:pt x="5215" y="1375"/>
                  </a:lnTo>
                  <a:lnTo>
                    <a:pt x="4343" y="2171"/>
                  </a:lnTo>
                  <a:lnTo>
                    <a:pt x="3838" y="3286"/>
                  </a:lnTo>
                  <a:lnTo>
                    <a:pt x="3811" y="3286"/>
                  </a:lnTo>
                  <a:lnTo>
                    <a:pt x="4130" y="3286"/>
                  </a:lnTo>
                  <a:lnTo>
                    <a:pt x="4524" y="2198"/>
                  </a:lnTo>
                  <a:lnTo>
                    <a:pt x="5742" y="1242"/>
                  </a:lnTo>
                  <a:lnTo>
                    <a:pt x="6778" y="1985"/>
                  </a:lnTo>
                  <a:lnTo>
                    <a:pt x="7836" y="2994"/>
                  </a:lnTo>
                  <a:lnTo>
                    <a:pt x="8208" y="3286"/>
                  </a:lnTo>
                  <a:lnTo>
                    <a:pt x="8496" y="3286"/>
                  </a:lnTo>
                  <a:lnTo>
                    <a:pt x="7491" y="2330"/>
                  </a:lnTo>
                  <a:lnTo>
                    <a:pt x="6140" y="1057"/>
                  </a:lnTo>
                  <a:lnTo>
                    <a:pt x="6140" y="1057"/>
                  </a:lnTo>
                  <a:lnTo>
                    <a:pt x="6140" y="1057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oundRect">
              <a:avLst>
                <a:gd name="adj" fmla="val 50000"/>
              </a:avLst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oundRect">
              <a:avLst>
                <a:gd name="adj" fmla="val 50000"/>
              </a:avLst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7560"/>
              <a:ext cx="9141120" cy="456840"/>
            </a:xfrm>
            <a:custGeom>
              <a:avLst/>
              <a:gdLst/>
              <a:ahLst/>
              <a:rect l="l" t="t" r="r" b="b"/>
              <a:pathLst>
                <a:path w="25401" h="1272">
                  <a:moveTo>
                    <a:pt x="25400" y="1271"/>
                  </a:moveTo>
                  <a:lnTo>
                    <a:pt x="0" y="1271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271"/>
                  </a:lnTo>
                  <a:lnTo>
                    <a:pt x="25400" y="1271"/>
                  </a:lnTo>
                  <a:lnTo>
                    <a:pt x="25400" y="1271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7560"/>
              <a:ext cx="9141120" cy="534600"/>
            </a:xfrm>
            <a:custGeom>
              <a:avLst/>
              <a:gdLst/>
              <a:ahLst/>
              <a:rect l="l" t="t" r="r" b="b"/>
              <a:pathLst>
                <a:path w="25401" h="1484">
                  <a:moveTo>
                    <a:pt x="25400" y="1483"/>
                  </a:moveTo>
                  <a:lnTo>
                    <a:pt x="0" y="1483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483"/>
                  </a:lnTo>
                  <a:lnTo>
                    <a:pt x="25400" y="1483"/>
                  </a:lnTo>
                  <a:lnTo>
                    <a:pt x="25400" y="1483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1120" cy="456840"/>
            </a:xfrm>
            <a:custGeom>
              <a:avLst/>
              <a:gdLst/>
              <a:ahLst/>
              <a:rect l="l" t="t" r="r" b="b"/>
              <a:pathLst>
                <a:path w="25401" h="1272">
                  <a:moveTo>
                    <a:pt x="25400" y="1271"/>
                  </a:moveTo>
                  <a:lnTo>
                    <a:pt x="0" y="1271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271"/>
                  </a:lnTo>
                  <a:lnTo>
                    <a:pt x="25400" y="1271"/>
                  </a:lnTo>
                  <a:lnTo>
                    <a:pt x="25400" y="1271"/>
                  </a:lnTo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9080" cy="3211200"/>
            </a:xfrm>
            <a:custGeom>
              <a:avLst/>
              <a:gdLst/>
              <a:ahLst/>
              <a:rect l="l" t="t" r="r" b="b"/>
              <a:pathLst>
                <a:path w="14058" h="8926">
                  <a:moveTo>
                    <a:pt x="3814" y="6302"/>
                  </a:moveTo>
                  <a:lnTo>
                    <a:pt x="3841" y="6275"/>
                  </a:lnTo>
                  <a:lnTo>
                    <a:pt x="3920" y="6222"/>
                  </a:lnTo>
                  <a:lnTo>
                    <a:pt x="3999" y="6143"/>
                  </a:lnTo>
                  <a:lnTo>
                    <a:pt x="4132" y="6037"/>
                  </a:lnTo>
                  <a:lnTo>
                    <a:pt x="4370" y="5821"/>
                  </a:lnTo>
                  <a:lnTo>
                    <a:pt x="4476" y="5772"/>
                  </a:lnTo>
                  <a:lnTo>
                    <a:pt x="4555" y="5719"/>
                  </a:lnTo>
                  <a:lnTo>
                    <a:pt x="4661" y="5640"/>
                  </a:lnTo>
                  <a:lnTo>
                    <a:pt x="4789" y="5508"/>
                  </a:lnTo>
                  <a:lnTo>
                    <a:pt x="4899" y="5402"/>
                  </a:lnTo>
                  <a:lnTo>
                    <a:pt x="4952" y="5375"/>
                  </a:lnTo>
                  <a:lnTo>
                    <a:pt x="4952" y="5349"/>
                  </a:lnTo>
                  <a:lnTo>
                    <a:pt x="4661" y="5084"/>
                  </a:lnTo>
                  <a:lnTo>
                    <a:pt x="4317" y="4634"/>
                  </a:lnTo>
                  <a:lnTo>
                    <a:pt x="3867" y="4502"/>
                  </a:lnTo>
                  <a:lnTo>
                    <a:pt x="3020" y="4105"/>
                  </a:lnTo>
                  <a:lnTo>
                    <a:pt x="2888" y="3999"/>
                  </a:lnTo>
                  <a:lnTo>
                    <a:pt x="3179" y="3863"/>
                  </a:lnTo>
                  <a:lnTo>
                    <a:pt x="2888" y="3730"/>
                  </a:lnTo>
                  <a:lnTo>
                    <a:pt x="2698" y="3413"/>
                  </a:lnTo>
                  <a:lnTo>
                    <a:pt x="2835" y="3122"/>
                  </a:lnTo>
                  <a:lnTo>
                    <a:pt x="2645" y="2910"/>
                  </a:lnTo>
                  <a:lnTo>
                    <a:pt x="2434" y="2831"/>
                  </a:lnTo>
                  <a:lnTo>
                    <a:pt x="2328" y="2619"/>
                  </a:lnTo>
                  <a:lnTo>
                    <a:pt x="2249" y="2513"/>
                  </a:lnTo>
                  <a:lnTo>
                    <a:pt x="2434" y="2434"/>
                  </a:lnTo>
                  <a:lnTo>
                    <a:pt x="2809" y="2487"/>
                  </a:lnTo>
                  <a:lnTo>
                    <a:pt x="3179" y="2540"/>
                  </a:lnTo>
                  <a:lnTo>
                    <a:pt x="3364" y="2513"/>
                  </a:lnTo>
                  <a:lnTo>
                    <a:pt x="4105" y="3069"/>
                  </a:lnTo>
                  <a:lnTo>
                    <a:pt x="4811" y="3748"/>
                  </a:lnTo>
                  <a:lnTo>
                    <a:pt x="4731" y="3020"/>
                  </a:lnTo>
                  <a:lnTo>
                    <a:pt x="4449" y="2496"/>
                  </a:lnTo>
                  <a:lnTo>
                    <a:pt x="4167" y="1733"/>
                  </a:lnTo>
                  <a:lnTo>
                    <a:pt x="4648" y="1168"/>
                  </a:lnTo>
                  <a:lnTo>
                    <a:pt x="5014" y="198"/>
                  </a:lnTo>
                  <a:lnTo>
                    <a:pt x="5508" y="0"/>
                  </a:lnTo>
                  <a:lnTo>
                    <a:pt x="5900" y="604"/>
                  </a:lnTo>
                  <a:lnTo>
                    <a:pt x="6465" y="1287"/>
                  </a:lnTo>
                  <a:lnTo>
                    <a:pt x="6623" y="1812"/>
                  </a:lnTo>
                  <a:lnTo>
                    <a:pt x="6504" y="2416"/>
                  </a:lnTo>
                  <a:lnTo>
                    <a:pt x="5940" y="3386"/>
                  </a:lnTo>
                  <a:lnTo>
                    <a:pt x="6910" y="2778"/>
                  </a:lnTo>
                  <a:lnTo>
                    <a:pt x="7439" y="2037"/>
                  </a:lnTo>
                  <a:lnTo>
                    <a:pt x="7915" y="1609"/>
                  </a:lnTo>
                  <a:lnTo>
                    <a:pt x="8555" y="1054"/>
                  </a:lnTo>
                  <a:lnTo>
                    <a:pt x="9900" y="661"/>
                  </a:lnTo>
                  <a:lnTo>
                    <a:pt x="11015" y="608"/>
                  </a:lnTo>
                  <a:lnTo>
                    <a:pt x="11544" y="793"/>
                  </a:lnTo>
                  <a:lnTo>
                    <a:pt x="12413" y="608"/>
                  </a:lnTo>
                  <a:lnTo>
                    <a:pt x="13449" y="661"/>
                  </a:lnTo>
                  <a:lnTo>
                    <a:pt x="14005" y="740"/>
                  </a:lnTo>
                  <a:lnTo>
                    <a:pt x="13846" y="926"/>
                  </a:lnTo>
                  <a:lnTo>
                    <a:pt x="13740" y="846"/>
                  </a:lnTo>
                  <a:lnTo>
                    <a:pt x="13184" y="926"/>
                  </a:lnTo>
                  <a:lnTo>
                    <a:pt x="12814" y="1159"/>
                  </a:lnTo>
                  <a:lnTo>
                    <a:pt x="12496" y="1662"/>
                  </a:lnTo>
                  <a:lnTo>
                    <a:pt x="12205" y="2354"/>
                  </a:lnTo>
                  <a:lnTo>
                    <a:pt x="11914" y="2857"/>
                  </a:lnTo>
                  <a:lnTo>
                    <a:pt x="12073" y="3201"/>
                  </a:lnTo>
                  <a:lnTo>
                    <a:pt x="11385" y="3651"/>
                  </a:lnTo>
                  <a:lnTo>
                    <a:pt x="10776" y="4026"/>
                  </a:lnTo>
                  <a:lnTo>
                    <a:pt x="9851" y="4449"/>
                  </a:lnTo>
                  <a:lnTo>
                    <a:pt x="9243" y="4687"/>
                  </a:lnTo>
                  <a:lnTo>
                    <a:pt x="8656" y="4740"/>
                  </a:lnTo>
                  <a:lnTo>
                    <a:pt x="8974" y="4926"/>
                  </a:lnTo>
                  <a:lnTo>
                    <a:pt x="9953" y="4899"/>
                  </a:lnTo>
                  <a:lnTo>
                    <a:pt x="11222" y="5005"/>
                  </a:lnTo>
                  <a:lnTo>
                    <a:pt x="11464" y="5322"/>
                  </a:lnTo>
                  <a:lnTo>
                    <a:pt x="12020" y="5746"/>
                  </a:lnTo>
                  <a:lnTo>
                    <a:pt x="12761" y="6354"/>
                  </a:lnTo>
                  <a:lnTo>
                    <a:pt x="13158" y="6487"/>
                  </a:lnTo>
                  <a:lnTo>
                    <a:pt x="13766" y="6857"/>
                  </a:lnTo>
                  <a:lnTo>
                    <a:pt x="14057" y="6804"/>
                  </a:lnTo>
                  <a:lnTo>
                    <a:pt x="13370" y="6989"/>
                  </a:lnTo>
                  <a:lnTo>
                    <a:pt x="13343" y="6989"/>
                  </a:lnTo>
                  <a:lnTo>
                    <a:pt x="13264" y="7016"/>
                  </a:lnTo>
                  <a:lnTo>
                    <a:pt x="13158" y="7016"/>
                  </a:lnTo>
                  <a:lnTo>
                    <a:pt x="13052" y="7042"/>
                  </a:lnTo>
                  <a:lnTo>
                    <a:pt x="12814" y="7069"/>
                  </a:lnTo>
                  <a:lnTo>
                    <a:pt x="12708" y="7095"/>
                  </a:lnTo>
                  <a:lnTo>
                    <a:pt x="12629" y="7095"/>
                  </a:lnTo>
                  <a:lnTo>
                    <a:pt x="12549" y="7095"/>
                  </a:lnTo>
                  <a:lnTo>
                    <a:pt x="12470" y="7095"/>
                  </a:lnTo>
                  <a:lnTo>
                    <a:pt x="12232" y="7122"/>
                  </a:lnTo>
                  <a:lnTo>
                    <a:pt x="12126" y="7122"/>
                  </a:lnTo>
                  <a:lnTo>
                    <a:pt x="12020" y="7148"/>
                  </a:lnTo>
                  <a:lnTo>
                    <a:pt x="11967" y="7148"/>
                  </a:lnTo>
                  <a:lnTo>
                    <a:pt x="11941" y="7148"/>
                  </a:lnTo>
                  <a:lnTo>
                    <a:pt x="11491" y="7307"/>
                  </a:lnTo>
                  <a:lnTo>
                    <a:pt x="11438" y="7307"/>
                  </a:lnTo>
                  <a:lnTo>
                    <a:pt x="11328" y="7307"/>
                  </a:lnTo>
                  <a:lnTo>
                    <a:pt x="11169" y="7333"/>
                  </a:lnTo>
                  <a:lnTo>
                    <a:pt x="10962" y="7360"/>
                  </a:lnTo>
                  <a:lnTo>
                    <a:pt x="10776" y="7386"/>
                  </a:lnTo>
                  <a:lnTo>
                    <a:pt x="10618" y="7413"/>
                  </a:lnTo>
                  <a:lnTo>
                    <a:pt x="10485" y="7439"/>
                  </a:lnTo>
                  <a:lnTo>
                    <a:pt x="10434" y="7492"/>
                  </a:lnTo>
                  <a:lnTo>
                    <a:pt x="10407" y="7519"/>
                  </a:lnTo>
                  <a:lnTo>
                    <a:pt x="10328" y="7519"/>
                  </a:lnTo>
                  <a:lnTo>
                    <a:pt x="10164" y="7439"/>
                  </a:lnTo>
                  <a:lnTo>
                    <a:pt x="10032" y="7360"/>
                  </a:lnTo>
                  <a:lnTo>
                    <a:pt x="9979" y="7333"/>
                  </a:lnTo>
                  <a:lnTo>
                    <a:pt x="9953" y="7307"/>
                  </a:lnTo>
                  <a:lnTo>
                    <a:pt x="8894" y="6989"/>
                  </a:lnTo>
                  <a:lnTo>
                    <a:pt x="8131" y="6566"/>
                  </a:lnTo>
                  <a:lnTo>
                    <a:pt x="7545" y="6407"/>
                  </a:lnTo>
                  <a:lnTo>
                    <a:pt x="8184" y="7466"/>
                  </a:lnTo>
                  <a:lnTo>
                    <a:pt x="8290" y="8132"/>
                  </a:lnTo>
                  <a:lnTo>
                    <a:pt x="8184" y="8792"/>
                  </a:lnTo>
                  <a:lnTo>
                    <a:pt x="7810" y="8476"/>
                  </a:lnTo>
                  <a:lnTo>
                    <a:pt x="7126" y="7916"/>
                  </a:lnTo>
                  <a:lnTo>
                    <a:pt x="6751" y="7730"/>
                  </a:lnTo>
                  <a:lnTo>
                    <a:pt x="6539" y="7201"/>
                  </a:lnTo>
                  <a:lnTo>
                    <a:pt x="6222" y="6513"/>
                  </a:lnTo>
                  <a:lnTo>
                    <a:pt x="5988" y="6090"/>
                  </a:lnTo>
                  <a:lnTo>
                    <a:pt x="5375" y="5693"/>
                  </a:lnTo>
                  <a:lnTo>
                    <a:pt x="5058" y="5640"/>
                  </a:lnTo>
                  <a:lnTo>
                    <a:pt x="560" y="8845"/>
                  </a:lnTo>
                  <a:lnTo>
                    <a:pt x="0" y="8925"/>
                  </a:lnTo>
                  <a:lnTo>
                    <a:pt x="3814" y="6302"/>
                  </a:lnTo>
                  <a:lnTo>
                    <a:pt x="3814" y="6302"/>
                  </a:lnTo>
                  <a:lnTo>
                    <a:pt x="3814" y="6302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000" y="464760"/>
              <a:ext cx="3402360" cy="2835360"/>
            </a:xfrm>
            <a:custGeom>
              <a:avLst/>
              <a:gdLst/>
              <a:ahLst/>
              <a:rect l="l" t="t" r="r" b="b"/>
              <a:pathLst>
                <a:path w="9455" h="7881">
                  <a:moveTo>
                    <a:pt x="1402" y="4754"/>
                  </a:moveTo>
                  <a:lnTo>
                    <a:pt x="956" y="4092"/>
                  </a:lnTo>
                  <a:lnTo>
                    <a:pt x="449" y="3563"/>
                  </a:lnTo>
                  <a:lnTo>
                    <a:pt x="158" y="3272"/>
                  </a:lnTo>
                  <a:lnTo>
                    <a:pt x="0" y="3087"/>
                  </a:lnTo>
                  <a:lnTo>
                    <a:pt x="1190" y="4224"/>
                  </a:lnTo>
                  <a:lnTo>
                    <a:pt x="1296" y="4436"/>
                  </a:lnTo>
                  <a:lnTo>
                    <a:pt x="1618" y="2954"/>
                  </a:lnTo>
                  <a:lnTo>
                    <a:pt x="1671" y="1812"/>
                  </a:lnTo>
                  <a:lnTo>
                    <a:pt x="1530" y="520"/>
                  </a:lnTo>
                  <a:lnTo>
                    <a:pt x="1733" y="0"/>
                  </a:lnTo>
                  <a:lnTo>
                    <a:pt x="1750" y="1574"/>
                  </a:lnTo>
                  <a:lnTo>
                    <a:pt x="1856" y="2685"/>
                  </a:lnTo>
                  <a:lnTo>
                    <a:pt x="1697" y="3642"/>
                  </a:lnTo>
                  <a:lnTo>
                    <a:pt x="1697" y="4568"/>
                  </a:lnTo>
                  <a:lnTo>
                    <a:pt x="3867" y="3457"/>
                  </a:lnTo>
                  <a:lnTo>
                    <a:pt x="5772" y="2447"/>
                  </a:lnTo>
                  <a:lnTo>
                    <a:pt x="7945" y="1098"/>
                  </a:lnTo>
                  <a:lnTo>
                    <a:pt x="9242" y="304"/>
                  </a:lnTo>
                  <a:lnTo>
                    <a:pt x="7998" y="1230"/>
                  </a:lnTo>
                  <a:lnTo>
                    <a:pt x="6407" y="2209"/>
                  </a:lnTo>
                  <a:lnTo>
                    <a:pt x="4952" y="3087"/>
                  </a:lnTo>
                  <a:lnTo>
                    <a:pt x="3258" y="3960"/>
                  </a:lnTo>
                  <a:lnTo>
                    <a:pt x="2041" y="4780"/>
                  </a:lnTo>
                  <a:lnTo>
                    <a:pt x="3602" y="5261"/>
                  </a:lnTo>
                  <a:lnTo>
                    <a:pt x="5666" y="5234"/>
                  </a:lnTo>
                  <a:lnTo>
                    <a:pt x="8448" y="6156"/>
                  </a:lnTo>
                  <a:lnTo>
                    <a:pt x="9454" y="6262"/>
                  </a:lnTo>
                  <a:lnTo>
                    <a:pt x="7998" y="6209"/>
                  </a:lnTo>
                  <a:lnTo>
                    <a:pt x="6328" y="5680"/>
                  </a:lnTo>
                  <a:lnTo>
                    <a:pt x="5375" y="5420"/>
                  </a:lnTo>
                  <a:lnTo>
                    <a:pt x="3523" y="5393"/>
                  </a:lnTo>
                  <a:lnTo>
                    <a:pt x="2227" y="5049"/>
                  </a:lnTo>
                  <a:lnTo>
                    <a:pt x="3232" y="6077"/>
                  </a:lnTo>
                  <a:lnTo>
                    <a:pt x="3867" y="7140"/>
                  </a:lnTo>
                  <a:lnTo>
                    <a:pt x="4449" y="7880"/>
                  </a:lnTo>
                  <a:lnTo>
                    <a:pt x="3602" y="7087"/>
                  </a:lnTo>
                  <a:lnTo>
                    <a:pt x="2967" y="6050"/>
                  </a:lnTo>
                  <a:lnTo>
                    <a:pt x="1830" y="4890"/>
                  </a:lnTo>
                  <a:lnTo>
                    <a:pt x="1402" y="4754"/>
                  </a:lnTo>
                  <a:lnTo>
                    <a:pt x="1402" y="4754"/>
                  </a:lnTo>
                  <a:lnTo>
                    <a:pt x="1402" y="4754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2640" y="2741760"/>
              <a:ext cx="4489560" cy="3754080"/>
            </a:xfrm>
            <a:custGeom>
              <a:avLst/>
              <a:gdLst/>
              <a:ahLst/>
              <a:rect l="l" t="t" r="r" b="b"/>
              <a:pathLst>
                <a:path w="12473" h="10434">
                  <a:moveTo>
                    <a:pt x="8846" y="3681"/>
                  </a:moveTo>
                  <a:lnTo>
                    <a:pt x="8260" y="3152"/>
                  </a:lnTo>
                  <a:lnTo>
                    <a:pt x="8000" y="2671"/>
                  </a:lnTo>
                  <a:lnTo>
                    <a:pt x="7704" y="1931"/>
                  </a:lnTo>
                  <a:lnTo>
                    <a:pt x="7492" y="1375"/>
                  </a:lnTo>
                  <a:lnTo>
                    <a:pt x="7122" y="1111"/>
                  </a:lnTo>
                  <a:lnTo>
                    <a:pt x="6407" y="370"/>
                  </a:lnTo>
                  <a:lnTo>
                    <a:pt x="6064" y="0"/>
                  </a:lnTo>
                  <a:lnTo>
                    <a:pt x="5931" y="582"/>
                  </a:lnTo>
                  <a:lnTo>
                    <a:pt x="6037" y="1296"/>
                  </a:lnTo>
                  <a:lnTo>
                    <a:pt x="6672" y="2459"/>
                  </a:lnTo>
                  <a:lnTo>
                    <a:pt x="6090" y="2168"/>
                  </a:lnTo>
                  <a:lnTo>
                    <a:pt x="5296" y="1587"/>
                  </a:lnTo>
                  <a:lnTo>
                    <a:pt x="4238" y="1001"/>
                  </a:lnTo>
                  <a:lnTo>
                    <a:pt x="4211" y="974"/>
                  </a:lnTo>
                  <a:lnTo>
                    <a:pt x="4185" y="948"/>
                  </a:lnTo>
                  <a:lnTo>
                    <a:pt x="4026" y="815"/>
                  </a:lnTo>
                  <a:lnTo>
                    <a:pt x="3867" y="710"/>
                  </a:lnTo>
                  <a:lnTo>
                    <a:pt x="3788" y="687"/>
                  </a:lnTo>
                  <a:lnTo>
                    <a:pt x="3761" y="710"/>
                  </a:lnTo>
                  <a:lnTo>
                    <a:pt x="3708" y="736"/>
                  </a:lnTo>
                  <a:lnTo>
                    <a:pt x="3572" y="762"/>
                  </a:lnTo>
                  <a:lnTo>
                    <a:pt x="3387" y="736"/>
                  </a:lnTo>
                  <a:lnTo>
                    <a:pt x="3175" y="710"/>
                  </a:lnTo>
                  <a:lnTo>
                    <a:pt x="2990" y="687"/>
                  </a:lnTo>
                  <a:lnTo>
                    <a:pt x="2809" y="661"/>
                  </a:lnTo>
                  <a:lnTo>
                    <a:pt x="2703" y="635"/>
                  </a:lnTo>
                  <a:lnTo>
                    <a:pt x="2650" y="635"/>
                  </a:lnTo>
                  <a:lnTo>
                    <a:pt x="2196" y="710"/>
                  </a:lnTo>
                  <a:lnTo>
                    <a:pt x="2169" y="710"/>
                  </a:lnTo>
                  <a:lnTo>
                    <a:pt x="2116" y="687"/>
                  </a:lnTo>
                  <a:lnTo>
                    <a:pt x="2011" y="687"/>
                  </a:lnTo>
                  <a:lnTo>
                    <a:pt x="1905" y="661"/>
                  </a:lnTo>
                  <a:lnTo>
                    <a:pt x="1671" y="635"/>
                  </a:lnTo>
                  <a:lnTo>
                    <a:pt x="1592" y="608"/>
                  </a:lnTo>
                  <a:lnTo>
                    <a:pt x="1508" y="608"/>
                  </a:lnTo>
                  <a:lnTo>
                    <a:pt x="1428" y="608"/>
                  </a:lnTo>
                  <a:lnTo>
                    <a:pt x="1323" y="582"/>
                  </a:lnTo>
                  <a:lnTo>
                    <a:pt x="1084" y="555"/>
                  </a:lnTo>
                  <a:lnTo>
                    <a:pt x="952" y="529"/>
                  </a:lnTo>
                  <a:lnTo>
                    <a:pt x="846" y="529"/>
                  </a:lnTo>
                  <a:lnTo>
                    <a:pt x="767" y="502"/>
                  </a:lnTo>
                  <a:lnTo>
                    <a:pt x="740" y="502"/>
                  </a:lnTo>
                  <a:lnTo>
                    <a:pt x="26" y="529"/>
                  </a:lnTo>
                  <a:lnTo>
                    <a:pt x="952" y="1058"/>
                  </a:lnTo>
                  <a:lnTo>
                    <a:pt x="1349" y="1296"/>
                  </a:lnTo>
                  <a:lnTo>
                    <a:pt x="2116" y="2036"/>
                  </a:lnTo>
                  <a:lnTo>
                    <a:pt x="2676" y="2592"/>
                  </a:lnTo>
                  <a:lnTo>
                    <a:pt x="2888" y="2962"/>
                  </a:lnTo>
                  <a:lnTo>
                    <a:pt x="4185" y="3390"/>
                  </a:lnTo>
                  <a:lnTo>
                    <a:pt x="5190" y="3601"/>
                  </a:lnTo>
                  <a:lnTo>
                    <a:pt x="5508" y="3840"/>
                  </a:lnTo>
                  <a:lnTo>
                    <a:pt x="4926" y="3760"/>
                  </a:lnTo>
                  <a:lnTo>
                    <a:pt x="4286" y="3840"/>
                  </a:lnTo>
                  <a:lnTo>
                    <a:pt x="3334" y="4051"/>
                  </a:lnTo>
                  <a:lnTo>
                    <a:pt x="2729" y="4236"/>
                  </a:lnTo>
                  <a:lnTo>
                    <a:pt x="2169" y="4898"/>
                  </a:lnTo>
                  <a:lnTo>
                    <a:pt x="1852" y="5352"/>
                  </a:lnTo>
                  <a:lnTo>
                    <a:pt x="1534" y="5930"/>
                  </a:lnTo>
                  <a:lnTo>
                    <a:pt x="1217" y="6353"/>
                  </a:lnTo>
                  <a:lnTo>
                    <a:pt x="846" y="6486"/>
                  </a:lnTo>
                  <a:lnTo>
                    <a:pt x="291" y="6459"/>
                  </a:lnTo>
                  <a:lnTo>
                    <a:pt x="185" y="6353"/>
                  </a:lnTo>
                  <a:lnTo>
                    <a:pt x="0" y="6486"/>
                  </a:lnTo>
                  <a:lnTo>
                    <a:pt x="555" y="6697"/>
                  </a:lnTo>
                  <a:lnTo>
                    <a:pt x="1618" y="6988"/>
                  </a:lnTo>
                  <a:lnTo>
                    <a:pt x="2513" y="7015"/>
                  </a:lnTo>
                  <a:lnTo>
                    <a:pt x="3043" y="7337"/>
                  </a:lnTo>
                  <a:lnTo>
                    <a:pt x="4185" y="7548"/>
                  </a:lnTo>
                  <a:lnTo>
                    <a:pt x="5556" y="7469"/>
                  </a:lnTo>
                  <a:lnTo>
                    <a:pt x="6222" y="7068"/>
                  </a:lnTo>
                  <a:lnTo>
                    <a:pt x="6699" y="6777"/>
                  </a:lnTo>
                  <a:lnTo>
                    <a:pt x="7254" y="6168"/>
                  </a:lnTo>
                  <a:lnTo>
                    <a:pt x="7492" y="6115"/>
                  </a:lnTo>
                  <a:lnTo>
                    <a:pt x="7651" y="6671"/>
                  </a:lnTo>
                  <a:lnTo>
                    <a:pt x="7625" y="6909"/>
                  </a:lnTo>
                  <a:lnTo>
                    <a:pt x="7598" y="7363"/>
                  </a:lnTo>
                  <a:lnTo>
                    <a:pt x="7598" y="7945"/>
                  </a:lnTo>
                  <a:lnTo>
                    <a:pt x="8075" y="8660"/>
                  </a:lnTo>
                  <a:lnTo>
                    <a:pt x="8630" y="9215"/>
                  </a:lnTo>
                  <a:lnTo>
                    <a:pt x="9005" y="9828"/>
                  </a:lnTo>
                  <a:lnTo>
                    <a:pt x="9503" y="10433"/>
                  </a:lnTo>
                  <a:lnTo>
                    <a:pt x="9530" y="10119"/>
                  </a:lnTo>
                  <a:lnTo>
                    <a:pt x="9662" y="9405"/>
                  </a:lnTo>
                  <a:lnTo>
                    <a:pt x="9768" y="9030"/>
                  </a:lnTo>
                  <a:lnTo>
                    <a:pt x="9958" y="9004"/>
                  </a:lnTo>
                  <a:lnTo>
                    <a:pt x="10011" y="8686"/>
                  </a:lnTo>
                  <a:lnTo>
                    <a:pt x="10328" y="8236"/>
                  </a:lnTo>
                  <a:lnTo>
                    <a:pt x="10249" y="7707"/>
                  </a:lnTo>
                  <a:lnTo>
                    <a:pt x="9847" y="6935"/>
                  </a:lnTo>
                  <a:lnTo>
                    <a:pt x="9742" y="6406"/>
                  </a:lnTo>
                  <a:lnTo>
                    <a:pt x="9742" y="5930"/>
                  </a:lnTo>
                  <a:lnTo>
                    <a:pt x="10116" y="6538"/>
                  </a:lnTo>
                  <a:lnTo>
                    <a:pt x="10853" y="7279"/>
                  </a:lnTo>
                  <a:lnTo>
                    <a:pt x="11043" y="7279"/>
                  </a:lnTo>
                  <a:lnTo>
                    <a:pt x="11413" y="7443"/>
                  </a:lnTo>
                  <a:lnTo>
                    <a:pt x="11810" y="7575"/>
                  </a:lnTo>
                  <a:lnTo>
                    <a:pt x="11995" y="7548"/>
                  </a:lnTo>
                  <a:lnTo>
                    <a:pt x="11885" y="7416"/>
                  </a:lnTo>
                  <a:lnTo>
                    <a:pt x="11810" y="7174"/>
                  </a:lnTo>
                  <a:lnTo>
                    <a:pt x="11598" y="7041"/>
                  </a:lnTo>
                  <a:lnTo>
                    <a:pt x="11413" y="6803"/>
                  </a:lnTo>
                  <a:lnTo>
                    <a:pt x="11545" y="6538"/>
                  </a:lnTo>
                  <a:lnTo>
                    <a:pt x="11360" y="6168"/>
                  </a:lnTo>
                  <a:lnTo>
                    <a:pt x="11069" y="5983"/>
                  </a:lnTo>
                  <a:lnTo>
                    <a:pt x="11360" y="5956"/>
                  </a:lnTo>
                  <a:lnTo>
                    <a:pt x="11254" y="5798"/>
                  </a:lnTo>
                  <a:lnTo>
                    <a:pt x="10381" y="5220"/>
                  </a:lnTo>
                  <a:lnTo>
                    <a:pt x="9931" y="4951"/>
                  </a:lnTo>
                  <a:lnTo>
                    <a:pt x="9583" y="4448"/>
                  </a:lnTo>
                  <a:lnTo>
                    <a:pt x="9270" y="4104"/>
                  </a:lnTo>
                  <a:lnTo>
                    <a:pt x="9296" y="4104"/>
                  </a:lnTo>
                  <a:lnTo>
                    <a:pt x="9323" y="4078"/>
                  </a:lnTo>
                  <a:lnTo>
                    <a:pt x="9424" y="3998"/>
                  </a:lnTo>
                  <a:lnTo>
                    <a:pt x="9556" y="3893"/>
                  </a:lnTo>
                  <a:lnTo>
                    <a:pt x="9689" y="3866"/>
                  </a:lnTo>
                  <a:lnTo>
                    <a:pt x="9768" y="3840"/>
                  </a:lnTo>
                  <a:lnTo>
                    <a:pt x="9878" y="3787"/>
                  </a:lnTo>
                  <a:lnTo>
                    <a:pt x="10143" y="3654"/>
                  </a:lnTo>
                  <a:lnTo>
                    <a:pt x="10249" y="3601"/>
                  </a:lnTo>
                  <a:lnTo>
                    <a:pt x="10355" y="3522"/>
                  </a:lnTo>
                  <a:lnTo>
                    <a:pt x="10434" y="3496"/>
                  </a:lnTo>
                  <a:lnTo>
                    <a:pt x="10460" y="3469"/>
                  </a:lnTo>
                  <a:lnTo>
                    <a:pt x="12472" y="2592"/>
                  </a:lnTo>
                  <a:lnTo>
                    <a:pt x="12472" y="2327"/>
                  </a:lnTo>
                  <a:lnTo>
                    <a:pt x="9164" y="3813"/>
                  </a:lnTo>
                  <a:lnTo>
                    <a:pt x="8846" y="3681"/>
                  </a:lnTo>
                  <a:lnTo>
                    <a:pt x="8846" y="3681"/>
                  </a:lnTo>
                  <a:lnTo>
                    <a:pt x="8846" y="3681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4800" y="2951280"/>
              <a:ext cx="3430800" cy="3068640"/>
            </a:xfrm>
            <a:custGeom>
              <a:avLst/>
              <a:gdLst/>
              <a:ahLst/>
              <a:rect l="l" t="t" r="r" b="b"/>
              <a:pathLst>
                <a:path w="9536" h="8529">
                  <a:moveTo>
                    <a:pt x="8157" y="3759"/>
                  </a:moveTo>
                  <a:lnTo>
                    <a:pt x="8578" y="4502"/>
                  </a:lnTo>
                  <a:lnTo>
                    <a:pt x="9083" y="5160"/>
                  </a:lnTo>
                  <a:lnTo>
                    <a:pt x="9375" y="5505"/>
                  </a:lnTo>
                  <a:lnTo>
                    <a:pt x="9535" y="5717"/>
                  </a:lnTo>
                  <a:lnTo>
                    <a:pt x="8365" y="4316"/>
                  </a:lnTo>
                  <a:lnTo>
                    <a:pt x="8237" y="4104"/>
                  </a:lnTo>
                  <a:lnTo>
                    <a:pt x="7891" y="5478"/>
                  </a:lnTo>
                  <a:lnTo>
                    <a:pt x="7838" y="6565"/>
                  </a:lnTo>
                  <a:lnTo>
                    <a:pt x="8051" y="8421"/>
                  </a:lnTo>
                  <a:lnTo>
                    <a:pt x="7918" y="8528"/>
                  </a:lnTo>
                  <a:lnTo>
                    <a:pt x="7732" y="6778"/>
                  </a:lnTo>
                  <a:lnTo>
                    <a:pt x="7652" y="5690"/>
                  </a:lnTo>
                  <a:lnTo>
                    <a:pt x="7812" y="4793"/>
                  </a:lnTo>
                  <a:lnTo>
                    <a:pt x="7838" y="3865"/>
                  </a:lnTo>
                  <a:lnTo>
                    <a:pt x="5615" y="4449"/>
                  </a:lnTo>
                  <a:lnTo>
                    <a:pt x="3653" y="5001"/>
                  </a:lnTo>
                  <a:lnTo>
                    <a:pt x="1430" y="5796"/>
                  </a:lnTo>
                  <a:lnTo>
                    <a:pt x="79" y="6274"/>
                  </a:lnTo>
                  <a:lnTo>
                    <a:pt x="1377" y="5664"/>
                  </a:lnTo>
                  <a:lnTo>
                    <a:pt x="3020" y="5054"/>
                  </a:lnTo>
                  <a:lnTo>
                    <a:pt x="4526" y="4581"/>
                  </a:lnTo>
                  <a:lnTo>
                    <a:pt x="6248" y="4104"/>
                  </a:lnTo>
                  <a:lnTo>
                    <a:pt x="7493" y="3600"/>
                  </a:lnTo>
                  <a:lnTo>
                    <a:pt x="5903" y="2752"/>
                  </a:lnTo>
                  <a:lnTo>
                    <a:pt x="3813" y="2274"/>
                  </a:lnTo>
                  <a:lnTo>
                    <a:pt x="1005" y="711"/>
                  </a:lnTo>
                  <a:lnTo>
                    <a:pt x="0" y="366"/>
                  </a:lnTo>
                  <a:lnTo>
                    <a:pt x="1457" y="791"/>
                  </a:lnTo>
                  <a:lnTo>
                    <a:pt x="3153" y="1691"/>
                  </a:lnTo>
                  <a:lnTo>
                    <a:pt x="4131" y="2168"/>
                  </a:lnTo>
                  <a:lnTo>
                    <a:pt x="5983" y="2619"/>
                  </a:lnTo>
                  <a:lnTo>
                    <a:pt x="7307" y="3282"/>
                  </a:lnTo>
                  <a:lnTo>
                    <a:pt x="6302" y="2036"/>
                  </a:lnTo>
                  <a:lnTo>
                    <a:pt x="5695" y="844"/>
                  </a:lnTo>
                  <a:lnTo>
                    <a:pt x="5110" y="0"/>
                  </a:lnTo>
                  <a:lnTo>
                    <a:pt x="5930" y="950"/>
                  </a:lnTo>
                  <a:lnTo>
                    <a:pt x="6594" y="2142"/>
                  </a:lnTo>
                  <a:lnTo>
                    <a:pt x="7732" y="3547"/>
                  </a:lnTo>
                  <a:lnTo>
                    <a:pt x="8157" y="3759"/>
                  </a:lnTo>
                  <a:lnTo>
                    <a:pt x="8157" y="3759"/>
                  </a:lnTo>
                  <a:lnTo>
                    <a:pt x="8157" y="3759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2200" cy="6932160"/>
            <a:chOff x="0" y="0"/>
            <a:chExt cx="9142200" cy="6932160"/>
          </a:xfrm>
        </p:grpSpPr>
        <p:sp>
          <p:nvSpPr>
            <p:cNvPr id="58" name=""/>
            <p:cNvSpPr/>
            <p:nvPr/>
          </p:nvSpPr>
          <p:spPr>
            <a:xfrm>
              <a:off x="0" y="3503520"/>
              <a:ext cx="3990960" cy="3125520"/>
            </a:xfrm>
            <a:custGeom>
              <a:avLst/>
              <a:gdLst/>
              <a:ahLst/>
              <a:rect l="l" t="t" r="r" b="b"/>
              <a:pathLst>
                <a:path w="11092" h="8689">
                  <a:moveTo>
                    <a:pt x="2751" y="7841"/>
                  </a:moveTo>
                  <a:lnTo>
                    <a:pt x="3280" y="7360"/>
                  </a:lnTo>
                  <a:lnTo>
                    <a:pt x="3677" y="7175"/>
                  </a:lnTo>
                  <a:lnTo>
                    <a:pt x="3757" y="6174"/>
                  </a:lnTo>
                  <a:lnTo>
                    <a:pt x="3677" y="5402"/>
                  </a:lnTo>
                  <a:lnTo>
                    <a:pt x="3863" y="5164"/>
                  </a:lnTo>
                  <a:lnTo>
                    <a:pt x="3973" y="5592"/>
                  </a:lnTo>
                  <a:lnTo>
                    <a:pt x="4317" y="6041"/>
                  </a:lnTo>
                  <a:lnTo>
                    <a:pt x="4921" y="6699"/>
                  </a:lnTo>
                  <a:lnTo>
                    <a:pt x="5428" y="7148"/>
                  </a:lnTo>
                  <a:lnTo>
                    <a:pt x="5966" y="7197"/>
                  </a:lnTo>
                  <a:lnTo>
                    <a:pt x="6487" y="7466"/>
                  </a:lnTo>
                  <a:lnTo>
                    <a:pt x="7338" y="7316"/>
                  </a:lnTo>
                  <a:lnTo>
                    <a:pt x="8021" y="7400"/>
                  </a:lnTo>
                  <a:lnTo>
                    <a:pt x="8709" y="7197"/>
                  </a:lnTo>
                  <a:lnTo>
                    <a:pt x="8348" y="6672"/>
                  </a:lnTo>
                  <a:lnTo>
                    <a:pt x="8467" y="6108"/>
                  </a:lnTo>
                  <a:lnTo>
                    <a:pt x="8264" y="5667"/>
                  </a:lnTo>
                  <a:lnTo>
                    <a:pt x="8224" y="4979"/>
                  </a:lnTo>
                  <a:lnTo>
                    <a:pt x="7862" y="4264"/>
                  </a:lnTo>
                  <a:lnTo>
                    <a:pt x="6733" y="3929"/>
                  </a:lnTo>
                  <a:lnTo>
                    <a:pt x="5684" y="3850"/>
                  </a:lnTo>
                  <a:lnTo>
                    <a:pt x="6143" y="3444"/>
                  </a:lnTo>
                  <a:lnTo>
                    <a:pt x="6830" y="3285"/>
                  </a:lnTo>
                  <a:lnTo>
                    <a:pt x="7144" y="3254"/>
                  </a:lnTo>
                  <a:lnTo>
                    <a:pt x="7730" y="3228"/>
                  </a:lnTo>
                  <a:lnTo>
                    <a:pt x="8524" y="3175"/>
                  </a:lnTo>
                  <a:lnTo>
                    <a:pt x="9291" y="2725"/>
                  </a:lnTo>
                  <a:lnTo>
                    <a:pt x="9820" y="2275"/>
                  </a:lnTo>
                  <a:lnTo>
                    <a:pt x="10482" y="1931"/>
                  </a:lnTo>
                  <a:lnTo>
                    <a:pt x="11091" y="1486"/>
                  </a:lnTo>
                  <a:lnTo>
                    <a:pt x="10672" y="1512"/>
                  </a:lnTo>
                  <a:lnTo>
                    <a:pt x="9662" y="1512"/>
                  </a:lnTo>
                  <a:lnTo>
                    <a:pt x="9159" y="1459"/>
                  </a:lnTo>
                  <a:lnTo>
                    <a:pt x="9053" y="1327"/>
                  </a:lnTo>
                  <a:lnTo>
                    <a:pt x="8603" y="1327"/>
                  </a:lnTo>
                  <a:lnTo>
                    <a:pt x="7915" y="1142"/>
                  </a:lnTo>
                  <a:lnTo>
                    <a:pt x="7254" y="1274"/>
                  </a:lnTo>
                  <a:lnTo>
                    <a:pt x="6381" y="1640"/>
                  </a:lnTo>
                  <a:lnTo>
                    <a:pt x="5719" y="1799"/>
                  </a:lnTo>
                  <a:lnTo>
                    <a:pt x="5084" y="1825"/>
                  </a:lnTo>
                  <a:lnTo>
                    <a:pt x="5768" y="1486"/>
                  </a:lnTo>
                  <a:lnTo>
                    <a:pt x="6460" y="873"/>
                  </a:lnTo>
                  <a:lnTo>
                    <a:pt x="6407" y="740"/>
                  </a:lnTo>
                  <a:lnTo>
                    <a:pt x="6460" y="449"/>
                  </a:lnTo>
                  <a:lnTo>
                    <a:pt x="6513" y="158"/>
                  </a:lnTo>
                  <a:lnTo>
                    <a:pt x="6407" y="0"/>
                  </a:lnTo>
                  <a:lnTo>
                    <a:pt x="6248" y="105"/>
                  </a:lnTo>
                  <a:lnTo>
                    <a:pt x="5979" y="185"/>
                  </a:lnTo>
                  <a:lnTo>
                    <a:pt x="5243" y="449"/>
                  </a:lnTo>
                  <a:lnTo>
                    <a:pt x="4842" y="635"/>
                  </a:lnTo>
                  <a:lnTo>
                    <a:pt x="4524" y="635"/>
                  </a:lnTo>
                  <a:lnTo>
                    <a:pt x="4370" y="740"/>
                  </a:lnTo>
                  <a:lnTo>
                    <a:pt x="3920" y="1459"/>
                  </a:lnTo>
                  <a:lnTo>
                    <a:pt x="3757" y="1799"/>
                  </a:lnTo>
                  <a:lnTo>
                    <a:pt x="3201" y="2116"/>
                  </a:lnTo>
                  <a:lnTo>
                    <a:pt x="2862" y="2381"/>
                  </a:lnTo>
                  <a:lnTo>
                    <a:pt x="2835" y="2381"/>
                  </a:lnTo>
                  <a:lnTo>
                    <a:pt x="2809" y="2355"/>
                  </a:lnTo>
                  <a:lnTo>
                    <a:pt x="2645" y="2275"/>
                  </a:lnTo>
                  <a:lnTo>
                    <a:pt x="2487" y="2169"/>
                  </a:lnTo>
                  <a:lnTo>
                    <a:pt x="2434" y="2143"/>
                  </a:lnTo>
                  <a:lnTo>
                    <a:pt x="2381" y="2090"/>
                  </a:lnTo>
                  <a:lnTo>
                    <a:pt x="2328" y="2037"/>
                  </a:lnTo>
                  <a:lnTo>
                    <a:pt x="2222" y="1958"/>
                  </a:lnTo>
                  <a:lnTo>
                    <a:pt x="2090" y="1878"/>
                  </a:lnTo>
                  <a:lnTo>
                    <a:pt x="1958" y="1799"/>
                  </a:lnTo>
                  <a:lnTo>
                    <a:pt x="1830" y="1719"/>
                  </a:lnTo>
                  <a:lnTo>
                    <a:pt x="1697" y="1640"/>
                  </a:lnTo>
                  <a:lnTo>
                    <a:pt x="1614" y="1614"/>
                  </a:lnTo>
                  <a:lnTo>
                    <a:pt x="1587" y="1587"/>
                  </a:lnTo>
                  <a:lnTo>
                    <a:pt x="846" y="1031"/>
                  </a:lnTo>
                  <a:lnTo>
                    <a:pt x="926" y="1353"/>
                  </a:lnTo>
                  <a:lnTo>
                    <a:pt x="2513" y="2487"/>
                  </a:lnTo>
                  <a:lnTo>
                    <a:pt x="2460" y="2725"/>
                  </a:lnTo>
                  <a:lnTo>
                    <a:pt x="1958" y="3228"/>
                  </a:lnTo>
                  <a:lnTo>
                    <a:pt x="1428" y="3470"/>
                  </a:lnTo>
                  <a:lnTo>
                    <a:pt x="1402" y="3470"/>
                  </a:lnTo>
                  <a:lnTo>
                    <a:pt x="1137" y="3576"/>
                  </a:lnTo>
                  <a:lnTo>
                    <a:pt x="560" y="3761"/>
                  </a:lnTo>
                  <a:lnTo>
                    <a:pt x="0" y="3973"/>
                  </a:lnTo>
                  <a:lnTo>
                    <a:pt x="0" y="5137"/>
                  </a:lnTo>
                  <a:lnTo>
                    <a:pt x="343" y="5058"/>
                  </a:lnTo>
                  <a:lnTo>
                    <a:pt x="1640" y="4476"/>
                  </a:lnTo>
                  <a:lnTo>
                    <a:pt x="1481" y="4926"/>
                  </a:lnTo>
                  <a:lnTo>
                    <a:pt x="979" y="5565"/>
                  </a:lnTo>
                  <a:lnTo>
                    <a:pt x="639" y="6407"/>
                  </a:lnTo>
                  <a:lnTo>
                    <a:pt x="612" y="6434"/>
                  </a:lnTo>
                  <a:lnTo>
                    <a:pt x="586" y="6460"/>
                  </a:lnTo>
                  <a:lnTo>
                    <a:pt x="449" y="6593"/>
                  </a:lnTo>
                  <a:lnTo>
                    <a:pt x="396" y="6646"/>
                  </a:lnTo>
                  <a:lnTo>
                    <a:pt x="370" y="6699"/>
                  </a:lnTo>
                  <a:lnTo>
                    <a:pt x="370" y="6751"/>
                  </a:lnTo>
                  <a:lnTo>
                    <a:pt x="423" y="6778"/>
                  </a:lnTo>
                  <a:lnTo>
                    <a:pt x="502" y="6831"/>
                  </a:lnTo>
                  <a:lnTo>
                    <a:pt x="560" y="6910"/>
                  </a:lnTo>
                  <a:lnTo>
                    <a:pt x="612" y="7043"/>
                  </a:lnTo>
                  <a:lnTo>
                    <a:pt x="639" y="7201"/>
                  </a:lnTo>
                  <a:lnTo>
                    <a:pt x="661" y="7334"/>
                  </a:lnTo>
                  <a:lnTo>
                    <a:pt x="687" y="7466"/>
                  </a:lnTo>
                  <a:lnTo>
                    <a:pt x="714" y="7572"/>
                  </a:lnTo>
                  <a:lnTo>
                    <a:pt x="714" y="7598"/>
                  </a:lnTo>
                  <a:lnTo>
                    <a:pt x="952" y="7920"/>
                  </a:lnTo>
                  <a:lnTo>
                    <a:pt x="952" y="7947"/>
                  </a:lnTo>
                  <a:lnTo>
                    <a:pt x="979" y="8000"/>
                  </a:lnTo>
                  <a:lnTo>
                    <a:pt x="1005" y="8158"/>
                  </a:lnTo>
                  <a:lnTo>
                    <a:pt x="1031" y="8317"/>
                  </a:lnTo>
                  <a:lnTo>
                    <a:pt x="1058" y="8396"/>
                  </a:lnTo>
                  <a:lnTo>
                    <a:pt x="1058" y="8449"/>
                  </a:lnTo>
                  <a:lnTo>
                    <a:pt x="1084" y="8476"/>
                  </a:lnTo>
                  <a:lnTo>
                    <a:pt x="1111" y="8529"/>
                  </a:lnTo>
                  <a:lnTo>
                    <a:pt x="1137" y="8688"/>
                  </a:lnTo>
                  <a:lnTo>
                    <a:pt x="1931" y="8688"/>
                  </a:lnTo>
                  <a:lnTo>
                    <a:pt x="2037" y="8476"/>
                  </a:lnTo>
                  <a:lnTo>
                    <a:pt x="2751" y="7841"/>
                  </a:lnTo>
                  <a:lnTo>
                    <a:pt x="2751" y="7841"/>
                  </a:lnTo>
                  <a:lnTo>
                    <a:pt x="2751" y="7841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960360"/>
              <a:ext cx="3351600" cy="2544840"/>
            </a:xfrm>
            <a:custGeom>
              <a:avLst/>
              <a:gdLst/>
              <a:ahLst/>
              <a:rect l="l" t="t" r="r" b="b"/>
              <a:pathLst>
                <a:path w="9315" h="7074">
                  <a:moveTo>
                    <a:pt x="2544" y="4350"/>
                  </a:moveTo>
                  <a:lnTo>
                    <a:pt x="2386" y="2848"/>
                  </a:lnTo>
                  <a:lnTo>
                    <a:pt x="2939" y="1647"/>
                  </a:lnTo>
                  <a:lnTo>
                    <a:pt x="4066" y="2448"/>
                  </a:lnTo>
                  <a:lnTo>
                    <a:pt x="5326" y="3624"/>
                  </a:lnTo>
                  <a:lnTo>
                    <a:pt x="6506" y="4625"/>
                  </a:lnTo>
                  <a:lnTo>
                    <a:pt x="7896" y="5672"/>
                  </a:lnTo>
                  <a:lnTo>
                    <a:pt x="8261" y="5897"/>
                  </a:lnTo>
                  <a:lnTo>
                    <a:pt x="8054" y="5647"/>
                  </a:lnTo>
                  <a:lnTo>
                    <a:pt x="6190" y="4175"/>
                  </a:lnTo>
                  <a:lnTo>
                    <a:pt x="4773" y="2848"/>
                  </a:lnTo>
                  <a:lnTo>
                    <a:pt x="3171" y="1372"/>
                  </a:lnTo>
                  <a:lnTo>
                    <a:pt x="4382" y="1297"/>
                  </a:lnTo>
                  <a:lnTo>
                    <a:pt x="5641" y="1322"/>
                  </a:lnTo>
                  <a:lnTo>
                    <a:pt x="7080" y="1121"/>
                  </a:lnTo>
                  <a:lnTo>
                    <a:pt x="9314" y="821"/>
                  </a:lnTo>
                  <a:lnTo>
                    <a:pt x="9103" y="721"/>
                  </a:lnTo>
                  <a:lnTo>
                    <a:pt x="6769" y="1071"/>
                  </a:lnTo>
                  <a:lnTo>
                    <a:pt x="5299" y="1147"/>
                  </a:lnTo>
                  <a:lnTo>
                    <a:pt x="3329" y="1071"/>
                  </a:lnTo>
                  <a:lnTo>
                    <a:pt x="3593" y="946"/>
                  </a:lnTo>
                  <a:lnTo>
                    <a:pt x="5010" y="0"/>
                  </a:lnTo>
                  <a:lnTo>
                    <a:pt x="4773" y="125"/>
                  </a:lnTo>
                  <a:lnTo>
                    <a:pt x="4431" y="350"/>
                  </a:lnTo>
                  <a:lnTo>
                    <a:pt x="3751" y="796"/>
                  </a:lnTo>
                  <a:lnTo>
                    <a:pt x="2939" y="1172"/>
                  </a:lnTo>
                  <a:lnTo>
                    <a:pt x="2781" y="1497"/>
                  </a:lnTo>
                  <a:lnTo>
                    <a:pt x="1338" y="2448"/>
                  </a:lnTo>
                  <a:lnTo>
                    <a:pt x="0" y="3023"/>
                  </a:lnTo>
                  <a:lnTo>
                    <a:pt x="0" y="3048"/>
                  </a:lnTo>
                  <a:lnTo>
                    <a:pt x="0" y="3199"/>
                  </a:lnTo>
                  <a:lnTo>
                    <a:pt x="1311" y="2648"/>
                  </a:lnTo>
                  <a:lnTo>
                    <a:pt x="2597" y="1797"/>
                  </a:lnTo>
                  <a:lnTo>
                    <a:pt x="2228" y="2798"/>
                  </a:lnTo>
                  <a:lnTo>
                    <a:pt x="2307" y="4150"/>
                  </a:lnTo>
                  <a:lnTo>
                    <a:pt x="2018" y="4871"/>
                  </a:lnTo>
                  <a:lnTo>
                    <a:pt x="1443" y="6173"/>
                  </a:lnTo>
                  <a:lnTo>
                    <a:pt x="1417" y="7073"/>
                  </a:lnTo>
                  <a:lnTo>
                    <a:pt x="1443" y="7073"/>
                  </a:lnTo>
                  <a:lnTo>
                    <a:pt x="1522" y="6473"/>
                  </a:lnTo>
                  <a:lnTo>
                    <a:pt x="2544" y="4350"/>
                  </a:lnTo>
                  <a:lnTo>
                    <a:pt x="2544" y="4350"/>
                  </a:lnTo>
                  <a:lnTo>
                    <a:pt x="2544" y="4350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9920" y="5130000"/>
              <a:ext cx="5820840" cy="1496160"/>
            </a:xfrm>
            <a:custGeom>
              <a:avLst/>
              <a:gdLst/>
              <a:ahLst/>
              <a:rect l="l" t="t" r="r" b="b"/>
              <a:pathLst>
                <a:path w="16176" h="4160">
                  <a:moveTo>
                    <a:pt x="15354" y="1323"/>
                  </a:moveTo>
                  <a:lnTo>
                    <a:pt x="14719" y="1270"/>
                  </a:lnTo>
                  <a:lnTo>
                    <a:pt x="14640" y="1164"/>
                  </a:lnTo>
                  <a:lnTo>
                    <a:pt x="14084" y="1137"/>
                  </a:lnTo>
                  <a:lnTo>
                    <a:pt x="13312" y="952"/>
                  </a:lnTo>
                  <a:lnTo>
                    <a:pt x="12417" y="1032"/>
                  </a:lnTo>
                  <a:lnTo>
                    <a:pt x="11169" y="1270"/>
                  </a:lnTo>
                  <a:lnTo>
                    <a:pt x="10274" y="1349"/>
                  </a:lnTo>
                  <a:lnTo>
                    <a:pt x="9476" y="1376"/>
                  </a:lnTo>
                  <a:lnTo>
                    <a:pt x="10459" y="1137"/>
                  </a:lnTo>
                  <a:lnTo>
                    <a:pt x="11570" y="688"/>
                  </a:lnTo>
                  <a:lnTo>
                    <a:pt x="11570" y="582"/>
                  </a:lnTo>
                  <a:lnTo>
                    <a:pt x="11756" y="344"/>
                  </a:lnTo>
                  <a:lnTo>
                    <a:pt x="11936" y="105"/>
                  </a:lnTo>
                  <a:lnTo>
                    <a:pt x="11884" y="0"/>
                  </a:lnTo>
                  <a:lnTo>
                    <a:pt x="11650" y="52"/>
                  </a:lnTo>
                  <a:lnTo>
                    <a:pt x="11275" y="132"/>
                  </a:lnTo>
                  <a:lnTo>
                    <a:pt x="11090" y="238"/>
                  </a:lnTo>
                  <a:lnTo>
                    <a:pt x="10693" y="370"/>
                  </a:lnTo>
                  <a:lnTo>
                    <a:pt x="10247" y="291"/>
                  </a:lnTo>
                  <a:lnTo>
                    <a:pt x="9661" y="396"/>
                  </a:lnTo>
                  <a:lnTo>
                    <a:pt x="9264" y="396"/>
                  </a:lnTo>
                  <a:lnTo>
                    <a:pt x="9026" y="476"/>
                  </a:lnTo>
                  <a:lnTo>
                    <a:pt x="8179" y="1005"/>
                  </a:lnTo>
                  <a:lnTo>
                    <a:pt x="7809" y="1270"/>
                  </a:lnTo>
                  <a:lnTo>
                    <a:pt x="7015" y="1486"/>
                  </a:lnTo>
                  <a:lnTo>
                    <a:pt x="6459" y="1671"/>
                  </a:lnTo>
                  <a:lnTo>
                    <a:pt x="6433" y="1671"/>
                  </a:lnTo>
                  <a:lnTo>
                    <a:pt x="6406" y="1645"/>
                  </a:lnTo>
                  <a:lnTo>
                    <a:pt x="6248" y="1592"/>
                  </a:lnTo>
                  <a:lnTo>
                    <a:pt x="6089" y="1512"/>
                  </a:lnTo>
                  <a:lnTo>
                    <a:pt x="6009" y="1459"/>
                  </a:lnTo>
                  <a:lnTo>
                    <a:pt x="5983" y="1428"/>
                  </a:lnTo>
                  <a:lnTo>
                    <a:pt x="5926" y="1376"/>
                  </a:lnTo>
                  <a:lnTo>
                    <a:pt x="5820" y="1323"/>
                  </a:lnTo>
                  <a:lnTo>
                    <a:pt x="5687" y="1270"/>
                  </a:lnTo>
                  <a:lnTo>
                    <a:pt x="5555" y="1190"/>
                  </a:lnTo>
                  <a:lnTo>
                    <a:pt x="5423" y="1111"/>
                  </a:lnTo>
                  <a:lnTo>
                    <a:pt x="5233" y="1001"/>
                  </a:lnTo>
                  <a:lnTo>
                    <a:pt x="4933" y="1001"/>
                  </a:lnTo>
                  <a:lnTo>
                    <a:pt x="5983" y="1750"/>
                  </a:lnTo>
                  <a:lnTo>
                    <a:pt x="5820" y="1931"/>
                  </a:lnTo>
                  <a:lnTo>
                    <a:pt x="5004" y="2302"/>
                  </a:lnTo>
                  <a:lnTo>
                    <a:pt x="4232" y="2460"/>
                  </a:lnTo>
                  <a:lnTo>
                    <a:pt x="3016" y="2646"/>
                  </a:lnTo>
                  <a:lnTo>
                    <a:pt x="2090" y="2778"/>
                  </a:lnTo>
                  <a:lnTo>
                    <a:pt x="1719" y="3016"/>
                  </a:lnTo>
                  <a:lnTo>
                    <a:pt x="582" y="3444"/>
                  </a:lnTo>
                  <a:lnTo>
                    <a:pt x="0" y="3656"/>
                  </a:lnTo>
                  <a:lnTo>
                    <a:pt x="1031" y="3735"/>
                  </a:lnTo>
                  <a:lnTo>
                    <a:pt x="2196" y="3656"/>
                  </a:lnTo>
                  <a:lnTo>
                    <a:pt x="4078" y="3259"/>
                  </a:lnTo>
                  <a:lnTo>
                    <a:pt x="3703" y="3603"/>
                  </a:lnTo>
                  <a:lnTo>
                    <a:pt x="2809" y="4079"/>
                  </a:lnTo>
                  <a:lnTo>
                    <a:pt x="2703" y="4159"/>
                  </a:lnTo>
                  <a:lnTo>
                    <a:pt x="6195" y="4159"/>
                  </a:lnTo>
                  <a:lnTo>
                    <a:pt x="6221" y="4079"/>
                  </a:lnTo>
                  <a:lnTo>
                    <a:pt x="6380" y="4159"/>
                  </a:lnTo>
                  <a:lnTo>
                    <a:pt x="12893" y="4159"/>
                  </a:lnTo>
                  <a:lnTo>
                    <a:pt x="12735" y="3788"/>
                  </a:lnTo>
                  <a:lnTo>
                    <a:pt x="11963" y="3418"/>
                  </a:lnTo>
                  <a:lnTo>
                    <a:pt x="11385" y="3122"/>
                  </a:lnTo>
                  <a:lnTo>
                    <a:pt x="10300" y="2805"/>
                  </a:lnTo>
                  <a:lnTo>
                    <a:pt x="10137" y="2672"/>
                  </a:lnTo>
                  <a:lnTo>
                    <a:pt x="11063" y="2566"/>
                  </a:lnTo>
                  <a:lnTo>
                    <a:pt x="11491" y="2593"/>
                  </a:lnTo>
                  <a:lnTo>
                    <a:pt x="12228" y="2593"/>
                  </a:lnTo>
                  <a:lnTo>
                    <a:pt x="13233" y="2566"/>
                  </a:lnTo>
                  <a:lnTo>
                    <a:pt x="14371" y="2275"/>
                  </a:lnTo>
                  <a:lnTo>
                    <a:pt x="15222" y="1931"/>
                  </a:lnTo>
                  <a:lnTo>
                    <a:pt x="16175" y="1724"/>
                  </a:lnTo>
                  <a:lnTo>
                    <a:pt x="16175" y="1376"/>
                  </a:lnTo>
                  <a:lnTo>
                    <a:pt x="15354" y="1323"/>
                  </a:lnTo>
                  <a:lnTo>
                    <a:pt x="15354" y="1323"/>
                  </a:lnTo>
                  <a:lnTo>
                    <a:pt x="15354" y="1323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831240"/>
              <a:ext cx="1545480" cy="1895760"/>
            </a:xfrm>
            <a:custGeom>
              <a:avLst/>
              <a:gdLst/>
              <a:ahLst/>
              <a:rect l="l" t="t" r="r" b="b"/>
              <a:pathLst>
                <a:path w="4293" h="5271">
                  <a:moveTo>
                    <a:pt x="1430" y="5243"/>
                  </a:moveTo>
                  <a:lnTo>
                    <a:pt x="2170" y="5270"/>
                  </a:lnTo>
                  <a:lnTo>
                    <a:pt x="2568" y="5084"/>
                  </a:lnTo>
                  <a:lnTo>
                    <a:pt x="3601" y="4796"/>
                  </a:lnTo>
                  <a:lnTo>
                    <a:pt x="4132" y="4664"/>
                  </a:lnTo>
                  <a:lnTo>
                    <a:pt x="3361" y="4372"/>
                  </a:lnTo>
                  <a:lnTo>
                    <a:pt x="2462" y="4213"/>
                  </a:lnTo>
                  <a:lnTo>
                    <a:pt x="872" y="4292"/>
                  </a:lnTo>
                  <a:lnTo>
                    <a:pt x="1324" y="3948"/>
                  </a:lnTo>
                  <a:lnTo>
                    <a:pt x="2196" y="3550"/>
                  </a:lnTo>
                  <a:lnTo>
                    <a:pt x="3073" y="2966"/>
                  </a:lnTo>
                  <a:lnTo>
                    <a:pt x="3100" y="2966"/>
                  </a:lnTo>
                  <a:lnTo>
                    <a:pt x="3153" y="2940"/>
                  </a:lnTo>
                  <a:lnTo>
                    <a:pt x="3335" y="2860"/>
                  </a:lnTo>
                  <a:lnTo>
                    <a:pt x="3441" y="2833"/>
                  </a:lnTo>
                  <a:lnTo>
                    <a:pt x="3494" y="2780"/>
                  </a:lnTo>
                  <a:lnTo>
                    <a:pt x="3521" y="2727"/>
                  </a:lnTo>
                  <a:lnTo>
                    <a:pt x="3494" y="2701"/>
                  </a:lnTo>
                  <a:lnTo>
                    <a:pt x="3468" y="2648"/>
                  </a:lnTo>
                  <a:lnTo>
                    <a:pt x="3468" y="2542"/>
                  </a:lnTo>
                  <a:lnTo>
                    <a:pt x="3521" y="2409"/>
                  </a:lnTo>
                  <a:lnTo>
                    <a:pt x="3574" y="2276"/>
                  </a:lnTo>
                  <a:lnTo>
                    <a:pt x="3654" y="2144"/>
                  </a:lnTo>
                  <a:lnTo>
                    <a:pt x="3707" y="2011"/>
                  </a:lnTo>
                  <a:lnTo>
                    <a:pt x="3733" y="1932"/>
                  </a:lnTo>
                  <a:lnTo>
                    <a:pt x="3760" y="1905"/>
                  </a:lnTo>
                  <a:lnTo>
                    <a:pt x="3760" y="1534"/>
                  </a:lnTo>
                  <a:lnTo>
                    <a:pt x="3760" y="1507"/>
                  </a:lnTo>
                  <a:lnTo>
                    <a:pt x="3787" y="1481"/>
                  </a:lnTo>
                  <a:lnTo>
                    <a:pt x="3866" y="1348"/>
                  </a:lnTo>
                  <a:lnTo>
                    <a:pt x="3919" y="1189"/>
                  </a:lnTo>
                  <a:lnTo>
                    <a:pt x="3973" y="1056"/>
                  </a:lnTo>
                  <a:lnTo>
                    <a:pt x="3999" y="1003"/>
                  </a:lnTo>
                  <a:lnTo>
                    <a:pt x="4026" y="950"/>
                  </a:lnTo>
                  <a:lnTo>
                    <a:pt x="4105" y="764"/>
                  </a:lnTo>
                  <a:lnTo>
                    <a:pt x="4185" y="605"/>
                  </a:lnTo>
                  <a:lnTo>
                    <a:pt x="4212" y="552"/>
                  </a:lnTo>
                  <a:lnTo>
                    <a:pt x="4212" y="526"/>
                  </a:lnTo>
                  <a:lnTo>
                    <a:pt x="4292" y="0"/>
                  </a:lnTo>
                  <a:lnTo>
                    <a:pt x="4185" y="207"/>
                  </a:lnTo>
                  <a:lnTo>
                    <a:pt x="3468" y="499"/>
                  </a:lnTo>
                  <a:lnTo>
                    <a:pt x="3127" y="711"/>
                  </a:lnTo>
                  <a:lnTo>
                    <a:pt x="2037" y="1030"/>
                  </a:lnTo>
                  <a:lnTo>
                    <a:pt x="1244" y="1268"/>
                  </a:lnTo>
                  <a:lnTo>
                    <a:pt x="766" y="1295"/>
                  </a:lnTo>
                  <a:lnTo>
                    <a:pt x="53" y="2144"/>
                  </a:lnTo>
                  <a:lnTo>
                    <a:pt x="0" y="2250"/>
                  </a:lnTo>
                  <a:lnTo>
                    <a:pt x="0" y="5243"/>
                  </a:lnTo>
                  <a:lnTo>
                    <a:pt x="425" y="5216"/>
                  </a:lnTo>
                  <a:lnTo>
                    <a:pt x="1430" y="5243"/>
                  </a:lnTo>
                  <a:lnTo>
                    <a:pt x="1430" y="5243"/>
                  </a:lnTo>
                  <a:lnTo>
                    <a:pt x="1430" y="5243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59080" y="1080"/>
              <a:ext cx="4078440" cy="3595680"/>
            </a:xfrm>
            <a:custGeom>
              <a:avLst/>
              <a:gdLst/>
              <a:ahLst/>
              <a:rect l="l" t="t" r="r" b="b"/>
              <a:pathLst>
                <a:path w="11335" h="9994">
                  <a:moveTo>
                    <a:pt x="3334" y="2042"/>
                  </a:moveTo>
                  <a:lnTo>
                    <a:pt x="3788" y="2699"/>
                  </a:lnTo>
                  <a:lnTo>
                    <a:pt x="4132" y="3175"/>
                  </a:lnTo>
                  <a:lnTo>
                    <a:pt x="4793" y="3762"/>
                  </a:lnTo>
                  <a:lnTo>
                    <a:pt x="4873" y="4000"/>
                  </a:lnTo>
                  <a:lnTo>
                    <a:pt x="4238" y="4026"/>
                  </a:lnTo>
                  <a:lnTo>
                    <a:pt x="3947" y="3973"/>
                  </a:lnTo>
                  <a:lnTo>
                    <a:pt x="3466" y="3894"/>
                  </a:lnTo>
                  <a:lnTo>
                    <a:pt x="2809" y="3788"/>
                  </a:lnTo>
                  <a:lnTo>
                    <a:pt x="1984" y="4106"/>
                  </a:lnTo>
                  <a:lnTo>
                    <a:pt x="1349" y="4503"/>
                  </a:lnTo>
                  <a:lnTo>
                    <a:pt x="661" y="4741"/>
                  </a:lnTo>
                  <a:lnTo>
                    <a:pt x="0" y="5085"/>
                  </a:lnTo>
                  <a:lnTo>
                    <a:pt x="343" y="5138"/>
                  </a:lnTo>
                  <a:lnTo>
                    <a:pt x="1164" y="5380"/>
                  </a:lnTo>
                  <a:lnTo>
                    <a:pt x="1592" y="5539"/>
                  </a:lnTo>
                  <a:lnTo>
                    <a:pt x="1618" y="5724"/>
                  </a:lnTo>
                  <a:lnTo>
                    <a:pt x="1958" y="5804"/>
                  </a:lnTo>
                  <a:lnTo>
                    <a:pt x="2460" y="6174"/>
                  </a:lnTo>
                  <a:lnTo>
                    <a:pt x="3073" y="6174"/>
                  </a:lnTo>
                  <a:lnTo>
                    <a:pt x="3947" y="5936"/>
                  </a:lnTo>
                  <a:lnTo>
                    <a:pt x="4524" y="5936"/>
                  </a:lnTo>
                  <a:lnTo>
                    <a:pt x="5058" y="5989"/>
                  </a:lnTo>
                  <a:lnTo>
                    <a:pt x="4370" y="6227"/>
                  </a:lnTo>
                  <a:lnTo>
                    <a:pt x="3545" y="6783"/>
                  </a:lnTo>
                  <a:lnTo>
                    <a:pt x="3545" y="6941"/>
                  </a:lnTo>
                  <a:lnTo>
                    <a:pt x="3360" y="7255"/>
                  </a:lnTo>
                  <a:lnTo>
                    <a:pt x="3201" y="7577"/>
                  </a:lnTo>
                  <a:lnTo>
                    <a:pt x="3228" y="7735"/>
                  </a:lnTo>
                  <a:lnTo>
                    <a:pt x="3386" y="7682"/>
                  </a:lnTo>
                  <a:lnTo>
                    <a:pt x="3655" y="7630"/>
                  </a:lnTo>
                  <a:lnTo>
                    <a:pt x="3814" y="7466"/>
                  </a:lnTo>
                  <a:lnTo>
                    <a:pt x="4079" y="7334"/>
                  </a:lnTo>
                  <a:lnTo>
                    <a:pt x="4370" y="7493"/>
                  </a:lnTo>
                  <a:lnTo>
                    <a:pt x="4793" y="7387"/>
                  </a:lnTo>
                  <a:lnTo>
                    <a:pt x="5005" y="7175"/>
                  </a:lnTo>
                  <a:lnTo>
                    <a:pt x="5058" y="7440"/>
                  </a:lnTo>
                  <a:lnTo>
                    <a:pt x="5217" y="7360"/>
                  </a:lnTo>
                  <a:lnTo>
                    <a:pt x="5878" y="6677"/>
                  </a:lnTo>
                  <a:lnTo>
                    <a:pt x="6169" y="6333"/>
                  </a:lnTo>
                  <a:lnTo>
                    <a:pt x="6729" y="6095"/>
                  </a:lnTo>
                  <a:lnTo>
                    <a:pt x="7122" y="5883"/>
                  </a:lnTo>
                  <a:lnTo>
                    <a:pt x="7175" y="5936"/>
                  </a:lnTo>
                  <a:lnTo>
                    <a:pt x="7254" y="6042"/>
                  </a:lnTo>
                  <a:lnTo>
                    <a:pt x="7360" y="6174"/>
                  </a:lnTo>
                  <a:lnTo>
                    <a:pt x="7413" y="6306"/>
                  </a:lnTo>
                  <a:lnTo>
                    <a:pt x="7439" y="6386"/>
                  </a:lnTo>
                  <a:lnTo>
                    <a:pt x="7492" y="6465"/>
                  </a:lnTo>
                  <a:lnTo>
                    <a:pt x="7625" y="6703"/>
                  </a:lnTo>
                  <a:lnTo>
                    <a:pt x="7704" y="6836"/>
                  </a:lnTo>
                  <a:lnTo>
                    <a:pt x="7788" y="6941"/>
                  </a:lnTo>
                  <a:lnTo>
                    <a:pt x="7814" y="6994"/>
                  </a:lnTo>
                  <a:lnTo>
                    <a:pt x="7841" y="7021"/>
                  </a:lnTo>
                  <a:lnTo>
                    <a:pt x="9367" y="9913"/>
                  </a:lnTo>
                  <a:lnTo>
                    <a:pt x="9768" y="9993"/>
                  </a:lnTo>
                  <a:lnTo>
                    <a:pt x="7466" y="5830"/>
                  </a:lnTo>
                  <a:lnTo>
                    <a:pt x="7598" y="5565"/>
                  </a:lnTo>
                  <a:lnTo>
                    <a:pt x="8207" y="5138"/>
                  </a:lnTo>
                  <a:lnTo>
                    <a:pt x="8767" y="4979"/>
                  </a:lnTo>
                  <a:lnTo>
                    <a:pt x="9583" y="4847"/>
                  </a:lnTo>
                  <a:lnTo>
                    <a:pt x="10222" y="4741"/>
                  </a:lnTo>
                  <a:lnTo>
                    <a:pt x="10540" y="4450"/>
                  </a:lnTo>
                  <a:lnTo>
                    <a:pt x="11334" y="3947"/>
                  </a:lnTo>
                  <a:lnTo>
                    <a:pt x="11334" y="3550"/>
                  </a:lnTo>
                  <a:lnTo>
                    <a:pt x="11095" y="3470"/>
                  </a:lnTo>
                  <a:lnTo>
                    <a:pt x="10328" y="3444"/>
                  </a:lnTo>
                  <a:lnTo>
                    <a:pt x="9005" y="3841"/>
                  </a:lnTo>
                  <a:lnTo>
                    <a:pt x="9322" y="3365"/>
                  </a:lnTo>
                  <a:lnTo>
                    <a:pt x="9984" y="2752"/>
                  </a:lnTo>
                  <a:lnTo>
                    <a:pt x="10619" y="1909"/>
                  </a:lnTo>
                  <a:lnTo>
                    <a:pt x="10646" y="1909"/>
                  </a:lnTo>
                  <a:lnTo>
                    <a:pt x="10698" y="1856"/>
                  </a:lnTo>
                  <a:lnTo>
                    <a:pt x="10831" y="1750"/>
                  </a:lnTo>
                  <a:lnTo>
                    <a:pt x="10910" y="1671"/>
                  </a:lnTo>
                  <a:lnTo>
                    <a:pt x="10963" y="1618"/>
                  </a:lnTo>
                  <a:lnTo>
                    <a:pt x="10990" y="1565"/>
                  </a:lnTo>
                  <a:lnTo>
                    <a:pt x="10963" y="1539"/>
                  </a:lnTo>
                  <a:lnTo>
                    <a:pt x="10910" y="1486"/>
                  </a:lnTo>
                  <a:lnTo>
                    <a:pt x="10910" y="1353"/>
                  </a:lnTo>
                  <a:lnTo>
                    <a:pt x="10910" y="1195"/>
                  </a:lnTo>
                  <a:lnTo>
                    <a:pt x="10937" y="1005"/>
                  </a:lnTo>
                  <a:lnTo>
                    <a:pt x="10990" y="846"/>
                  </a:lnTo>
                  <a:lnTo>
                    <a:pt x="11016" y="688"/>
                  </a:lnTo>
                  <a:lnTo>
                    <a:pt x="11042" y="582"/>
                  </a:lnTo>
                  <a:lnTo>
                    <a:pt x="11042" y="555"/>
                  </a:lnTo>
                  <a:lnTo>
                    <a:pt x="10990" y="158"/>
                  </a:lnTo>
                  <a:lnTo>
                    <a:pt x="10990" y="158"/>
                  </a:lnTo>
                  <a:lnTo>
                    <a:pt x="10990" y="105"/>
                  </a:lnTo>
                  <a:lnTo>
                    <a:pt x="11016" y="0"/>
                  </a:lnTo>
                  <a:lnTo>
                    <a:pt x="9270" y="0"/>
                  </a:lnTo>
                  <a:lnTo>
                    <a:pt x="8846" y="264"/>
                  </a:lnTo>
                  <a:lnTo>
                    <a:pt x="8418" y="396"/>
                  </a:lnTo>
                  <a:lnTo>
                    <a:pt x="7973" y="1486"/>
                  </a:lnTo>
                  <a:lnTo>
                    <a:pt x="7704" y="2359"/>
                  </a:lnTo>
                  <a:lnTo>
                    <a:pt x="7439" y="2593"/>
                  </a:lnTo>
                  <a:lnTo>
                    <a:pt x="7545" y="2068"/>
                  </a:lnTo>
                  <a:lnTo>
                    <a:pt x="7439" y="1512"/>
                  </a:lnTo>
                  <a:lnTo>
                    <a:pt x="7201" y="635"/>
                  </a:lnTo>
                  <a:lnTo>
                    <a:pt x="6990" y="52"/>
                  </a:lnTo>
                  <a:lnTo>
                    <a:pt x="6963" y="0"/>
                  </a:lnTo>
                  <a:lnTo>
                    <a:pt x="3466" y="0"/>
                  </a:lnTo>
                  <a:lnTo>
                    <a:pt x="3254" y="820"/>
                  </a:lnTo>
                  <a:lnTo>
                    <a:pt x="3334" y="2042"/>
                  </a:lnTo>
                  <a:lnTo>
                    <a:pt x="3334" y="2042"/>
                  </a:lnTo>
                  <a:lnTo>
                    <a:pt x="3334" y="2042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94040" y="1080"/>
              <a:ext cx="3468960" cy="2392560"/>
            </a:xfrm>
            <a:custGeom>
              <a:avLst/>
              <a:gdLst/>
              <a:ahLst/>
              <a:rect l="l" t="t" r="r" b="b"/>
              <a:pathLst>
                <a:path w="9638" h="6652">
                  <a:moveTo>
                    <a:pt x="4579" y="3389"/>
                  </a:moveTo>
                  <a:lnTo>
                    <a:pt x="5270" y="5457"/>
                  </a:lnTo>
                  <a:lnTo>
                    <a:pt x="4233" y="5272"/>
                  </a:lnTo>
                  <a:lnTo>
                    <a:pt x="3201" y="4980"/>
                  </a:lnTo>
                  <a:lnTo>
                    <a:pt x="1957" y="4900"/>
                  </a:lnTo>
                  <a:lnTo>
                    <a:pt x="0" y="4768"/>
                  </a:lnTo>
                  <a:lnTo>
                    <a:pt x="132" y="4927"/>
                  </a:lnTo>
                  <a:lnTo>
                    <a:pt x="2196" y="5007"/>
                  </a:lnTo>
                  <a:lnTo>
                    <a:pt x="3441" y="5245"/>
                  </a:lnTo>
                  <a:lnTo>
                    <a:pt x="5004" y="5749"/>
                  </a:lnTo>
                  <a:lnTo>
                    <a:pt x="4738" y="5829"/>
                  </a:lnTo>
                  <a:lnTo>
                    <a:pt x="3148" y="6651"/>
                  </a:lnTo>
                  <a:lnTo>
                    <a:pt x="3388" y="6544"/>
                  </a:lnTo>
                  <a:lnTo>
                    <a:pt x="3813" y="6359"/>
                  </a:lnTo>
                  <a:lnTo>
                    <a:pt x="4526" y="5988"/>
                  </a:lnTo>
                  <a:lnTo>
                    <a:pt x="5376" y="5722"/>
                  </a:lnTo>
                  <a:lnTo>
                    <a:pt x="5611" y="5404"/>
                  </a:lnTo>
                  <a:lnTo>
                    <a:pt x="7227" y="4609"/>
                  </a:lnTo>
                  <a:lnTo>
                    <a:pt x="8551" y="4211"/>
                  </a:lnTo>
                  <a:lnTo>
                    <a:pt x="9637" y="3628"/>
                  </a:lnTo>
                  <a:lnTo>
                    <a:pt x="8684" y="4025"/>
                  </a:lnTo>
                  <a:lnTo>
                    <a:pt x="7334" y="4370"/>
                  </a:lnTo>
                  <a:lnTo>
                    <a:pt x="5930" y="5086"/>
                  </a:lnTo>
                  <a:lnTo>
                    <a:pt x="6647" y="3999"/>
                  </a:lnTo>
                  <a:lnTo>
                    <a:pt x="7174" y="2408"/>
                  </a:lnTo>
                  <a:lnTo>
                    <a:pt x="7706" y="1643"/>
                  </a:lnTo>
                  <a:lnTo>
                    <a:pt x="8764" y="265"/>
                  </a:lnTo>
                  <a:lnTo>
                    <a:pt x="8870" y="0"/>
                  </a:lnTo>
                  <a:lnTo>
                    <a:pt x="8737" y="0"/>
                  </a:lnTo>
                  <a:lnTo>
                    <a:pt x="7068" y="2121"/>
                  </a:lnTo>
                  <a:lnTo>
                    <a:pt x="6541" y="3919"/>
                  </a:lnTo>
                  <a:lnTo>
                    <a:pt x="5558" y="5192"/>
                  </a:lnTo>
                  <a:lnTo>
                    <a:pt x="5004" y="3999"/>
                  </a:lnTo>
                  <a:lnTo>
                    <a:pt x="4473" y="2386"/>
                  </a:lnTo>
                  <a:lnTo>
                    <a:pt x="3919" y="981"/>
                  </a:lnTo>
                  <a:lnTo>
                    <a:pt x="3494" y="0"/>
                  </a:lnTo>
                  <a:lnTo>
                    <a:pt x="3334" y="0"/>
                  </a:lnTo>
                  <a:lnTo>
                    <a:pt x="3999" y="1564"/>
                  </a:lnTo>
                  <a:lnTo>
                    <a:pt x="4579" y="3389"/>
                  </a:lnTo>
                  <a:lnTo>
                    <a:pt x="4579" y="3389"/>
                  </a:lnTo>
                  <a:lnTo>
                    <a:pt x="4579" y="3389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029600"/>
              <a:ext cx="1294560" cy="1278720"/>
            </a:xfrm>
            <a:custGeom>
              <a:avLst/>
              <a:gdLst/>
              <a:ahLst/>
              <a:rect l="l" t="t" r="r" b="b"/>
              <a:pathLst>
                <a:path w="3600" h="3556">
                  <a:moveTo>
                    <a:pt x="712" y="2493"/>
                  </a:moveTo>
                  <a:lnTo>
                    <a:pt x="1456" y="1936"/>
                  </a:lnTo>
                  <a:lnTo>
                    <a:pt x="2859" y="955"/>
                  </a:lnTo>
                  <a:lnTo>
                    <a:pt x="3599" y="0"/>
                  </a:lnTo>
                  <a:lnTo>
                    <a:pt x="2992" y="663"/>
                  </a:lnTo>
                  <a:lnTo>
                    <a:pt x="637" y="2228"/>
                  </a:lnTo>
                  <a:lnTo>
                    <a:pt x="0" y="3236"/>
                  </a:lnTo>
                  <a:lnTo>
                    <a:pt x="0" y="3555"/>
                  </a:lnTo>
                  <a:lnTo>
                    <a:pt x="712" y="2493"/>
                  </a:lnTo>
                  <a:lnTo>
                    <a:pt x="712" y="2493"/>
                  </a:lnTo>
                  <a:lnTo>
                    <a:pt x="712" y="2493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451240"/>
              <a:ext cx="1208880" cy="169560"/>
            </a:xfrm>
            <a:custGeom>
              <a:avLst/>
              <a:gdLst/>
              <a:ahLst/>
              <a:rect l="l" t="t" r="r" b="b"/>
              <a:pathLst>
                <a:path w="3362" h="474">
                  <a:moveTo>
                    <a:pt x="2036" y="291"/>
                  </a:moveTo>
                  <a:lnTo>
                    <a:pt x="3361" y="0"/>
                  </a:lnTo>
                  <a:lnTo>
                    <a:pt x="2196" y="159"/>
                  </a:lnTo>
                  <a:lnTo>
                    <a:pt x="611" y="212"/>
                  </a:lnTo>
                  <a:lnTo>
                    <a:pt x="0" y="344"/>
                  </a:lnTo>
                  <a:lnTo>
                    <a:pt x="0" y="473"/>
                  </a:lnTo>
                  <a:lnTo>
                    <a:pt x="425" y="393"/>
                  </a:lnTo>
                  <a:lnTo>
                    <a:pt x="2036" y="291"/>
                  </a:lnTo>
                  <a:lnTo>
                    <a:pt x="2036" y="291"/>
                  </a:lnTo>
                  <a:lnTo>
                    <a:pt x="2036" y="291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2000" y="5443920"/>
              <a:ext cx="5049720" cy="1181880"/>
            </a:xfrm>
            <a:custGeom>
              <a:avLst/>
              <a:gdLst/>
              <a:ahLst/>
              <a:rect l="l" t="t" r="r" b="b"/>
              <a:pathLst>
                <a:path w="14033" h="3287">
                  <a:moveTo>
                    <a:pt x="6140" y="1057"/>
                  </a:moveTo>
                  <a:lnTo>
                    <a:pt x="7677" y="1030"/>
                  </a:lnTo>
                  <a:lnTo>
                    <a:pt x="9240" y="1110"/>
                  </a:lnTo>
                  <a:lnTo>
                    <a:pt x="11091" y="1030"/>
                  </a:lnTo>
                  <a:lnTo>
                    <a:pt x="14032" y="902"/>
                  </a:lnTo>
                  <a:lnTo>
                    <a:pt x="13792" y="822"/>
                  </a:lnTo>
                  <a:lnTo>
                    <a:pt x="10724" y="977"/>
                  </a:lnTo>
                  <a:lnTo>
                    <a:pt x="8868" y="977"/>
                  </a:lnTo>
                  <a:lnTo>
                    <a:pt x="6459" y="822"/>
                  </a:lnTo>
                  <a:lnTo>
                    <a:pt x="6831" y="742"/>
                  </a:lnTo>
                  <a:lnTo>
                    <a:pt x="9028" y="0"/>
                  </a:lnTo>
                  <a:lnTo>
                    <a:pt x="8682" y="106"/>
                  </a:lnTo>
                  <a:lnTo>
                    <a:pt x="8129" y="291"/>
                  </a:lnTo>
                  <a:lnTo>
                    <a:pt x="7092" y="610"/>
                  </a:lnTo>
                  <a:lnTo>
                    <a:pt x="5928" y="875"/>
                  </a:lnTo>
                  <a:lnTo>
                    <a:pt x="5613" y="1110"/>
                  </a:lnTo>
                  <a:lnTo>
                    <a:pt x="3386" y="1826"/>
                  </a:lnTo>
                  <a:lnTo>
                    <a:pt x="1483" y="2224"/>
                  </a:lnTo>
                  <a:lnTo>
                    <a:pt x="0" y="2728"/>
                  </a:lnTo>
                  <a:lnTo>
                    <a:pt x="1324" y="2383"/>
                  </a:lnTo>
                  <a:lnTo>
                    <a:pt x="3253" y="1985"/>
                  </a:lnTo>
                  <a:lnTo>
                    <a:pt x="5215" y="1375"/>
                  </a:lnTo>
                  <a:lnTo>
                    <a:pt x="4343" y="2171"/>
                  </a:lnTo>
                  <a:lnTo>
                    <a:pt x="3838" y="3286"/>
                  </a:lnTo>
                  <a:lnTo>
                    <a:pt x="3811" y="3286"/>
                  </a:lnTo>
                  <a:lnTo>
                    <a:pt x="4130" y="3286"/>
                  </a:lnTo>
                  <a:lnTo>
                    <a:pt x="4524" y="2198"/>
                  </a:lnTo>
                  <a:lnTo>
                    <a:pt x="5742" y="1242"/>
                  </a:lnTo>
                  <a:lnTo>
                    <a:pt x="6778" y="1985"/>
                  </a:lnTo>
                  <a:lnTo>
                    <a:pt x="7836" y="2994"/>
                  </a:lnTo>
                  <a:lnTo>
                    <a:pt x="8208" y="3286"/>
                  </a:lnTo>
                  <a:lnTo>
                    <a:pt x="8496" y="3286"/>
                  </a:lnTo>
                  <a:lnTo>
                    <a:pt x="7491" y="2330"/>
                  </a:lnTo>
                  <a:lnTo>
                    <a:pt x="6140" y="1057"/>
                  </a:lnTo>
                  <a:lnTo>
                    <a:pt x="6140" y="1057"/>
                  </a:lnTo>
                  <a:lnTo>
                    <a:pt x="6140" y="1057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560" y="201240"/>
              <a:ext cx="1080" cy="1080"/>
            </a:xfrm>
            <a:prstGeom prst="roundRect">
              <a:avLst>
                <a:gd name="adj" fmla="val 50000"/>
              </a:avLst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3640" y="207720"/>
              <a:ext cx="1080" cy="1080"/>
            </a:xfrm>
            <a:prstGeom prst="roundRect">
              <a:avLst>
                <a:gd name="adj" fmla="val 50000"/>
              </a:avLst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6397560"/>
              <a:ext cx="9141120" cy="456840"/>
            </a:xfrm>
            <a:custGeom>
              <a:avLst/>
              <a:gdLst/>
              <a:ahLst/>
              <a:rect l="l" t="t" r="r" b="b"/>
              <a:pathLst>
                <a:path w="25401" h="1272">
                  <a:moveTo>
                    <a:pt x="25400" y="1271"/>
                  </a:moveTo>
                  <a:lnTo>
                    <a:pt x="0" y="1271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271"/>
                  </a:lnTo>
                  <a:lnTo>
                    <a:pt x="25400" y="1271"/>
                  </a:lnTo>
                  <a:lnTo>
                    <a:pt x="25400" y="1271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6397560"/>
              <a:ext cx="9141120" cy="534600"/>
            </a:xfrm>
            <a:custGeom>
              <a:avLst/>
              <a:gdLst/>
              <a:ahLst/>
              <a:rect l="l" t="t" r="r" b="b"/>
              <a:pathLst>
                <a:path w="25401" h="1484">
                  <a:moveTo>
                    <a:pt x="25400" y="1483"/>
                  </a:moveTo>
                  <a:lnTo>
                    <a:pt x="0" y="1483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483"/>
                  </a:lnTo>
                  <a:lnTo>
                    <a:pt x="25400" y="1483"/>
                  </a:lnTo>
                  <a:lnTo>
                    <a:pt x="25400" y="1483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9141120" cy="456840"/>
            </a:xfrm>
            <a:custGeom>
              <a:avLst/>
              <a:gdLst/>
              <a:ahLst/>
              <a:rect l="l" t="t" r="r" b="b"/>
              <a:pathLst>
                <a:path w="25401" h="1272">
                  <a:moveTo>
                    <a:pt x="25400" y="1271"/>
                  </a:moveTo>
                  <a:lnTo>
                    <a:pt x="0" y="1271"/>
                  </a:lnTo>
                  <a:lnTo>
                    <a:pt x="0" y="0"/>
                  </a:lnTo>
                  <a:lnTo>
                    <a:pt x="25400" y="0"/>
                  </a:lnTo>
                  <a:lnTo>
                    <a:pt x="25400" y="1271"/>
                  </a:lnTo>
                  <a:lnTo>
                    <a:pt x="25400" y="1271"/>
                  </a:lnTo>
                  <a:lnTo>
                    <a:pt x="25400" y="1271"/>
                  </a:lnTo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7840" y="363240"/>
              <a:ext cx="5059080" cy="3211200"/>
            </a:xfrm>
            <a:custGeom>
              <a:avLst/>
              <a:gdLst/>
              <a:ahLst/>
              <a:rect l="l" t="t" r="r" b="b"/>
              <a:pathLst>
                <a:path w="14058" h="8926">
                  <a:moveTo>
                    <a:pt x="3814" y="6302"/>
                  </a:moveTo>
                  <a:lnTo>
                    <a:pt x="3841" y="6275"/>
                  </a:lnTo>
                  <a:lnTo>
                    <a:pt x="3920" y="6222"/>
                  </a:lnTo>
                  <a:lnTo>
                    <a:pt x="3999" y="6143"/>
                  </a:lnTo>
                  <a:lnTo>
                    <a:pt x="4132" y="6037"/>
                  </a:lnTo>
                  <a:lnTo>
                    <a:pt x="4370" y="5821"/>
                  </a:lnTo>
                  <a:lnTo>
                    <a:pt x="4476" y="5772"/>
                  </a:lnTo>
                  <a:lnTo>
                    <a:pt x="4555" y="5719"/>
                  </a:lnTo>
                  <a:lnTo>
                    <a:pt x="4661" y="5640"/>
                  </a:lnTo>
                  <a:lnTo>
                    <a:pt x="4789" y="5508"/>
                  </a:lnTo>
                  <a:lnTo>
                    <a:pt x="4899" y="5402"/>
                  </a:lnTo>
                  <a:lnTo>
                    <a:pt x="4952" y="5375"/>
                  </a:lnTo>
                  <a:lnTo>
                    <a:pt x="4952" y="5349"/>
                  </a:lnTo>
                  <a:lnTo>
                    <a:pt x="4661" y="5084"/>
                  </a:lnTo>
                  <a:lnTo>
                    <a:pt x="4317" y="4634"/>
                  </a:lnTo>
                  <a:lnTo>
                    <a:pt x="3867" y="4502"/>
                  </a:lnTo>
                  <a:lnTo>
                    <a:pt x="3020" y="4105"/>
                  </a:lnTo>
                  <a:lnTo>
                    <a:pt x="2888" y="3999"/>
                  </a:lnTo>
                  <a:lnTo>
                    <a:pt x="3179" y="3863"/>
                  </a:lnTo>
                  <a:lnTo>
                    <a:pt x="2888" y="3730"/>
                  </a:lnTo>
                  <a:lnTo>
                    <a:pt x="2698" y="3413"/>
                  </a:lnTo>
                  <a:lnTo>
                    <a:pt x="2835" y="3122"/>
                  </a:lnTo>
                  <a:lnTo>
                    <a:pt x="2645" y="2910"/>
                  </a:lnTo>
                  <a:lnTo>
                    <a:pt x="2434" y="2831"/>
                  </a:lnTo>
                  <a:lnTo>
                    <a:pt x="2328" y="2619"/>
                  </a:lnTo>
                  <a:lnTo>
                    <a:pt x="2249" y="2513"/>
                  </a:lnTo>
                  <a:lnTo>
                    <a:pt x="2434" y="2434"/>
                  </a:lnTo>
                  <a:lnTo>
                    <a:pt x="2809" y="2487"/>
                  </a:lnTo>
                  <a:lnTo>
                    <a:pt x="3179" y="2540"/>
                  </a:lnTo>
                  <a:lnTo>
                    <a:pt x="3364" y="2513"/>
                  </a:lnTo>
                  <a:lnTo>
                    <a:pt x="4105" y="3069"/>
                  </a:lnTo>
                  <a:lnTo>
                    <a:pt x="4811" y="3748"/>
                  </a:lnTo>
                  <a:lnTo>
                    <a:pt x="4731" y="3020"/>
                  </a:lnTo>
                  <a:lnTo>
                    <a:pt x="4449" y="2496"/>
                  </a:lnTo>
                  <a:lnTo>
                    <a:pt x="4167" y="1733"/>
                  </a:lnTo>
                  <a:lnTo>
                    <a:pt x="4648" y="1168"/>
                  </a:lnTo>
                  <a:lnTo>
                    <a:pt x="5014" y="198"/>
                  </a:lnTo>
                  <a:lnTo>
                    <a:pt x="5508" y="0"/>
                  </a:lnTo>
                  <a:lnTo>
                    <a:pt x="5900" y="604"/>
                  </a:lnTo>
                  <a:lnTo>
                    <a:pt x="6465" y="1287"/>
                  </a:lnTo>
                  <a:lnTo>
                    <a:pt x="6623" y="1812"/>
                  </a:lnTo>
                  <a:lnTo>
                    <a:pt x="6504" y="2416"/>
                  </a:lnTo>
                  <a:lnTo>
                    <a:pt x="5940" y="3386"/>
                  </a:lnTo>
                  <a:lnTo>
                    <a:pt x="6910" y="2778"/>
                  </a:lnTo>
                  <a:lnTo>
                    <a:pt x="7439" y="2037"/>
                  </a:lnTo>
                  <a:lnTo>
                    <a:pt x="7915" y="1609"/>
                  </a:lnTo>
                  <a:lnTo>
                    <a:pt x="8555" y="1054"/>
                  </a:lnTo>
                  <a:lnTo>
                    <a:pt x="9900" y="661"/>
                  </a:lnTo>
                  <a:lnTo>
                    <a:pt x="11015" y="608"/>
                  </a:lnTo>
                  <a:lnTo>
                    <a:pt x="11544" y="793"/>
                  </a:lnTo>
                  <a:lnTo>
                    <a:pt x="12413" y="608"/>
                  </a:lnTo>
                  <a:lnTo>
                    <a:pt x="13449" y="661"/>
                  </a:lnTo>
                  <a:lnTo>
                    <a:pt x="14005" y="740"/>
                  </a:lnTo>
                  <a:lnTo>
                    <a:pt x="13846" y="926"/>
                  </a:lnTo>
                  <a:lnTo>
                    <a:pt x="13740" y="846"/>
                  </a:lnTo>
                  <a:lnTo>
                    <a:pt x="13184" y="926"/>
                  </a:lnTo>
                  <a:lnTo>
                    <a:pt x="12814" y="1159"/>
                  </a:lnTo>
                  <a:lnTo>
                    <a:pt x="12496" y="1662"/>
                  </a:lnTo>
                  <a:lnTo>
                    <a:pt x="12205" y="2354"/>
                  </a:lnTo>
                  <a:lnTo>
                    <a:pt x="11914" y="2857"/>
                  </a:lnTo>
                  <a:lnTo>
                    <a:pt x="12073" y="3201"/>
                  </a:lnTo>
                  <a:lnTo>
                    <a:pt x="11385" y="3651"/>
                  </a:lnTo>
                  <a:lnTo>
                    <a:pt x="10776" y="4026"/>
                  </a:lnTo>
                  <a:lnTo>
                    <a:pt x="9851" y="4449"/>
                  </a:lnTo>
                  <a:lnTo>
                    <a:pt x="9243" y="4687"/>
                  </a:lnTo>
                  <a:lnTo>
                    <a:pt x="8656" y="4740"/>
                  </a:lnTo>
                  <a:lnTo>
                    <a:pt x="8974" y="4926"/>
                  </a:lnTo>
                  <a:lnTo>
                    <a:pt x="9953" y="4899"/>
                  </a:lnTo>
                  <a:lnTo>
                    <a:pt x="11222" y="5005"/>
                  </a:lnTo>
                  <a:lnTo>
                    <a:pt x="11464" y="5322"/>
                  </a:lnTo>
                  <a:lnTo>
                    <a:pt x="12020" y="5746"/>
                  </a:lnTo>
                  <a:lnTo>
                    <a:pt x="12761" y="6354"/>
                  </a:lnTo>
                  <a:lnTo>
                    <a:pt x="13158" y="6487"/>
                  </a:lnTo>
                  <a:lnTo>
                    <a:pt x="13766" y="6857"/>
                  </a:lnTo>
                  <a:lnTo>
                    <a:pt x="14057" y="6804"/>
                  </a:lnTo>
                  <a:lnTo>
                    <a:pt x="13370" y="6989"/>
                  </a:lnTo>
                  <a:lnTo>
                    <a:pt x="13343" y="6989"/>
                  </a:lnTo>
                  <a:lnTo>
                    <a:pt x="13264" y="7016"/>
                  </a:lnTo>
                  <a:lnTo>
                    <a:pt x="13158" y="7016"/>
                  </a:lnTo>
                  <a:lnTo>
                    <a:pt x="13052" y="7042"/>
                  </a:lnTo>
                  <a:lnTo>
                    <a:pt x="12814" y="7069"/>
                  </a:lnTo>
                  <a:lnTo>
                    <a:pt x="12708" y="7095"/>
                  </a:lnTo>
                  <a:lnTo>
                    <a:pt x="12629" y="7095"/>
                  </a:lnTo>
                  <a:lnTo>
                    <a:pt x="12549" y="7095"/>
                  </a:lnTo>
                  <a:lnTo>
                    <a:pt x="12470" y="7095"/>
                  </a:lnTo>
                  <a:lnTo>
                    <a:pt x="12232" y="7122"/>
                  </a:lnTo>
                  <a:lnTo>
                    <a:pt x="12126" y="7122"/>
                  </a:lnTo>
                  <a:lnTo>
                    <a:pt x="12020" y="7148"/>
                  </a:lnTo>
                  <a:lnTo>
                    <a:pt x="11967" y="7148"/>
                  </a:lnTo>
                  <a:lnTo>
                    <a:pt x="11941" y="7148"/>
                  </a:lnTo>
                  <a:lnTo>
                    <a:pt x="11491" y="7307"/>
                  </a:lnTo>
                  <a:lnTo>
                    <a:pt x="11438" y="7307"/>
                  </a:lnTo>
                  <a:lnTo>
                    <a:pt x="11328" y="7307"/>
                  </a:lnTo>
                  <a:lnTo>
                    <a:pt x="11169" y="7333"/>
                  </a:lnTo>
                  <a:lnTo>
                    <a:pt x="10962" y="7360"/>
                  </a:lnTo>
                  <a:lnTo>
                    <a:pt x="10776" y="7386"/>
                  </a:lnTo>
                  <a:lnTo>
                    <a:pt x="10618" y="7413"/>
                  </a:lnTo>
                  <a:lnTo>
                    <a:pt x="10485" y="7439"/>
                  </a:lnTo>
                  <a:lnTo>
                    <a:pt x="10434" y="7492"/>
                  </a:lnTo>
                  <a:lnTo>
                    <a:pt x="10407" y="7519"/>
                  </a:lnTo>
                  <a:lnTo>
                    <a:pt x="10328" y="7519"/>
                  </a:lnTo>
                  <a:lnTo>
                    <a:pt x="10164" y="7439"/>
                  </a:lnTo>
                  <a:lnTo>
                    <a:pt x="10032" y="7360"/>
                  </a:lnTo>
                  <a:lnTo>
                    <a:pt x="9979" y="7333"/>
                  </a:lnTo>
                  <a:lnTo>
                    <a:pt x="9953" y="7307"/>
                  </a:lnTo>
                  <a:lnTo>
                    <a:pt x="8894" y="6989"/>
                  </a:lnTo>
                  <a:lnTo>
                    <a:pt x="8131" y="6566"/>
                  </a:lnTo>
                  <a:lnTo>
                    <a:pt x="7545" y="6407"/>
                  </a:lnTo>
                  <a:lnTo>
                    <a:pt x="8184" y="7466"/>
                  </a:lnTo>
                  <a:lnTo>
                    <a:pt x="8290" y="8132"/>
                  </a:lnTo>
                  <a:lnTo>
                    <a:pt x="8184" y="8792"/>
                  </a:lnTo>
                  <a:lnTo>
                    <a:pt x="7810" y="8476"/>
                  </a:lnTo>
                  <a:lnTo>
                    <a:pt x="7126" y="7916"/>
                  </a:lnTo>
                  <a:lnTo>
                    <a:pt x="6751" y="7730"/>
                  </a:lnTo>
                  <a:lnTo>
                    <a:pt x="6539" y="7201"/>
                  </a:lnTo>
                  <a:lnTo>
                    <a:pt x="6222" y="6513"/>
                  </a:lnTo>
                  <a:lnTo>
                    <a:pt x="5988" y="6090"/>
                  </a:lnTo>
                  <a:lnTo>
                    <a:pt x="5375" y="5693"/>
                  </a:lnTo>
                  <a:lnTo>
                    <a:pt x="5058" y="5640"/>
                  </a:lnTo>
                  <a:lnTo>
                    <a:pt x="560" y="8845"/>
                  </a:lnTo>
                  <a:lnTo>
                    <a:pt x="0" y="8925"/>
                  </a:lnTo>
                  <a:lnTo>
                    <a:pt x="3814" y="6302"/>
                  </a:lnTo>
                  <a:lnTo>
                    <a:pt x="3814" y="6302"/>
                  </a:lnTo>
                  <a:lnTo>
                    <a:pt x="3814" y="6302"/>
                  </a:ln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000" y="464760"/>
              <a:ext cx="3402360" cy="2835360"/>
            </a:xfrm>
            <a:custGeom>
              <a:avLst/>
              <a:gdLst/>
              <a:ahLst/>
              <a:rect l="l" t="t" r="r" b="b"/>
              <a:pathLst>
                <a:path w="9455" h="7881">
                  <a:moveTo>
                    <a:pt x="1402" y="4754"/>
                  </a:moveTo>
                  <a:lnTo>
                    <a:pt x="956" y="4092"/>
                  </a:lnTo>
                  <a:lnTo>
                    <a:pt x="449" y="3563"/>
                  </a:lnTo>
                  <a:lnTo>
                    <a:pt x="158" y="3272"/>
                  </a:lnTo>
                  <a:lnTo>
                    <a:pt x="0" y="3087"/>
                  </a:lnTo>
                  <a:lnTo>
                    <a:pt x="1190" y="4224"/>
                  </a:lnTo>
                  <a:lnTo>
                    <a:pt x="1296" y="4436"/>
                  </a:lnTo>
                  <a:lnTo>
                    <a:pt x="1618" y="2954"/>
                  </a:lnTo>
                  <a:lnTo>
                    <a:pt x="1671" y="1812"/>
                  </a:lnTo>
                  <a:lnTo>
                    <a:pt x="1530" y="520"/>
                  </a:lnTo>
                  <a:lnTo>
                    <a:pt x="1733" y="0"/>
                  </a:lnTo>
                  <a:lnTo>
                    <a:pt x="1750" y="1574"/>
                  </a:lnTo>
                  <a:lnTo>
                    <a:pt x="1856" y="2685"/>
                  </a:lnTo>
                  <a:lnTo>
                    <a:pt x="1697" y="3642"/>
                  </a:lnTo>
                  <a:lnTo>
                    <a:pt x="1697" y="4568"/>
                  </a:lnTo>
                  <a:lnTo>
                    <a:pt x="3867" y="3457"/>
                  </a:lnTo>
                  <a:lnTo>
                    <a:pt x="5772" y="2447"/>
                  </a:lnTo>
                  <a:lnTo>
                    <a:pt x="7945" y="1098"/>
                  </a:lnTo>
                  <a:lnTo>
                    <a:pt x="9242" y="304"/>
                  </a:lnTo>
                  <a:lnTo>
                    <a:pt x="7998" y="1230"/>
                  </a:lnTo>
                  <a:lnTo>
                    <a:pt x="6407" y="2209"/>
                  </a:lnTo>
                  <a:lnTo>
                    <a:pt x="4952" y="3087"/>
                  </a:lnTo>
                  <a:lnTo>
                    <a:pt x="3258" y="3960"/>
                  </a:lnTo>
                  <a:lnTo>
                    <a:pt x="2041" y="4780"/>
                  </a:lnTo>
                  <a:lnTo>
                    <a:pt x="3602" y="5261"/>
                  </a:lnTo>
                  <a:lnTo>
                    <a:pt x="5666" y="5234"/>
                  </a:lnTo>
                  <a:lnTo>
                    <a:pt x="8448" y="6156"/>
                  </a:lnTo>
                  <a:lnTo>
                    <a:pt x="9454" y="6262"/>
                  </a:lnTo>
                  <a:lnTo>
                    <a:pt x="7998" y="6209"/>
                  </a:lnTo>
                  <a:lnTo>
                    <a:pt x="6328" y="5680"/>
                  </a:lnTo>
                  <a:lnTo>
                    <a:pt x="5375" y="5420"/>
                  </a:lnTo>
                  <a:lnTo>
                    <a:pt x="3523" y="5393"/>
                  </a:lnTo>
                  <a:lnTo>
                    <a:pt x="2227" y="5049"/>
                  </a:lnTo>
                  <a:lnTo>
                    <a:pt x="3232" y="6077"/>
                  </a:lnTo>
                  <a:lnTo>
                    <a:pt x="3867" y="7140"/>
                  </a:lnTo>
                  <a:lnTo>
                    <a:pt x="4449" y="7880"/>
                  </a:lnTo>
                  <a:lnTo>
                    <a:pt x="3602" y="7087"/>
                  </a:lnTo>
                  <a:lnTo>
                    <a:pt x="2967" y="6050"/>
                  </a:lnTo>
                  <a:lnTo>
                    <a:pt x="1830" y="4890"/>
                  </a:lnTo>
                  <a:lnTo>
                    <a:pt x="1402" y="4754"/>
                  </a:lnTo>
                  <a:lnTo>
                    <a:pt x="1402" y="4754"/>
                  </a:lnTo>
                  <a:lnTo>
                    <a:pt x="1402" y="4754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52640" y="2741760"/>
              <a:ext cx="4489560" cy="3754080"/>
            </a:xfrm>
            <a:custGeom>
              <a:avLst/>
              <a:gdLst/>
              <a:ahLst/>
              <a:rect l="l" t="t" r="r" b="b"/>
              <a:pathLst>
                <a:path w="12473" h="10434">
                  <a:moveTo>
                    <a:pt x="8846" y="3681"/>
                  </a:moveTo>
                  <a:lnTo>
                    <a:pt x="8260" y="3152"/>
                  </a:lnTo>
                  <a:lnTo>
                    <a:pt x="8000" y="2671"/>
                  </a:lnTo>
                  <a:lnTo>
                    <a:pt x="7704" y="1931"/>
                  </a:lnTo>
                  <a:lnTo>
                    <a:pt x="7492" y="1375"/>
                  </a:lnTo>
                  <a:lnTo>
                    <a:pt x="7122" y="1111"/>
                  </a:lnTo>
                  <a:lnTo>
                    <a:pt x="6407" y="370"/>
                  </a:lnTo>
                  <a:lnTo>
                    <a:pt x="6064" y="0"/>
                  </a:lnTo>
                  <a:lnTo>
                    <a:pt x="5931" y="582"/>
                  </a:lnTo>
                  <a:lnTo>
                    <a:pt x="6037" y="1296"/>
                  </a:lnTo>
                  <a:lnTo>
                    <a:pt x="6672" y="2459"/>
                  </a:lnTo>
                  <a:lnTo>
                    <a:pt x="6090" y="2168"/>
                  </a:lnTo>
                  <a:lnTo>
                    <a:pt x="5296" y="1587"/>
                  </a:lnTo>
                  <a:lnTo>
                    <a:pt x="4238" y="1001"/>
                  </a:lnTo>
                  <a:lnTo>
                    <a:pt x="4211" y="974"/>
                  </a:lnTo>
                  <a:lnTo>
                    <a:pt x="4185" y="948"/>
                  </a:lnTo>
                  <a:lnTo>
                    <a:pt x="4026" y="815"/>
                  </a:lnTo>
                  <a:lnTo>
                    <a:pt x="3867" y="710"/>
                  </a:lnTo>
                  <a:lnTo>
                    <a:pt x="3788" y="687"/>
                  </a:lnTo>
                  <a:lnTo>
                    <a:pt x="3761" y="710"/>
                  </a:lnTo>
                  <a:lnTo>
                    <a:pt x="3708" y="736"/>
                  </a:lnTo>
                  <a:lnTo>
                    <a:pt x="3572" y="762"/>
                  </a:lnTo>
                  <a:lnTo>
                    <a:pt x="3387" y="736"/>
                  </a:lnTo>
                  <a:lnTo>
                    <a:pt x="3175" y="710"/>
                  </a:lnTo>
                  <a:lnTo>
                    <a:pt x="2990" y="687"/>
                  </a:lnTo>
                  <a:lnTo>
                    <a:pt x="2809" y="661"/>
                  </a:lnTo>
                  <a:lnTo>
                    <a:pt x="2703" y="635"/>
                  </a:lnTo>
                  <a:lnTo>
                    <a:pt x="2650" y="635"/>
                  </a:lnTo>
                  <a:lnTo>
                    <a:pt x="2196" y="710"/>
                  </a:lnTo>
                  <a:lnTo>
                    <a:pt x="2169" y="710"/>
                  </a:lnTo>
                  <a:lnTo>
                    <a:pt x="2116" y="687"/>
                  </a:lnTo>
                  <a:lnTo>
                    <a:pt x="2011" y="687"/>
                  </a:lnTo>
                  <a:lnTo>
                    <a:pt x="1905" y="661"/>
                  </a:lnTo>
                  <a:lnTo>
                    <a:pt x="1671" y="635"/>
                  </a:lnTo>
                  <a:lnTo>
                    <a:pt x="1592" y="608"/>
                  </a:lnTo>
                  <a:lnTo>
                    <a:pt x="1508" y="608"/>
                  </a:lnTo>
                  <a:lnTo>
                    <a:pt x="1428" y="608"/>
                  </a:lnTo>
                  <a:lnTo>
                    <a:pt x="1323" y="582"/>
                  </a:lnTo>
                  <a:lnTo>
                    <a:pt x="1084" y="555"/>
                  </a:lnTo>
                  <a:lnTo>
                    <a:pt x="952" y="529"/>
                  </a:lnTo>
                  <a:lnTo>
                    <a:pt x="846" y="529"/>
                  </a:lnTo>
                  <a:lnTo>
                    <a:pt x="767" y="502"/>
                  </a:lnTo>
                  <a:lnTo>
                    <a:pt x="740" y="502"/>
                  </a:lnTo>
                  <a:lnTo>
                    <a:pt x="26" y="529"/>
                  </a:lnTo>
                  <a:lnTo>
                    <a:pt x="952" y="1058"/>
                  </a:lnTo>
                  <a:lnTo>
                    <a:pt x="1349" y="1296"/>
                  </a:lnTo>
                  <a:lnTo>
                    <a:pt x="2116" y="2036"/>
                  </a:lnTo>
                  <a:lnTo>
                    <a:pt x="2676" y="2592"/>
                  </a:lnTo>
                  <a:lnTo>
                    <a:pt x="2888" y="2962"/>
                  </a:lnTo>
                  <a:lnTo>
                    <a:pt x="4185" y="3390"/>
                  </a:lnTo>
                  <a:lnTo>
                    <a:pt x="5190" y="3601"/>
                  </a:lnTo>
                  <a:lnTo>
                    <a:pt x="5508" y="3840"/>
                  </a:lnTo>
                  <a:lnTo>
                    <a:pt x="4926" y="3760"/>
                  </a:lnTo>
                  <a:lnTo>
                    <a:pt x="4286" y="3840"/>
                  </a:lnTo>
                  <a:lnTo>
                    <a:pt x="3334" y="4051"/>
                  </a:lnTo>
                  <a:lnTo>
                    <a:pt x="2729" y="4236"/>
                  </a:lnTo>
                  <a:lnTo>
                    <a:pt x="2169" y="4898"/>
                  </a:lnTo>
                  <a:lnTo>
                    <a:pt x="1852" y="5352"/>
                  </a:lnTo>
                  <a:lnTo>
                    <a:pt x="1534" y="5930"/>
                  </a:lnTo>
                  <a:lnTo>
                    <a:pt x="1217" y="6353"/>
                  </a:lnTo>
                  <a:lnTo>
                    <a:pt x="846" y="6486"/>
                  </a:lnTo>
                  <a:lnTo>
                    <a:pt x="291" y="6459"/>
                  </a:lnTo>
                  <a:lnTo>
                    <a:pt x="185" y="6353"/>
                  </a:lnTo>
                  <a:lnTo>
                    <a:pt x="0" y="6486"/>
                  </a:lnTo>
                  <a:lnTo>
                    <a:pt x="555" y="6697"/>
                  </a:lnTo>
                  <a:lnTo>
                    <a:pt x="1618" y="6988"/>
                  </a:lnTo>
                  <a:lnTo>
                    <a:pt x="2513" y="7015"/>
                  </a:lnTo>
                  <a:lnTo>
                    <a:pt x="3043" y="7337"/>
                  </a:lnTo>
                  <a:lnTo>
                    <a:pt x="4185" y="7548"/>
                  </a:lnTo>
                  <a:lnTo>
                    <a:pt x="5556" y="7469"/>
                  </a:lnTo>
                  <a:lnTo>
                    <a:pt x="6222" y="7068"/>
                  </a:lnTo>
                  <a:lnTo>
                    <a:pt x="6699" y="6777"/>
                  </a:lnTo>
                  <a:lnTo>
                    <a:pt x="7254" y="6168"/>
                  </a:lnTo>
                  <a:lnTo>
                    <a:pt x="7492" y="6115"/>
                  </a:lnTo>
                  <a:lnTo>
                    <a:pt x="7651" y="6671"/>
                  </a:lnTo>
                  <a:lnTo>
                    <a:pt x="7625" y="6909"/>
                  </a:lnTo>
                  <a:lnTo>
                    <a:pt x="7598" y="7363"/>
                  </a:lnTo>
                  <a:lnTo>
                    <a:pt x="7598" y="7945"/>
                  </a:lnTo>
                  <a:lnTo>
                    <a:pt x="8075" y="8660"/>
                  </a:lnTo>
                  <a:lnTo>
                    <a:pt x="8630" y="9215"/>
                  </a:lnTo>
                  <a:lnTo>
                    <a:pt x="9005" y="9828"/>
                  </a:lnTo>
                  <a:lnTo>
                    <a:pt x="9503" y="10433"/>
                  </a:lnTo>
                  <a:lnTo>
                    <a:pt x="9530" y="10119"/>
                  </a:lnTo>
                  <a:lnTo>
                    <a:pt x="9662" y="9405"/>
                  </a:lnTo>
                  <a:lnTo>
                    <a:pt x="9768" y="9030"/>
                  </a:lnTo>
                  <a:lnTo>
                    <a:pt x="9958" y="9004"/>
                  </a:lnTo>
                  <a:lnTo>
                    <a:pt x="10011" y="8686"/>
                  </a:lnTo>
                  <a:lnTo>
                    <a:pt x="10328" y="8236"/>
                  </a:lnTo>
                  <a:lnTo>
                    <a:pt x="10249" y="7707"/>
                  </a:lnTo>
                  <a:lnTo>
                    <a:pt x="9847" y="6935"/>
                  </a:lnTo>
                  <a:lnTo>
                    <a:pt x="9742" y="6406"/>
                  </a:lnTo>
                  <a:lnTo>
                    <a:pt x="9742" y="5930"/>
                  </a:lnTo>
                  <a:lnTo>
                    <a:pt x="10116" y="6538"/>
                  </a:lnTo>
                  <a:lnTo>
                    <a:pt x="10853" y="7279"/>
                  </a:lnTo>
                  <a:lnTo>
                    <a:pt x="11043" y="7279"/>
                  </a:lnTo>
                  <a:lnTo>
                    <a:pt x="11413" y="7443"/>
                  </a:lnTo>
                  <a:lnTo>
                    <a:pt x="11810" y="7575"/>
                  </a:lnTo>
                  <a:lnTo>
                    <a:pt x="11995" y="7548"/>
                  </a:lnTo>
                  <a:lnTo>
                    <a:pt x="11885" y="7416"/>
                  </a:lnTo>
                  <a:lnTo>
                    <a:pt x="11810" y="7174"/>
                  </a:lnTo>
                  <a:lnTo>
                    <a:pt x="11598" y="7041"/>
                  </a:lnTo>
                  <a:lnTo>
                    <a:pt x="11413" y="6803"/>
                  </a:lnTo>
                  <a:lnTo>
                    <a:pt x="11545" y="6538"/>
                  </a:lnTo>
                  <a:lnTo>
                    <a:pt x="11360" y="6168"/>
                  </a:lnTo>
                  <a:lnTo>
                    <a:pt x="11069" y="5983"/>
                  </a:lnTo>
                  <a:lnTo>
                    <a:pt x="11360" y="5956"/>
                  </a:lnTo>
                  <a:lnTo>
                    <a:pt x="11254" y="5798"/>
                  </a:lnTo>
                  <a:lnTo>
                    <a:pt x="10381" y="5220"/>
                  </a:lnTo>
                  <a:lnTo>
                    <a:pt x="9931" y="4951"/>
                  </a:lnTo>
                  <a:lnTo>
                    <a:pt x="9583" y="4448"/>
                  </a:lnTo>
                  <a:lnTo>
                    <a:pt x="9270" y="4104"/>
                  </a:lnTo>
                  <a:lnTo>
                    <a:pt x="9296" y="4104"/>
                  </a:lnTo>
                  <a:lnTo>
                    <a:pt x="9323" y="4078"/>
                  </a:lnTo>
                  <a:lnTo>
                    <a:pt x="9424" y="3998"/>
                  </a:lnTo>
                  <a:lnTo>
                    <a:pt x="9556" y="3893"/>
                  </a:lnTo>
                  <a:lnTo>
                    <a:pt x="9689" y="3866"/>
                  </a:lnTo>
                  <a:lnTo>
                    <a:pt x="9768" y="3840"/>
                  </a:lnTo>
                  <a:lnTo>
                    <a:pt x="9878" y="3787"/>
                  </a:lnTo>
                  <a:lnTo>
                    <a:pt x="10143" y="3654"/>
                  </a:lnTo>
                  <a:lnTo>
                    <a:pt x="10249" y="3601"/>
                  </a:lnTo>
                  <a:lnTo>
                    <a:pt x="10355" y="3522"/>
                  </a:lnTo>
                  <a:lnTo>
                    <a:pt x="10434" y="3496"/>
                  </a:lnTo>
                  <a:lnTo>
                    <a:pt x="10460" y="3469"/>
                  </a:lnTo>
                  <a:lnTo>
                    <a:pt x="12472" y="2592"/>
                  </a:lnTo>
                  <a:lnTo>
                    <a:pt x="12472" y="2327"/>
                  </a:lnTo>
                  <a:lnTo>
                    <a:pt x="9164" y="3813"/>
                  </a:lnTo>
                  <a:lnTo>
                    <a:pt x="8846" y="3681"/>
                  </a:lnTo>
                  <a:lnTo>
                    <a:pt x="8846" y="3681"/>
                  </a:lnTo>
                  <a:lnTo>
                    <a:pt x="8846" y="3681"/>
                  </a:lnTo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4800" y="2951280"/>
              <a:ext cx="3430800" cy="3068640"/>
            </a:xfrm>
            <a:custGeom>
              <a:avLst/>
              <a:gdLst/>
              <a:ahLst/>
              <a:rect l="l" t="t" r="r" b="b"/>
              <a:pathLst>
                <a:path w="9536" h="8529">
                  <a:moveTo>
                    <a:pt x="8157" y="3759"/>
                  </a:moveTo>
                  <a:lnTo>
                    <a:pt x="8578" y="4502"/>
                  </a:lnTo>
                  <a:lnTo>
                    <a:pt x="9083" y="5160"/>
                  </a:lnTo>
                  <a:lnTo>
                    <a:pt x="9375" y="5505"/>
                  </a:lnTo>
                  <a:lnTo>
                    <a:pt x="9535" y="5717"/>
                  </a:lnTo>
                  <a:lnTo>
                    <a:pt x="8365" y="4316"/>
                  </a:lnTo>
                  <a:lnTo>
                    <a:pt x="8237" y="4104"/>
                  </a:lnTo>
                  <a:lnTo>
                    <a:pt x="7891" y="5478"/>
                  </a:lnTo>
                  <a:lnTo>
                    <a:pt x="7838" y="6565"/>
                  </a:lnTo>
                  <a:lnTo>
                    <a:pt x="8051" y="8421"/>
                  </a:lnTo>
                  <a:lnTo>
                    <a:pt x="7918" y="8528"/>
                  </a:lnTo>
                  <a:lnTo>
                    <a:pt x="7732" y="6778"/>
                  </a:lnTo>
                  <a:lnTo>
                    <a:pt x="7652" y="5690"/>
                  </a:lnTo>
                  <a:lnTo>
                    <a:pt x="7812" y="4793"/>
                  </a:lnTo>
                  <a:lnTo>
                    <a:pt x="7838" y="3865"/>
                  </a:lnTo>
                  <a:lnTo>
                    <a:pt x="5615" y="4449"/>
                  </a:lnTo>
                  <a:lnTo>
                    <a:pt x="3653" y="5001"/>
                  </a:lnTo>
                  <a:lnTo>
                    <a:pt x="1430" y="5796"/>
                  </a:lnTo>
                  <a:lnTo>
                    <a:pt x="79" y="6274"/>
                  </a:lnTo>
                  <a:lnTo>
                    <a:pt x="1377" y="5664"/>
                  </a:lnTo>
                  <a:lnTo>
                    <a:pt x="3020" y="5054"/>
                  </a:lnTo>
                  <a:lnTo>
                    <a:pt x="4526" y="4581"/>
                  </a:lnTo>
                  <a:lnTo>
                    <a:pt x="6248" y="4104"/>
                  </a:lnTo>
                  <a:lnTo>
                    <a:pt x="7493" y="3600"/>
                  </a:lnTo>
                  <a:lnTo>
                    <a:pt x="5903" y="2752"/>
                  </a:lnTo>
                  <a:lnTo>
                    <a:pt x="3813" y="2274"/>
                  </a:lnTo>
                  <a:lnTo>
                    <a:pt x="1005" y="711"/>
                  </a:lnTo>
                  <a:lnTo>
                    <a:pt x="0" y="366"/>
                  </a:lnTo>
                  <a:lnTo>
                    <a:pt x="1457" y="791"/>
                  </a:lnTo>
                  <a:lnTo>
                    <a:pt x="3153" y="1691"/>
                  </a:lnTo>
                  <a:lnTo>
                    <a:pt x="4131" y="2168"/>
                  </a:lnTo>
                  <a:lnTo>
                    <a:pt x="5983" y="2619"/>
                  </a:lnTo>
                  <a:lnTo>
                    <a:pt x="7307" y="3282"/>
                  </a:lnTo>
                  <a:lnTo>
                    <a:pt x="6302" y="2036"/>
                  </a:lnTo>
                  <a:lnTo>
                    <a:pt x="5695" y="844"/>
                  </a:lnTo>
                  <a:lnTo>
                    <a:pt x="5110" y="0"/>
                  </a:lnTo>
                  <a:lnTo>
                    <a:pt x="5930" y="950"/>
                  </a:lnTo>
                  <a:lnTo>
                    <a:pt x="6594" y="2142"/>
                  </a:lnTo>
                  <a:lnTo>
                    <a:pt x="7732" y="3547"/>
                  </a:lnTo>
                  <a:lnTo>
                    <a:pt x="8157" y="3759"/>
                  </a:lnTo>
                  <a:lnTo>
                    <a:pt x="8157" y="3759"/>
                  </a:lnTo>
                  <a:lnTo>
                    <a:pt x="8157" y="3759"/>
                  </a:ln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73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4 Razões para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não reclamar da VID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998720" y="0"/>
            <a:ext cx="5145120" cy="6856560"/>
            <a:chOff x="1998720" y="0"/>
            <a:chExt cx="5145120" cy="6856560"/>
          </a:xfrm>
        </p:grpSpPr>
        <p:sp>
          <p:nvSpPr>
            <p:cNvPr id="116" name=""/>
            <p:cNvSpPr/>
            <p:nvPr/>
          </p:nvSpPr>
          <p:spPr>
            <a:xfrm>
              <a:off x="1998720" y="0"/>
              <a:ext cx="5145120" cy="6856560"/>
            </a:xfrm>
            <a:custGeom>
              <a:avLst/>
              <a:gdLst>
                <a:gd name="textAreaLeft" fmla="*/ 360 w 5145120"/>
                <a:gd name="textAreaRight" fmla="*/ 5144760 w 5145120"/>
                <a:gd name="textAreaTop" fmla="*/ 360 h 6856560"/>
                <a:gd name="textAreaBottom" fmla="*/ 6856200 h 6856560"/>
              </a:gdLst>
              <a:ahLst/>
              <a:rect l="textAreaLeft" t="textAreaTop" r="textAreaRight" b="textAreaBottom"/>
              <a:pathLst>
                <a:path w="21600" h="28784">
                  <a:moveTo>
                    <a:pt x="6" y="0"/>
                  </a:moveTo>
                  <a:arcTo wR="6" hR="6" stAng="16200000" swAng="-5400000"/>
                  <a:lnTo>
                    <a:pt x="0" y="28778"/>
                  </a:lnTo>
                  <a:arcTo wR="6" hR="6" stAng="10800000" swAng="-5400000"/>
                  <a:lnTo>
                    <a:pt x="21594" y="28784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998720" y="0"/>
              <a:ext cx="5145120" cy="685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8280" y="465120"/>
            <a:ext cx="786744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1040" y="112392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eec94"/>
                </a:solidFill>
                <a:latin typeface="Times New Roman"/>
              </a:rPr>
              <a:t>Conformado?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lávio Antonio Galeazzi</cp:lastModifiedBy>
  <dcterms:modified xsi:type="dcterms:W3CDTF">2005-10-21T19:27:35Z</dcterms:modified>
  <cp:revision>1</cp:revision>
  <dc:subject/>
  <dc:title>4 Razões para  não reclamar da VIDA</dc:title>
</cp:coreProperties>
</file>