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FlordeSedaToque_no_Altar_-_Deus_de_Promessa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49D-0678-4F71-BC42-09D34C44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855-4369-4E62-8E8F-D74C8A0B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48F-8C6B-471E-B424-D9B07E7F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665-2E2A-454D-8E2D-16D0E219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65F-422D-46B1-86A5-76DB073D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280-2712-48A6-A962-E91FCA90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8A7-8F33-4DDD-8233-DA5D25A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C3B-EA21-4BF2-A168-B13B4A91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839-2D85-43B5-9C31-2F9F908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047-4D0F-4194-B3CC-63E631B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BF1-794E-4564-9B6F-BE88C5A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36D-0536-4649-9BB9-7BC0022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AFBC-329C-4258-850C-9A080092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FlordeSedaToque_no_Altar_-_Deus_de_Promessas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95640" y="2924280"/>
            <a:ext cx="5329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enção em nom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 JESU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2997360"/>
            <a:ext cx="2286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^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85000">
    <p:checker dir="horz"/>
    <p:sndAc>
      <p:stSnd>
        <p:snd r:embed="rId4" name="FlordeSedaToque_no_Altar_-_Deus_de_Promessa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99760" y="393372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i, em nome de Jesus, eu te peç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bençoe esta pessoa com toda sort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ênçãos, seja na área física, espiritu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jugal, familiar, financeir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29560" y="3963960"/>
            <a:ext cx="62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 o inimigo estiver tramando alg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trapalhar seus planos e sonhos; n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ora eu te peço que seja desfeito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l, em nome de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4560" y="4324320"/>
            <a:ext cx="628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nvia anjos ao redor desta vida,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as mãos dela a sua vitória; para que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u nome seja glorificado atrav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sta 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17760" y="4025880"/>
            <a:ext cx="639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 tu concordas e recebes esta oraçã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ração, f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mém, eu recebo em nome de Jes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-243000"/>
            <a:ext cx="9144000" cy="7417080"/>
          </a:xfrm>
          <a:prstGeom prst="donut">
            <a:avLst>
              <a:gd name="adj" fmla="val 9930"/>
            </a:avLst>
          </a:prstGeom>
          <a:blipFill rotWithShape="0">
            <a:blip r:embed="rId2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3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05160" y="3429000"/>
            <a:ext cx="613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se para outras pessoas, 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ambém sejam abençoadas, e envi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olta a quem te enviou. E ass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ormaremos uma corrente de bênçã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través dessas páginas e o nom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nhor Jesus s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lorificad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093000"/>
            <a:ext cx="212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00360" y="2852640"/>
            <a:ext cx="432576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rmatação : Tiva Seixa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úsica : Toque no Altar -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     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us das promessa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97360" y="5373720"/>
            <a:ext cx="1347840" cy="98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-279360"/>
            <a:ext cx="9144000" cy="7416720"/>
          </a:xfrm>
          <a:prstGeom prst="donut">
            <a:avLst>
              <a:gd name="adj" fmla="val 9930"/>
            </a:avLst>
          </a:prstGeom>
          <a:blipFill rotWithShape="0">
            <a:blip r:embed="rId3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81080" y="0"/>
            <a:ext cx="9325080" cy="7029360"/>
          </a:xfrm>
          <a:prstGeom prst="rect">
            <a:avLst/>
          </a:prstGeom>
          <a:blipFill rotWithShape="0">
            <a:blip r:embed="rId4">
              <a:alphaModFix amt="5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2:06:15Z</dcterms:created>
  <dc:creator>Altiva</dc:creator>
  <dc:description/>
  <dc:language>en-US</dc:language>
  <cp:lastModifiedBy>Altiva</cp:lastModifiedBy>
  <dcterms:modified xsi:type="dcterms:W3CDTF">2008-11-19T02:45:56Z</dcterms:modified>
  <cp:revision>2</cp:revision>
  <dc:subject/>
  <dc:title>Slide 1</dc:title>
</cp:coreProperties>
</file>