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sound001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B55-11B1-4685-A89E-435230D8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EC4-22A1-4C29-BFFD-F7F4EE9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0B1-23BA-44A6-897C-CA87DDC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75E-70D9-40F8-967A-501D2391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E53F-5BE8-427D-9FC2-3EC3D956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00B-3F44-4E08-B75D-8BB09D0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3BB-5A99-4A33-8D22-C1D8C9BC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40D-2EF0-452D-B6A1-681D5D6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9C29-9BEA-4624-997F-98D89EC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2E6A-3F05-442E-B26B-A2FCEB4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EA2-71B4-414F-AF98-0A721F1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3E0-8EB3-4AC1-9824-0CFE9C7B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4F51-ADF3-4BE6-B4EF-7977373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B4B-6A82-4CB9-B714-CED1BF5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12DB-FEC5-4E4D-9B27-94FBFEF0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E1E-BD8F-4BDC-B752-D6DC0E65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5831-E381-4DAF-897E-8DD5C0E6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EBE-4383-4BF8-B22A-CB9E4B33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926-F69A-40D7-83A6-F729D102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543-0567-4611-BA9D-27A3B2A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E36-C151-410D-A9A8-179A3198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2ED-E69C-4E29-833A-78E05311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0EB-6792-494C-990A-A43D057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118-043B-4E55-AAA1-85BFB47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1D0-47A2-46D5-ABB0-8745AEF957A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082-87E6-4C33-A5E6-F58FB3120F2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0600" y="1678320"/>
            <a:ext cx="8004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JA MAIS CARINHOSO DO QUE 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SÁRIO, POIS TODOS QUE VOC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HECE ESTÃO DE ALGUMA 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RENTANDO UMA BATALH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MA LÍNGUA AFIADA PODE COR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PRÓPRIA GARGAN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8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92600" y="2649960"/>
            <a:ext cx="678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GO QUE POSSO OFERECER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INDA POSSUIR...MIN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ÓPRIAS PALAV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47800" y="762120"/>
            <a:ext cx="744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520720"/>
            <a:ext cx="666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NTIMOS MAIS ALTO QU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NTIMOS PARA NÓS MES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48942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66800" y="2570760"/>
            <a:ext cx="56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NÃO TENHO CORAG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COMEÇ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ÃO JÁ ACAB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380880"/>
            <a:ext cx="460872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24000" y="253404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MA COISA QUE NÃO SE P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CICLAR É T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D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51850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1640" y="2327040"/>
            <a:ext cx="585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SSA M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É COMO UM PÁRA-QUED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Ó FUNCIONA ABER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7067880" cy="561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68630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5360" y="1680120"/>
            <a:ext cx="6488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VIDA É MUITO CURTA PA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ARREP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ÃO, AME AS PESSOAS 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 TRATAM B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QUECE AS QUE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 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48052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4800" y="1045800"/>
            <a:ext cx="790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CREDITE QUE TUDO ACONTECE P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MA RAZ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TIVER UMA SEGUNDA CHA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GARRE-A COM AS DUAS MÃ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INGUÉM DISSE QUE A VIDA S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ÁCIL, SÓ QUE VALE A P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71992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0" y="1365480"/>
            <a:ext cx="79074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S AMIGOS SÃO COMO BALÕ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VOCÊ OS DEIXAR IR,TALV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UNCA MAIS VÁ TÊ-LOS DE VOL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ÀS VEZES NOS OCUPAMOS COM NOSSAS PRÓPRIAS VIDAS QUE NÃO NOTAMOS QUE OS DEIXAMOS IR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85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4800" y="1965960"/>
            <a:ext cx="790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ÀS VEZES NOS PREOCUPAMOS 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M ESTÁ CERTO OU ERRADO, QUE ESQUECEMOS O QUE É CER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 ERRAD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7080" y="380880"/>
            <a:ext cx="762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4800" y="1078200"/>
            <a:ext cx="7907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ÀS VEZES NOS ESQUECEMOS O QUE É AMIZADE ATÉ QUE SEJA TARDE DEMA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 EU NÃO QUERO QUE ISSO ACONTEÇA CONOSCO, ENTÃO VOU AMARRAR VOCÊ NO MEU CORAÇÃO ASSIM EU NUNCA VOU TE PERDER.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2600" y="2649960"/>
            <a:ext cx="734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EU QUISER QUE MEUS SONH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REALIZ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ÃO POSSO DORMIR DEM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41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8472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71640" y="175320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NDE ESSA MENSAGEM P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ODOS OS SEUS AMIG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ESMO PARA OS BALÕES QUE J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OARAM PRA LO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VOCÊ VAI SE SURPRE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QUANTOS VÃO RETOR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709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8000" y="2649960"/>
            <a:ext cx="67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TODAS AS COISAS QUE U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NHA EXPRESS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É A MAIS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101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0400" y="2649960"/>
            <a:ext cx="72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MINHA FELICIDADE DEPENDE 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ALIDADE DOS ME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NS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74311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05880" y="2649960"/>
            <a:ext cx="592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COISA MAIS PESADA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RREGAMOS É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NGANÇ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3:45:58Z</dcterms:created>
  <dc:creator>Andre</dc:creator>
  <dc:description/>
  <dc:language>en-US</dc:language>
  <cp:lastModifiedBy>Andre</cp:lastModifiedBy>
  <dcterms:modified xsi:type="dcterms:W3CDTF">2008-05-30T13:52:03Z</dcterms:modified>
  <cp:revision>6</cp:revision>
  <dc:subject/>
  <dc:title>Slide 1</dc:title>
</cp:coreProperties>
</file>