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F5E-8D08-426E-AF8F-A05FCF9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CA4-6BB5-4FA8-9C29-43582052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9A9-AE20-4E34-B2D1-F0D25E29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CBB-4656-4FD7-81B2-5C3A5247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9CD-0691-4F24-ADF8-A707FEE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E28-01BD-4033-82FC-37B3FE8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3A8-33FB-4728-A16D-6BE87C7D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70D-E207-4C60-BABA-9DD4DA88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FAB-4E77-4E08-A969-97A2E21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BAE-E674-45D8-87DA-B00D88E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BC0-8279-4A56-9801-D88FF6F9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2B7-CA02-4ACD-99A3-4FA70FC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87F6-C2B1-4052-8AB7-0CEC885CA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20 de Setembro </a:t>
            </a:r>
            <a:br>
              <a:rPr sz="7200"/>
            </a:br>
            <a:br>
              <a:rPr sz="7200"/>
            </a:b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 Dia do Gaúcho</a:t>
            </a:r>
            <a:br>
              <a:rPr sz="7200"/>
            </a:br>
            <a:br>
              <a:rPr sz="7200"/>
            </a:b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Parabé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uchu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aucho0005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aúcho caç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ucho_caçador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0817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62160" y="1690560"/>
            <a:ext cx="4819680" cy="347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neira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úcho para assar e c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5080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ão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5450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ão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263600"/>
            <a:ext cx="53337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sta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128592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boneteira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619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15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pador de pára-brisas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165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15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orro quente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2600" y="1341360"/>
            <a:ext cx="69897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aúcho Lenh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aucho_Lenhador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572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15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o de Saúde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392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15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ologista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29320" cy="552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28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66"/>
                </a:solidFill>
                <a:latin typeface="Times New Roman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ato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ato%20de%20Gacho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3532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icicleta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aucho_Bichacleta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3989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âmbio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aucho_cambio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030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erruptor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aucho_Interruptor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6575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ro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aucho_KA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116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Notebook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aucho_Notebook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814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ntufas de Gaú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aucho_Pantufa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628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1:04:17Z</dcterms:created>
  <dc:creator>Jose Antonio Sarmento Furtado - Light</dc:creator>
  <dc:description/>
  <dc:language>en-US</dc:language>
  <cp:lastModifiedBy>Peter Balman</cp:lastModifiedBy>
  <dcterms:modified xsi:type="dcterms:W3CDTF">2006-09-02T21:15:42Z</dcterms:modified>
  <cp:revision>13</cp:revision>
  <dc:subject/>
  <dc:title>20 de Setembro    Dia do Gaúcho  Parabéns</dc:title>
</cp:coreProperties>
</file>