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5C7-1440-4D10-9841-1725831F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F13-CF97-459C-AEA0-314FE2EA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E8B-AC70-4FE2-A16F-C88439ED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744-9548-4D88-8324-28281660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EB5-AE0E-411C-B12A-5DFC91BA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327-B752-49D5-9783-7FC0635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F78-D304-4633-8EFE-F56C873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241-AFBA-4F81-8512-AAF785D9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3FE-B2CD-46CB-B7BB-BB69112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706-8E1D-4B08-862C-D49BDD4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E89-62F2-4C26-9EA4-9CD1FAEC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1CB-6CD5-4606-AAF9-DC57C668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89C-397A-4528-B5F6-4695ABDF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280" y="274320"/>
            <a:ext cx="3708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Descubra porque o avião não conseguiu decolar de Congonh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viao01.jpg"/>
          <p:cNvPicPr/>
          <p:nvPr/>
        </p:nvPicPr>
        <p:blipFill>
          <a:blip r:embed="rId1"/>
          <a:stretch/>
        </p:blipFill>
        <p:spPr>
          <a:xfrm>
            <a:off x="324000" y="476280"/>
            <a:ext cx="5283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Viu algo comprometed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Aviao02.jpg"/>
          <p:cNvPicPr/>
          <p:nvPr/>
        </p:nvPicPr>
        <p:blipFill>
          <a:blip r:embed="rId1"/>
          <a:stretch/>
        </p:blipFill>
        <p:spPr>
          <a:xfrm>
            <a:off x="324000" y="2205000"/>
            <a:ext cx="85327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E agora, conseguiu 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viao03.jpg"/>
          <p:cNvPicPr/>
          <p:nvPr/>
        </p:nvPicPr>
        <p:blipFill>
          <a:blip r:embed="rId1"/>
          <a:stretch/>
        </p:blipFill>
        <p:spPr>
          <a:xfrm>
            <a:off x="611280" y="1341360"/>
            <a:ext cx="79549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ras Bold ITC"/>
              </a:rPr>
              <a:t>Preste bastante atenção.... não viu ainda?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viao04.jpg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Eras Bold ITC"/>
              </a:rPr>
              <a:t>deste outro ângulo..... Nada ainda ? 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Aviao05.jpg"/>
          <p:cNvPicPr/>
          <p:nvPr/>
        </p:nvPicPr>
        <p:blipFill>
          <a:blip r:embed="rId1"/>
          <a:stretch/>
        </p:blipFill>
        <p:spPr>
          <a:xfrm>
            <a:off x="539640" y="1622520"/>
            <a:ext cx="78487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Eras Bold ITC"/>
              </a:rPr>
              <a:t>Você queria que um avião com o Prefixo  </a:t>
            </a:r>
            <a:r>
              <a:rPr b="1" lang="pt-BR" sz="4400" spc="-1" strike="noStrike">
                <a:solidFill>
                  <a:srgbClr val="ff3300"/>
                </a:solidFill>
                <a:latin typeface="Eras Bold ITC"/>
              </a:rPr>
              <a:t>PT-PAC </a:t>
            </a:r>
            <a:r>
              <a:rPr b="1" lang="pt-BR" sz="4400" spc="-1" strike="noStrike">
                <a:solidFill>
                  <a:srgbClr val="000000"/>
                </a:solidFill>
                <a:latin typeface="Eras Bold ITC"/>
              </a:rPr>
              <a:t>decolasse?</a:t>
            </a: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Eras Bold ITC"/>
              </a:rPr>
              <a:t> Aí já é acreditar demai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maio de 2009  -  C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9:51:25Z</dcterms:created>
  <dc:creator>Roberto</dc:creator>
  <dc:description/>
  <dc:language>en-US</dc:language>
  <cp:lastModifiedBy>Roberto</cp:lastModifiedBy>
  <dcterms:modified xsi:type="dcterms:W3CDTF">2009-05-22T20:12:54Z</dcterms:modified>
  <cp:revision>2</cp:revision>
  <dc:subject/>
  <dc:title>Descubra porque o avião não conseguiu decolar de Congonhas</dc:title>
</cp:coreProperties>
</file>