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Victor%20-%20Deus%20e%20eu%20no%20Sert%C3%A3o.wav" ContentType="audio/x-wav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272-32B0-40DC-BFC7-C1EEC5CC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BB73-F7A3-4123-BCFB-AFE3C82C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C634-6AC9-4B7B-9E4C-ECF9C7DD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2E7-C8A1-46E6-B249-18B0422C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7B21-0A82-4B5E-85BC-DE4A7739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392-F6E3-4857-9053-61B7723D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926-BDCE-4E51-8D7D-F208DB07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9255-DCB9-4BA2-8A85-1BDFBD00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26F-1A8F-4162-A59E-806BD902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A65-5F18-4205-A52F-0F2ACFCE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71D-8451-4B71-926C-15FB5CD5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CE3C-0CDF-4B39-BBB7-2F82C5DD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0381-89E8-4103-8236-5DAD3BBDF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Victor%20-%20Deus%20e%20eu%20no%20Sert&#227;o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27160"/>
            <a:ext cx="9142560" cy="7313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2400480"/>
            <a:ext cx="777240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us e Eu no Sertã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836640"/>
            <a:ext cx="8569440" cy="468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nca vi ninguém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ver tão feliz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o eu no sertão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rto de uma mata e de um ribeirão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us e eu no sert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8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1413000"/>
            <a:ext cx="8569080" cy="281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sa simplesinha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de pra dormir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 noite um show no céu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ito pra assist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8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26920" y="765000"/>
            <a:ext cx="7772400" cy="49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us e eu no sertã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8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1484280"/>
            <a:ext cx="8569080" cy="310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s horas não sei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s vejo o clarão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á vou eu cuidar do chão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balho cantando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terra é a inspiração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us e eu no sertã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8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1773360"/>
            <a:ext cx="8130960" cy="302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á solidão, 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 festa lá na vila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a missa vou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r minha men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4360" y="2184480"/>
            <a:ext cx="777240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 volta pra cas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ima a lenha no fogã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 junto ao som da mat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u eu e um violã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8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1280" y="3263760"/>
            <a:ext cx="7772400" cy="101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us e eu no sert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8161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ctor &amp; Léo - Deus e eu no Sert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21844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P2G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40561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CALDAS NOVAS -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500"/>
                            </p:stCondLst>
                            <p:childTnLst>
                              <p:par>
                                <p:cTn id="86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8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8:04:48Z</dcterms:created>
  <dc:creator>DIÓGENES MARCIANO RODRIGUES</dc:creator>
  <dc:description/>
  <dc:language>en-US</dc:language>
  <cp:lastModifiedBy>DIÓGENES MARCIANO RODRIGUES</cp:lastModifiedBy>
  <dcterms:modified xsi:type="dcterms:W3CDTF">2009-01-09T18:05:34Z</dcterms:modified>
  <cp:revision>1</cp:revision>
  <dc:subject/>
  <dc:title>Slide 1</dc:title>
</cp:coreProperties>
</file>