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png" ContentType="image/png"/>
  <Override PartName="/ppt/media/image21.gif" ContentType="image/gif"/>
  <Override PartName="/ppt/media/One%20man%C2%B4s%20dream%20-%20Yanni.wav" ContentType="audio/x-wav"/>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4C831-B95A-4818-837B-1C1F809B8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1BC72-18C1-4229-842E-83178EB5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B0C845-7903-48B5-8431-E4A3F9B356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56AAC2-1BB0-42AD-8A4B-39CE67FDE0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A9E57-0DA9-4B95-983B-5D5D73ED25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9CD21A-D5F5-4CF8-8676-88476BB6EB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655D7-AF08-416A-BABF-6F3C039F3F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2405F4-895A-4117-883E-3F34461E8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93796-25C7-4CB5-909F-FF1EEEAC8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351D0-3B81-4707-AE3E-403FEBAD2E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1411EB-E645-412D-AF36-FD4C4C233C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3E0786-52D6-4C4F-AB9C-A668A33D09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8EF4B-C778-45BA-ACFD-18FB66CCA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9F724B-9A89-4F1A-B5A5-3E1D46751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CC9509-763F-4CFD-855D-9EB0E8CB87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B18F5A-6BBF-454D-8785-5FFF594632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A77A0E-BB0A-4A64-8CED-3FCD8668F5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F15984-09E5-4589-9735-AF8CCDA328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37FC73-3813-4B0C-A7B4-8B427E4A4C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5DF8A2-F0B9-46DB-B765-26C2645CD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C83E0F-821E-48A4-A7E4-3A0F7CF68D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71984C-7E98-4C7B-BDE5-19B92FC973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246AAD-6D11-4EDF-8D1D-EC1987816B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4341-6E84-4E81-BE3C-2BF2F620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5CAD4A-3F0C-4240-BA76-69693C7AB3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5A9BC2-4A6E-486B-B57D-75C5C1F386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97CA4B-21FF-452F-9C9F-FC422C79BC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98BE2E-ABE0-4C2B-9AD8-0D32E03496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8A8075-BB45-49AB-B485-B4C319551A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FBE571-DA8B-4832-97B5-43A2DBB520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C6B6FF-3685-445E-B0CA-2ABA96F314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2CCB87-B953-4965-BBBF-EBE85F61A7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6D5154-4263-459C-AC2A-B586A6B790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B46605-7B62-4C6D-AA1E-8F12CD613B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B6853-996D-4E84-85CF-8F34E23CB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50ED37-CC4D-44B5-B8C1-FF78E079F6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88B5AD-7CF6-40E0-8691-76E8E0BCB2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160C58-E241-4F0E-839D-1AF0EBABEF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179FEE-8126-4D1E-BB79-4FFFEF1BDC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C1ED0A-9004-457B-B6D3-5B7FD418DE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8CD93-B7EE-4248-9207-875179C802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12489A-31DE-486A-A7DB-BB049678DA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9CA68A-3B52-4968-9A0B-362BE37C61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FBE226-12F0-4B40-91B0-A822B9E401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9666A9-CF32-4415-81F2-6AC119C783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3E706-0EDC-4A4C-BFD8-0E13417E4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2118CF-EAAC-47A2-8611-BA886F9B38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C2C1B0-09D0-475D-8FCD-F32DD53F75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1A1880-53D2-4419-A8EF-F513AB937F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C11C1C-C6B6-4648-94EC-27336999B8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8D5CA6-7189-474C-B1DC-21A35B80A7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BA79D-9548-41CD-8878-593094D25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B28CB-75B1-4238-B94E-F01CFCC20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4D722-9E99-499E-AF2A-C959F5648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0CA1B-7C66-484F-AADB-AABD5B6D7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62572-ED3F-4743-A3DE-CA64F5DB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F2ED2-EBED-48CD-8650-A0E5FCFCE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25126-E367-4646-8803-B0E313F5C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9B3D0-6D12-4645-BADA-156EED235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B7F6D-F20F-42A7-BD85-86C397BBC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BC6B2-CD05-4FA7-9EC6-FE10E2FA4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3597A-3450-4B0C-9786-9CDF20109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E82F6-94EC-4483-B35C-2846A707F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E73A7-AD6B-40FC-8393-E54CEC9C3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8E50A-2944-4D76-8E56-A23A9287C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785DA-4567-4285-A9C1-BFC63D1BF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F9BD7-7757-4C0B-B866-1150AC513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E101-280B-460D-BE59-3522EF10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13A91-31AB-45E4-9817-3686BC3CC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7AA84-BB00-4658-B416-3C40041A9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FC36F-946B-4F20-856C-F8D741345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BE6AB-85A1-400C-B989-7690F6293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CAF2B-265D-4B56-8983-F910AE5D3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1617EE-13C7-484B-BB17-D249F2C50F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626FB-B6A0-4BCF-9CC4-1A5DE3D38A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AE9501-38EC-4E26-B155-144F162D8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B7256-1251-4C19-85CC-8CA4055A2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18052-2145-4067-BE99-D180B624F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F6CC-EEF6-4B99-9E8B-51506C173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65FD7-A24E-4C32-81B9-FA865D872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B2985-E5B2-4BE1-A7D9-DE6032AA08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320E10-CD64-4C58-A349-C6EFCF0EB9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A2A67-B9D7-4459-AA96-D5E1FF3F7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C6B7F-8B3E-4FBD-9AEE-FA3FB5160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5A49D-1AA3-4D43-96BC-4C6AEE5F4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8D7B8-636D-4D6D-9714-46094D327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6CC4A3-224B-487B-AB26-1F3B89DDD2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D0ECE-BAA2-4CA4-9C67-06C907B329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899AE6-BC72-48E8-8C98-5EF975E174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78E48-17AF-47F1-B05E-6E7201DD5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F58D9-CFD1-4F5A-9A51-F6922C6E7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C84A7-AF46-4106-A13A-102EE41D5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2DB72-5801-4E80-888E-318095138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ADED6-0D91-4171-8693-C489210C7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8F1A2-0FB6-49F2-8408-B32034422B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2A6DA-2588-4B82-9107-CDF644C58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E2D60-A8A4-484A-B97F-EB9A25920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69F18-4778-454F-859B-F19CF56F8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FB2A86-E8AD-4D0D-96D9-28EE81E4B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2004F9-6A67-409D-BA3F-9EAE8489FA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C1D4-F809-4D54-AA5B-DF926A65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015C3-C9CA-4DCF-9087-C4D2F2482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1807C-52A3-43BC-8889-4F9F754061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FEF28-E84A-47A6-A307-01C734907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0B6FDD-C147-49E1-AA63-4BA2B8C17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151523-2B1E-4224-8887-2484F8002A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8853E-4D3D-489E-9736-34228A571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CCC33-06DB-42D2-B6B2-D26E4F9FE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C4607-EE39-415F-A6D3-8912D0572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6CB9B-3966-45E6-934C-9D4FC6FBB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4CB98-A1AE-4F87-A471-830ED7F56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C6D6-6F09-47E5-AD2D-FFCF58DDB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FF23D-AD4A-425E-B386-4C0E5C9066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22FFA-F53F-4A14-BE1A-C87BB8D0B1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CEEF4D-90C2-4119-BAC1-438527F01E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F5205-98D1-43D7-87FA-CEC029BB5D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D595A5-8398-41A4-A55A-235EBE85C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E5D94-7B81-4C84-9FA1-176643467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04EBC5-65A1-4F81-A96C-2A78157A8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629384-89C9-4689-8C58-53CC1B492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A06154-6724-4E06-96FA-2AD465BDA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440E1-6027-4FA2-A1BC-0B8F51EA4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0A85-583B-4566-BB44-0DCEBD8CC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40DF4-A4AF-4624-B1FC-2C81165ED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0BEE2-D896-46F2-A6C3-F65619233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97A234-B640-4760-9B37-34B35F541A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456CA8-021A-48C5-87AB-9D6A03BCAA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8B5FDD-42E7-4F5A-BB2F-5E2DAE2D0F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8C973-6855-4BB4-83E3-087A6622D8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98E7E3-2A28-4634-B2C6-336EABCF39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BCBC2E-FC50-4093-BE04-20E9110E91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EF53B-C73B-404B-80A3-F08CD712D5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B27866-9842-4923-917A-E7DABAEF7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5D28-FD07-4F06-9C81-947857B7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9F795-61C9-4E95-8AEE-6C04C4DB2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0463DB-7942-43A3-B665-2B677296A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55167-5727-4284-A219-8E5ABA46F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69C80-3006-4AE6-9CE9-1A1E8025C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346045-627F-407B-8E63-9948CF7CF2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D84AD5-DC60-4783-9532-4E5EA306BB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2ED151-42AF-45DA-B81E-EACF3B0F5E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DFA675-5295-4569-938C-6B96F7B7F3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E0C81-AA93-46C8-A982-C24CB8CAAB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05F5D6-939F-475B-8E73-23CBD342C7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DEA7-AC5D-427D-AF6F-E1E4B825F280}"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34AF-89C3-4532-A99B-451C63CD51C7}"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1896-96AE-4BAF-AF53-B976C47AE4DE}"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D38C-3ABF-4774-8D03-7657F999B9F4}"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4D0E-873C-4C50-8805-56CC8FB434CC}"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08E6-F81E-48EF-BC38-586D42891D48}"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D7F7-8663-4053-910B-107E7E75FB8F}"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B416-74FD-44B8-91FE-EE1C8ACD22C1}"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0B8F-A171-4182-90BD-90BA9C4D6895}"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9DAA-D245-46CF-A101-E0B5F6B4F46D}"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E84C-97D0-4F03-AF38-5FD7C5A16823}"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DC59-F4B3-411A-B887-6B4EC1DDF577}"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One%20man&#180;s%20dream%20-%20Yanni.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C:\Users\Gustavo\Desktop\Nueva carpeta\0caracoes026.gif"/>
          <p:cNvPicPr/>
          <p:nvPr/>
        </p:nvPicPr>
        <p:blipFill>
          <a:blip r:embed="rId1"/>
          <a:stretch/>
        </p:blipFill>
        <p:spPr>
          <a:xfrm>
            <a:off x="1116000" y="0"/>
            <a:ext cx="6942240" cy="5211720"/>
          </a:xfrm>
          <a:prstGeom prst="rect">
            <a:avLst/>
          </a:prstGeom>
          <a:ln w="0">
            <a:noFill/>
          </a:ln>
        </p:spPr>
      </p:pic>
      <p:sp>
        <p:nvSpPr>
          <p:cNvPr id="493" name="4 CuadroTexto"/>
          <p:cNvSpPr/>
          <p:nvPr/>
        </p:nvSpPr>
        <p:spPr>
          <a:xfrm>
            <a:off x="1476360" y="5373720"/>
            <a:ext cx="6191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0000"/>
                </a:solidFill>
                <a:latin typeface="Corbel"/>
              </a:rPr>
              <a:t>“</a:t>
            </a:r>
            <a:r>
              <a:rPr b="0" i="1" lang="es-ES" sz="3200" spc="-1" strike="noStrike">
                <a:solidFill>
                  <a:srgbClr val="ff0000"/>
                </a:solidFill>
                <a:latin typeface="Corbel"/>
              </a:rPr>
              <a:t>CEEA CE INIMA ISI DORESTE MINTEA O ARATA”</a:t>
            </a:r>
            <a:endParaRPr b="0" lang="en-US" sz="3200" spc="-1" strike="noStrike">
              <a:solidFill>
                <a:srgbClr val="000000"/>
              </a:solidFill>
              <a:latin typeface="Arial"/>
            </a:endParaRPr>
          </a:p>
        </p:txBody>
      </p:sp>
    </p:spTree>
  </p:cSld>
  <p:transition spd="slow">
    <p:split dir="out" orient="vert"/>
    <p:sndAc>
      <p:stSnd>
        <p:snd r:embed="rId2" name="One%20man%C2%B4s%20dream%20-%20Yan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3 CuadroTexto"/>
          <p:cNvSpPr/>
          <p:nvPr/>
        </p:nvSpPr>
        <p:spPr>
          <a:xfrm>
            <a:off x="5003640" y="836640"/>
            <a:ext cx="374508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2cba4"/>
                </a:solidFill>
                <a:latin typeface="Century"/>
              </a:rPr>
              <a:t>- Sa ne schimbam mintea prin intermediul corpulu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2cba4"/>
                </a:solidFill>
                <a:latin typeface="Century"/>
              </a:rPr>
              <a:t> </a:t>
            </a:r>
            <a:r>
              <a:rPr b="0" i="1" lang="es-ES" sz="2200" spc="-1" strike="noStrike">
                <a:solidFill>
                  <a:srgbClr val="f2cba4"/>
                </a:solidFill>
                <a:latin typeface="Corbel"/>
              </a:rPr>
              <a:t>- Da. Trebuie sa luam focarul de atentie de la aceste ganduri care ne fac rau, provocandu-ne descurajare, manie sau preocupare, si care fac  ca deciziile noastre sa fie luate dintr-un punct de vedere nepotrivit.  Este mai inteligent, nu mai rationalist sa se puna focarul de atentie pe respiratie care are capacitatea de a insenina stadiul nostru  mental.</a:t>
            </a:r>
            <a:endParaRPr b="0" lang="en-US" sz="2200" spc="-1" strike="noStrike">
              <a:solidFill>
                <a:srgbClr val="000000"/>
              </a:solidFill>
              <a:latin typeface="Arial"/>
            </a:endParaRPr>
          </a:p>
        </p:txBody>
      </p:sp>
      <p:pic>
        <p:nvPicPr>
          <p:cNvPr id="512" name="Picture 2" descr=""/>
          <p:cNvPicPr/>
          <p:nvPr/>
        </p:nvPicPr>
        <p:blipFill>
          <a:blip r:embed="rId1"/>
          <a:stretch/>
        </p:blipFill>
        <p:spPr>
          <a:xfrm>
            <a:off x="468360" y="907920"/>
            <a:ext cx="4105080" cy="319428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4 CuadroTexto"/>
          <p:cNvSpPr/>
          <p:nvPr/>
        </p:nvSpPr>
        <p:spPr>
          <a:xfrm>
            <a:off x="4932360" y="777960"/>
            <a:ext cx="36720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d9d9d9"/>
                </a:solidFill>
                <a:latin typeface="Century"/>
              </a:rPr>
              <a:t>- Se spune ca nu trebuie sa fim rational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d9d9d9"/>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d9d9d9"/>
                </a:solidFill>
                <a:latin typeface="Corbel"/>
              </a:rPr>
              <a:t>- Intotdeauna vom gasi ratiuni pentru a justifica proasta noastra dispozitie, stres sau tristete, si aceasta este o linie determinata de gandire. Dar cand ne bazam pe felul cum ne dorim sa traim, de exemplu fara tristete, apare alta linie. Sunt mai importante ce-ul si de ce-ul decat cum. Ceea ce inima isi doreste sa simta, mintea tocmai a aratat-o. </a:t>
            </a:r>
            <a:endParaRPr b="0" lang="en-US" sz="2200" spc="-1" strike="noStrike">
              <a:solidFill>
                <a:srgbClr val="000000"/>
              </a:solidFill>
              <a:latin typeface="Arial"/>
            </a:endParaRPr>
          </a:p>
        </p:txBody>
      </p:sp>
      <p:pic>
        <p:nvPicPr>
          <p:cNvPr id="514" name="Picture 6" descr=""/>
          <p:cNvPicPr/>
          <p:nvPr/>
        </p:nvPicPr>
        <p:blipFill>
          <a:blip r:embed="rId1">
            <a:grayscl/>
          </a:blip>
          <a:stretch/>
        </p:blipFill>
        <p:spPr>
          <a:xfrm>
            <a:off x="682560" y="981000"/>
            <a:ext cx="2230560" cy="1755720"/>
          </a:xfrm>
          <a:prstGeom prst="rect">
            <a:avLst/>
          </a:prstGeom>
          <a:ln w="0">
            <a:noFill/>
          </a:ln>
        </p:spPr>
      </p:pic>
      <p:pic>
        <p:nvPicPr>
          <p:cNvPr id="515" name="Picture 9" descr=""/>
          <p:cNvPicPr/>
          <p:nvPr/>
        </p:nvPicPr>
        <p:blipFill>
          <a:blip r:embed="rId2"/>
          <a:stretch/>
        </p:blipFill>
        <p:spPr>
          <a:xfrm>
            <a:off x="2948040" y="981000"/>
            <a:ext cx="1627200" cy="2178000"/>
          </a:xfrm>
          <a:prstGeom prst="rect">
            <a:avLst/>
          </a:prstGeom>
          <a:ln w="0">
            <a:noFill/>
          </a:ln>
        </p:spPr>
      </p:pic>
      <p:pic>
        <p:nvPicPr>
          <p:cNvPr id="516" name="Picture 10" descr=""/>
          <p:cNvPicPr/>
          <p:nvPr/>
        </p:nvPicPr>
        <p:blipFill>
          <a:blip r:embed="rId3">
            <a:grayscl/>
          </a:blip>
          <a:stretch/>
        </p:blipFill>
        <p:spPr>
          <a:xfrm>
            <a:off x="682560" y="2752560"/>
            <a:ext cx="1784520" cy="1808280"/>
          </a:xfrm>
          <a:prstGeom prst="rect">
            <a:avLst/>
          </a:prstGeom>
          <a:ln w="0">
            <a:noFill/>
          </a:ln>
        </p:spPr>
      </p:pic>
      <p:pic>
        <p:nvPicPr>
          <p:cNvPr id="517" name="Picture 7" descr=""/>
          <p:cNvPicPr/>
          <p:nvPr/>
        </p:nvPicPr>
        <p:blipFill>
          <a:blip r:embed="rId4">
            <a:grayscl/>
          </a:blip>
          <a:stretch/>
        </p:blipFill>
        <p:spPr>
          <a:xfrm>
            <a:off x="2500200" y="2709720"/>
            <a:ext cx="2143080" cy="18511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3 CuadroTexto"/>
          <p:cNvSpPr/>
          <p:nvPr/>
        </p:nvSpPr>
        <p:spPr>
          <a:xfrm>
            <a:off x="539640" y="284040"/>
            <a:ext cx="784872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66"/>
                </a:solidFill>
                <a:latin typeface="Century"/>
              </a:rPr>
              <a:t>- Exagera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66"/>
                </a:solidFill>
                <a:latin typeface="Corbe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 Cand creierul nostru da o semnificatie la ceva, noi o traim ca si absoluta realitate, fara sa fim constienti ca este doar o interpretare a realitatii.</a:t>
            </a:r>
            <a:endParaRPr b="0" lang="en-US" sz="2200" spc="-1" strike="noStrike">
              <a:solidFill>
                <a:srgbClr val="000000"/>
              </a:solidFill>
              <a:latin typeface="Arial"/>
            </a:endParaRPr>
          </a:p>
        </p:txBody>
      </p:sp>
      <p:sp>
        <p:nvSpPr>
          <p:cNvPr id="519" name="4 CuadroTexto"/>
          <p:cNvSpPr/>
          <p:nvPr/>
        </p:nvSpPr>
        <p:spPr>
          <a:xfrm>
            <a:off x="4572000" y="1916280"/>
            <a:ext cx="4103640" cy="493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66"/>
                </a:solidFill>
                <a:latin typeface="Century"/>
              </a:rPr>
              <a:t>- Mai multe soluti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66"/>
                </a:solidFill>
                <a:latin typeface="Corbe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 Cuvantul este o forma de energie vitala. S-a putut fotografia cu tomografie de emisie de pozitroni, cum persoanele care au decis sa isi vorbeasca lor insile intr-un mod mai pozitiv, in mod specific persoane cu tulburari psihiatrice, au reusit sa isi modeleze fizic structura cerebrala, in mod precis circuitele care ii generau aceste boli.</a:t>
            </a:r>
            <a:endParaRPr b="0" lang="en-US" sz="2200" spc="-1" strike="noStrike">
              <a:solidFill>
                <a:srgbClr val="000000"/>
              </a:solidFill>
              <a:latin typeface="Arial"/>
            </a:endParaRPr>
          </a:p>
        </p:txBody>
      </p:sp>
      <p:pic>
        <p:nvPicPr>
          <p:cNvPr id="520" name="Picture 2" descr="C:\Users\Gustavo\Desktop\Nueva carpeta\Besos de mariposas.jpg"/>
          <p:cNvPicPr/>
          <p:nvPr/>
        </p:nvPicPr>
        <p:blipFill>
          <a:blip r:embed="rId1"/>
          <a:stretch/>
        </p:blipFill>
        <p:spPr>
          <a:xfrm>
            <a:off x="630360" y="2492280"/>
            <a:ext cx="3797280" cy="2665440"/>
          </a:xfrm>
          <a:prstGeom prst="rect">
            <a:avLst/>
          </a:prstGeom>
          <a:ln w="0">
            <a:noFill/>
          </a:ln>
        </p:spPr>
      </p:pic>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539640" y="476280"/>
            <a:ext cx="3888000" cy="1876320"/>
          </a:xfrm>
          <a:prstGeom prst="rect">
            <a:avLst/>
          </a:prstGeom>
          <a:ln w="0">
            <a:noFill/>
          </a:ln>
        </p:spPr>
      </p:pic>
      <p:pic>
        <p:nvPicPr>
          <p:cNvPr id="522" name="Picture 2" descr=""/>
          <p:cNvPicPr/>
          <p:nvPr/>
        </p:nvPicPr>
        <p:blipFill>
          <a:blip r:embed="rId2"/>
          <a:stretch/>
        </p:blipFill>
        <p:spPr>
          <a:xfrm>
            <a:off x="4427640" y="404640"/>
            <a:ext cx="4105080" cy="1941840"/>
          </a:xfrm>
          <a:prstGeom prst="rect">
            <a:avLst/>
          </a:prstGeom>
          <a:ln w="0">
            <a:noFill/>
          </a:ln>
        </p:spPr>
      </p:pic>
      <p:sp>
        <p:nvSpPr>
          <p:cNvPr id="523" name="1 Rectángulo"/>
          <p:cNvSpPr/>
          <p:nvPr/>
        </p:nvSpPr>
        <p:spPr>
          <a:xfrm>
            <a:off x="539640" y="2276640"/>
            <a:ext cx="7993080" cy="475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a5c6cd"/>
                </a:solidFill>
                <a:latin typeface="Century"/>
              </a:rPr>
              <a:t>- Putem schimba creierul nostru cu cuvinte bun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a5c6cd"/>
                </a:solidFill>
                <a:latin typeface="Corbel"/>
              </a:rPr>
              <a:t>- Santiago Ramón y Cajal, premiul Nobel in Medicina in 1906, a spus o fraza inspaimantator de puternica despre care la momentul respectiv  credem ca era metaforica. Acum stim ca este literal valabila: “Orice fiinta umana, daca isi propune, poate sa fie sculptorul propriului sau crei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a5c6cd"/>
                </a:solidFill>
                <a:latin typeface="Century"/>
              </a:rPr>
              <a:t>- Sigur un exagera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a5c6cd"/>
                </a:solidFill>
                <a:latin typeface="Corbel"/>
              </a:rPr>
              <a:t>- Nu. In functie de felul cum ne vorbim noua insine, modelam emotiile noastre care schimba perceptiile noastre. Transformarea observatorului (noi) altereaza procesul observat. Nu vedem lumea asa cum este, vedem lumea care suntem.</a:t>
            </a:r>
            <a:endParaRPr b="0" lang="en-US" sz="22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611280" y="947880"/>
            <a:ext cx="3809880" cy="3809880"/>
          </a:xfrm>
          <a:prstGeom prst="rect">
            <a:avLst/>
          </a:prstGeom>
          <a:ln w="0">
            <a:noFill/>
          </a:ln>
        </p:spPr>
      </p:pic>
      <p:sp>
        <p:nvSpPr>
          <p:cNvPr id="525" name="1 Rectángulo"/>
          <p:cNvSpPr/>
          <p:nvPr/>
        </p:nvSpPr>
        <p:spPr>
          <a:xfrm>
            <a:off x="4572000" y="692280"/>
            <a:ext cx="388764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58ed5"/>
                </a:solidFill>
                <a:latin typeface="Century"/>
              </a:rPr>
              <a:t>- Vorbim de filosofie sau de stiinta?</a:t>
            </a:r>
            <a:br>
              <a:rPr sz="2200"/>
            </a:br>
            <a:br>
              <a:rPr sz="2200"/>
            </a:br>
            <a:r>
              <a:rPr b="0" i="1" lang="es-MX" sz="2200" spc="-1" strike="noStrike">
                <a:solidFill>
                  <a:srgbClr val="558ed5"/>
                </a:solidFill>
                <a:latin typeface="Corbel"/>
              </a:rPr>
              <a:t>- Cuvintele prin ele insele activeaza nucleele amigdaline. Pot activa, de exemplu, nucleele de frica ce transforma hormonii si procesele menta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558ed5"/>
                </a:solidFill>
                <a:latin typeface="Corbel"/>
              </a:rPr>
              <a:t>Oameni de stiinta de la Harvard au demonstrat ca atunci cand o persoana reuseste sa reduca aceasta cacofonie interioara si sa intre intr-o stare de liniste, migrenele si durerile coronariene se pot reduce cu 80%.</a:t>
            </a:r>
            <a:endParaRPr b="0" lang="en-US" sz="2200" spc="-1" strike="noStrike">
              <a:solidFill>
                <a:srgbClr val="000000"/>
              </a:solidFill>
              <a:latin typeface="Arial"/>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5364000" y="932040"/>
            <a:ext cx="3133800" cy="2857320"/>
          </a:xfrm>
          <a:prstGeom prst="rect">
            <a:avLst/>
          </a:prstGeom>
          <a:ln w="0">
            <a:noFill/>
          </a:ln>
        </p:spPr>
      </p:pic>
      <p:sp>
        <p:nvSpPr>
          <p:cNvPr id="527" name="4 CuadroTexto"/>
          <p:cNvSpPr/>
          <p:nvPr/>
        </p:nvSpPr>
        <p:spPr>
          <a:xfrm>
            <a:off x="468360" y="549360"/>
            <a:ext cx="4390920" cy="426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entury"/>
              </a:rPr>
              <a:t>- Care este efectul cuvintelor nespus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 Tindem sa confundam punctul nostru de vedere cu adevarul, si acest lucru se transmite: perceptia merge mult mai departe decat ratiune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Conform studiilor lui Albert Merhabian, de la Universitatea din California (UCLA), 93% din impactul cu o comunicare merge in partea de subconstiinta.</a:t>
            </a:r>
            <a:endParaRPr b="0" lang="en-US" sz="2200" spc="-1" strike="noStrike">
              <a:solidFill>
                <a:srgbClr val="000000"/>
              </a:solidFill>
              <a:latin typeface="Arial"/>
            </a:endParaRPr>
          </a:p>
        </p:txBody>
      </p:sp>
      <p:sp>
        <p:nvSpPr>
          <p:cNvPr id="528" name="5 CuadroTexto"/>
          <p:cNvSpPr/>
          <p:nvPr/>
        </p:nvSpPr>
        <p:spPr>
          <a:xfrm>
            <a:off x="468360" y="4924440"/>
            <a:ext cx="8280360" cy="192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entury"/>
              </a:rPr>
              <a:t>- De ce ne costa atat ca sa ne schimbam?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 Frica ne impiedica sa iesim din zona de confort, tindem spre siguranta a ceea ce este cunoscut, si aceasta atitudine ne impiedica sa ne realizam. Pentru a creste trebuie sa iesim din aceasta zona.</a:t>
            </a:r>
            <a:endParaRPr b="0" lang="en-US" sz="2200" spc="-1" strike="noStrike">
              <a:solidFill>
                <a:srgbClr val="000000"/>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4 CuadroTexto"/>
          <p:cNvSpPr/>
          <p:nvPr/>
        </p:nvSpPr>
        <p:spPr>
          <a:xfrm>
            <a:off x="1100160" y="4041720"/>
            <a:ext cx="7272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558ed5"/>
                </a:solidFill>
                <a:latin typeface="Corbel"/>
              </a:rPr>
              <a:t>- Cea mai mare parte a actelor din viata noastra sunt conduse de catre inconstient. Reactionam in functie de unele automatisme pe care le-am incorporat. Credem ca spontaneitatea este o valoare; dar pentru a exista spontaneitate mai intai trebuie sa existe pregatire, daca nu, exista doar automatisme. De fiecare data sunt tot mai convins de puterea pe care o are antrenamentul mintii.</a:t>
            </a:r>
            <a:endParaRPr b="0" lang="en-US" sz="2200" spc="-1" strike="noStrike">
              <a:solidFill>
                <a:srgbClr val="000000"/>
              </a:solidFill>
              <a:latin typeface="Arial"/>
            </a:endParaRPr>
          </a:p>
        </p:txBody>
      </p:sp>
      <p:pic>
        <p:nvPicPr>
          <p:cNvPr id="530" name="Picture 3" descr=""/>
          <p:cNvPicPr/>
          <p:nvPr/>
        </p:nvPicPr>
        <p:blipFill>
          <a:blip r:embed="rId1"/>
          <a:stretch/>
        </p:blipFill>
        <p:spPr>
          <a:xfrm>
            <a:off x="2627280" y="609480"/>
            <a:ext cx="4286160" cy="284796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5 CuadroTexto"/>
          <p:cNvSpPr/>
          <p:nvPr/>
        </p:nvSpPr>
        <p:spPr>
          <a:xfrm>
            <a:off x="4572000" y="476280"/>
            <a:ext cx="4032360" cy="710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66"/>
                </a:solidFill>
                <a:latin typeface="Century"/>
              </a:rPr>
              <a:t>- Da-mi vreo  pist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66"/>
                </a:solidFill>
                <a:latin typeface="Corbe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  Schimba obiceiurile de gandire si antreneaza integritatea ta onorand propriul tau cuvan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ffcc66"/>
                </a:solidFill>
                <a:uFillTx/>
                <a:latin typeface="Corbel"/>
              </a:rPr>
              <a:t>Cand spunem "voi face asta“ si un facem, alteram fizic creierul nostru</a:t>
            </a:r>
            <a:r>
              <a:rPr b="0" i="1" lang="es-ES" sz="2200" spc="-1" strike="noStrike">
                <a:solidFill>
                  <a:srgbClr val="ffcc66"/>
                </a:solidFill>
                <a:latin typeface="Corbel"/>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Cel mai mare potential este constiin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cc66"/>
                </a:solidFill>
                <a:latin typeface="Century"/>
              </a:rPr>
              <a:t>- Sa vedem ceea ce exista si sa accept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ffcc66"/>
                </a:solidFill>
                <a:latin typeface="Corbel"/>
              </a:rPr>
              <a:t>- Daca ne acceptam pentru ceea ce suntem si ceea ce nu suntem, ne putem schimba. Ceea ce rezista persista. Acceptarea este nucleul transformarii.</a:t>
            </a:r>
            <a:endParaRPr b="0" lang="en-US" sz="2200" spc="-1" strike="noStrike">
              <a:solidFill>
                <a:srgbClr val="000000"/>
              </a:solidFill>
              <a:latin typeface="Arial"/>
            </a:endParaRPr>
          </a:p>
        </p:txBody>
      </p:sp>
      <p:pic>
        <p:nvPicPr>
          <p:cNvPr id="532" name="Picture 7" descr=""/>
          <p:cNvPicPr/>
          <p:nvPr/>
        </p:nvPicPr>
        <p:blipFill>
          <a:blip r:embed="rId1"/>
          <a:stretch/>
        </p:blipFill>
        <p:spPr>
          <a:xfrm>
            <a:off x="468360" y="1514520"/>
            <a:ext cx="3267000" cy="3333600"/>
          </a:xfrm>
          <a:prstGeom prst="rect">
            <a:avLst/>
          </a:prstGeom>
          <a:ln w="0">
            <a:noFill/>
          </a:ln>
        </p:spPr>
      </p:pic>
      <p:sp>
        <p:nvSpPr>
          <p:cNvPr id="533" name="1 Llamada de nube"/>
          <p:cNvSpPr/>
          <p:nvPr/>
        </p:nvSpPr>
        <p:spPr>
          <a:xfrm>
            <a:off x="2340000" y="620640"/>
            <a:ext cx="1395360" cy="1513080"/>
          </a:xfrm>
          <a:prstGeom prst="cloudCallout">
            <a:avLst>
              <a:gd name="adj1" fmla="val -81212"/>
              <a:gd name="adj2" fmla="val 68810"/>
            </a:avLst>
          </a:prstGeom>
          <a:solidFill>
            <a:srgbClr val="000000"/>
          </a:solidFill>
          <a:ln w="2556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C:\Users\Gustavo\Desktop\Nueva carpeta\Café de amor.gif"/>
          <p:cNvPicPr/>
          <p:nvPr/>
        </p:nvPicPr>
        <p:blipFill>
          <a:blip r:embed="rId1"/>
          <a:stretch/>
        </p:blipFill>
        <p:spPr>
          <a:xfrm>
            <a:off x="1114560" y="692280"/>
            <a:ext cx="6842160" cy="3024000"/>
          </a:xfrm>
          <a:prstGeom prst="rect">
            <a:avLst/>
          </a:prstGeom>
          <a:ln w="0">
            <a:noFill/>
          </a:ln>
        </p:spPr>
      </p:pic>
      <p:sp>
        <p:nvSpPr>
          <p:cNvPr id="535" name="TextBox 3"/>
          <p:cNvSpPr/>
          <p:nvPr/>
        </p:nvSpPr>
        <p:spPr>
          <a:xfrm>
            <a:off x="446040" y="4294080"/>
            <a:ext cx="8425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Bookman Old Style"/>
              </a:rPr>
              <a:t>Cum spunea Solom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66"/>
                </a:solidFill>
                <a:latin typeface="Bookman Old Style"/>
              </a:rPr>
              <a:t>“</a:t>
            </a:r>
            <a:r>
              <a:rPr b="0" i="1" lang="es-ES" sz="2000" spc="-1" strike="noStrike">
                <a:solidFill>
                  <a:srgbClr val="ffcc66"/>
                </a:solidFill>
                <a:latin typeface="Bookman Old Style"/>
              </a:rPr>
              <a:t>Inima vesela constituie un remediu bun si face chipul sa fie frum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66"/>
                </a:solidFill>
                <a:latin typeface="Bookman Old Style"/>
              </a:rPr>
              <a:t>Dar spiritul trist usuca oase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66"/>
                </a:solidFill>
                <a:latin typeface="Bookman Old Style"/>
              </a:rPr>
              <a:t>Prov. 17:22</a:t>
            </a:r>
            <a:endParaRPr b="0" lang="en-US" sz="2000" spc="-1" strike="noStrike">
              <a:solidFill>
                <a:srgbClr val="000000"/>
              </a:solidFill>
              <a:latin typeface="Arial"/>
            </a:endParaRPr>
          </a:p>
        </p:txBody>
      </p:sp>
      <p:sp>
        <p:nvSpPr>
          <p:cNvPr id="536" name="1 CuadroTexto"/>
          <p:cNvSpPr/>
          <p:nvPr/>
        </p:nvSpPr>
        <p:spPr>
          <a:xfrm>
            <a:off x="1332000" y="3492360"/>
            <a:ext cx="62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   </a:t>
            </a:r>
            <a:r>
              <a:rPr b="0" i="1" lang="es-MX" sz="1800" spc="-1" strike="noStrike">
                <a:solidFill>
                  <a:srgbClr val="ffffff"/>
                </a:solidFill>
                <a:latin typeface="Arial"/>
              </a:rPr>
              <a:t>Incredere          Bunatate          Onestitate       Grija</a:t>
            </a:r>
            <a:endParaRPr b="0" lang="en-US" sz="18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
          <p:cNvPicPr/>
          <p:nvPr/>
        </p:nvPicPr>
        <p:blipFill>
          <a:blip r:embed="rId1"/>
          <a:stretch/>
        </p:blipFill>
        <p:spPr>
          <a:xfrm>
            <a:off x="34920" y="44280"/>
            <a:ext cx="9085320" cy="6813720"/>
          </a:xfrm>
          <a:prstGeom prst="rect">
            <a:avLst/>
          </a:prstGeom>
          <a:ln w="0">
            <a:noFill/>
          </a:ln>
        </p:spPr>
      </p:pic>
      <p:sp>
        <p:nvSpPr>
          <p:cNvPr id="495" name="3 Rectángulo"/>
          <p:cNvSpPr/>
          <p:nvPr/>
        </p:nvSpPr>
        <p:spPr>
          <a:xfrm>
            <a:off x="1187280" y="2940120"/>
            <a:ext cx="6985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ac090"/>
                </a:solidFill>
                <a:latin typeface="Corbel"/>
              </a:rPr>
              <a:t>“</a:t>
            </a:r>
            <a:r>
              <a:rPr b="0" i="1" lang="es-ES" sz="2400" spc="-1" strike="noStrike">
                <a:solidFill>
                  <a:srgbClr val="fac090"/>
                </a:solidFill>
                <a:latin typeface="Corbel"/>
              </a:rPr>
              <a:t>O spuneau iluminatii, cei care practicau meditatia si inteleptii, acum o spune si stiin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ac090"/>
                </a:solidFill>
                <a:latin typeface="Corbel"/>
              </a:rPr>
              <a:t>sunt gandurile noastre cele care in mare par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ac090"/>
                </a:solidFill>
                <a:latin typeface="Corbel"/>
              </a:rPr>
              <a:t>au creat si creeaza in mod continuu lumea noastra.” </a:t>
            </a:r>
            <a:endParaRPr b="0" lang="en-US" sz="2400" spc="-1" strike="noStrike">
              <a:solidFill>
                <a:srgbClr val="000000"/>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3" descr=""/>
          <p:cNvPicPr/>
          <p:nvPr/>
        </p:nvPicPr>
        <p:blipFill>
          <a:blip r:embed="rId1"/>
          <a:stretch/>
        </p:blipFill>
        <p:spPr>
          <a:xfrm>
            <a:off x="468360" y="476280"/>
            <a:ext cx="4710240" cy="2943360"/>
          </a:xfrm>
          <a:prstGeom prst="rect">
            <a:avLst/>
          </a:prstGeom>
          <a:ln w="0">
            <a:noFill/>
          </a:ln>
        </p:spPr>
      </p:pic>
      <p:sp>
        <p:nvSpPr>
          <p:cNvPr id="497" name="2 CuadroTexto"/>
          <p:cNvSpPr/>
          <p:nvPr/>
        </p:nvSpPr>
        <p:spPr>
          <a:xfrm>
            <a:off x="5435640" y="620640"/>
            <a:ext cx="32400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2cba4"/>
                </a:solidFill>
                <a:latin typeface="Century"/>
              </a:rPr>
              <a:t>Interviul pe care ziarista Ima Sanchis, de la ziarul spaniol La Vanguardia, i l-a luat Dr. Mario Alonso Puig, care este Medic Specialist in Chirurgie Generala si a Aparatului Digestiv, membru al Scolii Medicale de la Universitatea Harvard, al Academiei de Stiinta din New York si al Asociatiei Americane pentru Avansarea Stiintei.</a:t>
            </a:r>
            <a:endParaRPr b="0" lang="en-US" sz="2200" spc="-1" strike="noStrike">
              <a:solidFill>
                <a:srgbClr val="000000"/>
              </a:solidFill>
              <a:latin typeface="Arial"/>
            </a:endParaRPr>
          </a:p>
        </p:txBody>
      </p:sp>
      <p:sp>
        <p:nvSpPr>
          <p:cNvPr id="498" name="3 Rectángulo"/>
          <p:cNvSpPr/>
          <p:nvPr/>
        </p:nvSpPr>
        <p:spPr>
          <a:xfrm>
            <a:off x="498600" y="3645000"/>
            <a:ext cx="4680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2cba4"/>
                </a:solidFill>
                <a:latin typeface="Corbel"/>
              </a:rPr>
              <a:t>- M-am nascut (1955) si traiesc in Madrid. Sunt casatorit si am trei copii. Sunt catolic. Sunt chirurg in medicina generala si a aparatului digestiv la  Spitalul din Madrid.</a:t>
            </a:r>
            <a:r>
              <a:rPr b="0" i="1" lang="es-MX" sz="2200" spc="-1" strike="noStrike">
                <a:solidFill>
                  <a:srgbClr val="f2cba4"/>
                </a:solidFill>
                <a:latin typeface="Corbel"/>
              </a:rPr>
              <a:t> Trebuie sa imi exersez si dezvolt flexibilitatea si  toleranta. Se poate sa fim foarte fermi in conduita noastra si amabili cu persoanele. </a:t>
            </a:r>
            <a:endParaRPr b="0" lang="en-US" sz="22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184320" y="928800"/>
            <a:ext cx="3740040" cy="3724200"/>
          </a:xfrm>
          <a:prstGeom prst="rect">
            <a:avLst/>
          </a:prstGeom>
          <a:ln w="0">
            <a:noFill/>
          </a:ln>
        </p:spPr>
      </p:pic>
      <p:sp>
        <p:nvSpPr>
          <p:cNvPr id="500" name="5 CuadroTexto"/>
          <p:cNvSpPr/>
          <p:nvPr/>
        </p:nvSpPr>
        <p:spPr>
          <a:xfrm>
            <a:off x="4211640" y="765000"/>
            <a:ext cx="45734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8eb4e3"/>
                </a:solidFill>
                <a:latin typeface="Corbel"/>
              </a:rPr>
              <a:t>- Azi stim ca increderea in noi insine, entuziasmul si iluzia au capacitatea de a favoriza functiile superioare ale creierulu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8eb4e3"/>
                </a:solidFill>
                <a:latin typeface="Corbel"/>
              </a:rPr>
              <a:t>Zona prefrontala a creierului, locul unde are loc gandirea cea mai avansata, unde se inventeaza viitorul nostru, unde valorificam alternative si strategii pentru solutionarea problemelor si luam decizii, este teribil de influentata de catre sistemul límbic, care este creierul nostru emotio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8eb4e3"/>
                </a:solidFill>
                <a:latin typeface="Corbel"/>
              </a:rPr>
              <a:t>Din acest motiv, ceea ce inima vrea sa simta, mintea tocmai o arata.  Trebuie sa antrenam aceasta minte.</a:t>
            </a:r>
            <a:endParaRPr b="0" lang="en-US" sz="20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3" descr=""/>
          <p:cNvPicPr/>
          <p:nvPr/>
        </p:nvPicPr>
        <p:blipFill>
          <a:blip r:embed="rId1"/>
          <a:stretch/>
        </p:blipFill>
        <p:spPr>
          <a:xfrm>
            <a:off x="34920" y="41400"/>
            <a:ext cx="9109080" cy="4251240"/>
          </a:xfrm>
          <a:prstGeom prst="rect">
            <a:avLst/>
          </a:prstGeom>
          <a:ln w="0">
            <a:noFill/>
          </a:ln>
        </p:spPr>
      </p:pic>
      <p:sp>
        <p:nvSpPr>
          <p:cNvPr id="502" name="3 CuadroTexto"/>
          <p:cNvSpPr/>
          <p:nvPr/>
        </p:nvSpPr>
        <p:spPr>
          <a:xfrm>
            <a:off x="539640" y="4514760"/>
            <a:ext cx="82090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entury"/>
              </a:rPr>
              <a:t>- Mai mult de 25 de ani exersand ca si chirurg. Concluzia?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orbel"/>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eb4e3"/>
                </a:solidFill>
                <a:latin typeface="Corbel"/>
              </a:rPr>
              <a:t>- Pot da marturie ca o persoana iluzionata, implicata si care are incredere in ea insasi, poate merge mai departe decat ar fi asteptat sa duca traiectoria sa.</a:t>
            </a:r>
            <a:endParaRPr b="0" lang="en-US" sz="2200" spc="-1" strike="noStrike">
              <a:solidFill>
                <a:srgbClr val="000000"/>
              </a:solidFill>
              <a:latin typeface="Arial"/>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
          <p:cNvPicPr/>
          <p:nvPr/>
        </p:nvPicPr>
        <p:blipFill>
          <a:blip r:embed="rId1"/>
          <a:stretch/>
        </p:blipFill>
        <p:spPr>
          <a:xfrm>
            <a:off x="358920" y="1031760"/>
            <a:ext cx="4068720" cy="4052880"/>
          </a:xfrm>
          <a:prstGeom prst="rect">
            <a:avLst/>
          </a:prstGeom>
          <a:ln w="0">
            <a:noFill/>
          </a:ln>
        </p:spPr>
      </p:pic>
      <p:sp>
        <p:nvSpPr>
          <p:cNvPr id="504" name="2 CuadroTexto"/>
          <p:cNvSpPr/>
          <p:nvPr/>
        </p:nvSpPr>
        <p:spPr>
          <a:xfrm>
            <a:off x="4680000" y="901800"/>
            <a:ext cx="41400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entury"/>
              </a:rPr>
              <a:t>- Psihoneuroimunobiolog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eb4e3"/>
                </a:solidFill>
                <a:latin typeface="Corbel"/>
              </a:rPr>
              <a:t>- Da, este stiinta care studiaza conexiunea care exista intre gandire, cuvant, mentalitate si fiziologia fiintei umane.</a:t>
            </a:r>
            <a:r>
              <a:rPr b="0" i="1" lang="es-MX" sz="2200" spc="-1" strike="noStrike">
                <a:solidFill>
                  <a:srgbClr val="8eb4e3"/>
                </a:solidFill>
                <a:latin typeface="Corbel"/>
              </a:rPr>
              <a:t> O conexiune care sfideaza paradigma traditional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8eb4e3"/>
                </a:solidFill>
                <a:latin typeface="Corbel"/>
              </a:rPr>
              <a:t>Gandirea si cuvantul sunt o forma de energie vitala care are capacitatea (si a fost demonstrat in mod sustinut), de a interactiona cu organismul si produce schimbari fizice foarte profunde.</a:t>
            </a:r>
            <a:endParaRPr b="0" lang="en-US" sz="2200" spc="-1" strike="noStrike">
              <a:solidFill>
                <a:srgbClr val="000000"/>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617400" y="981000"/>
            <a:ext cx="3810240" cy="3791160"/>
          </a:xfrm>
          <a:prstGeom prst="rect">
            <a:avLst/>
          </a:prstGeom>
          <a:ln w="0">
            <a:noFill/>
          </a:ln>
        </p:spPr>
      </p:pic>
      <p:sp>
        <p:nvSpPr>
          <p:cNvPr id="506" name="2 CuadroTexto"/>
          <p:cNvSpPr/>
          <p:nvPr/>
        </p:nvSpPr>
        <p:spPr>
          <a:xfrm>
            <a:off x="5076720" y="836640"/>
            <a:ext cx="345600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fbfbf"/>
                </a:solidFill>
                <a:latin typeface="Century"/>
              </a:rPr>
              <a:t>- Despre ce este vorba?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fbfbf"/>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bfbfbf"/>
                </a:solidFill>
                <a:latin typeface="Corbel"/>
              </a:rPr>
              <a:t>- S-a demonstrat in diverse studii ca daca intretinem timp de un minut un gand negativ, asta lasa sistemul imunitar intr-o situatie delicata timp de sase ore.</a:t>
            </a:r>
            <a:r>
              <a:rPr b="0" i="1" lang="es-MX" sz="2200" spc="-1" strike="noStrike">
                <a:solidFill>
                  <a:srgbClr val="bfbfbf"/>
                </a:solidFill>
                <a:latin typeface="Corbel"/>
              </a:rPr>
              <a:t> Stresul, aceasta senzatie de apasare permanenta, produce schimbari foarte surprinzatoare in functionarea creierului si in constelatia hormonala.</a:t>
            </a:r>
            <a:endParaRPr b="0" lang="en-US" sz="2200" spc="-1" strike="noStrike">
              <a:solidFill>
                <a:srgbClr val="000000"/>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
          <p:cNvPicPr/>
          <p:nvPr/>
        </p:nvPicPr>
        <p:blipFill>
          <a:blip r:embed="rId1"/>
          <a:stretch/>
        </p:blipFill>
        <p:spPr>
          <a:xfrm>
            <a:off x="654120" y="1052640"/>
            <a:ext cx="3917880" cy="3828960"/>
          </a:xfrm>
          <a:prstGeom prst="rect">
            <a:avLst/>
          </a:prstGeom>
          <a:ln w="0">
            <a:noFill/>
          </a:ln>
        </p:spPr>
      </p:pic>
      <p:sp>
        <p:nvSpPr>
          <p:cNvPr id="508" name="2 CuadroTexto"/>
          <p:cNvSpPr/>
          <p:nvPr/>
        </p:nvSpPr>
        <p:spPr>
          <a:xfrm>
            <a:off x="5075280" y="1052640"/>
            <a:ext cx="3457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entury"/>
              </a:rPr>
              <a:t>- Ce fel de schimbar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 Are capacitatea de a leza neuroni ai memoriei si intelegerii localizati in hipocamp. Si afecteaza capacitatea noastra intelectuala deoarece lasa fara irigare sanguina acele zone ale creierului mai mult necesare pentru luarea deciziilor adecvate.</a:t>
            </a:r>
            <a:endParaRPr b="0" lang="en-US" sz="2200" spc="-1" strike="noStrike">
              <a:solidFill>
                <a:srgbClr val="000000"/>
              </a:solidFill>
              <a:latin typeface="Arial"/>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CuadroTexto"/>
          <p:cNvSpPr/>
          <p:nvPr/>
        </p:nvSpPr>
        <p:spPr>
          <a:xfrm>
            <a:off x="4788000" y="692280"/>
            <a:ext cx="367164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58ed5"/>
                </a:solidFill>
                <a:latin typeface="Century"/>
              </a:rPr>
              <a:t>- Avem mijloace pentru a combate inamicul interior, sau acest lucru este pentru intelept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58ed5"/>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558ed5"/>
                </a:solidFill>
                <a:latin typeface="Corbel"/>
              </a:rPr>
              <a:t>- O solutie valoroasa impotriva preocuparilor este sa fim atenti la respiratia abdominala, care ea singura are capacitatea de a produce schimbari in creier. Favorizeaza secretia de hormoni precum serotonina si endorfina si imbunatateste sintonia ritmurilor cerebrale intre cele doua emisfere.</a:t>
            </a:r>
            <a:endParaRPr b="0" lang="en-US" sz="2200" spc="-1" strike="noStrike">
              <a:solidFill>
                <a:srgbClr val="000000"/>
              </a:solidFill>
              <a:latin typeface="Arial"/>
            </a:endParaRPr>
          </a:p>
        </p:txBody>
      </p:sp>
      <p:pic>
        <p:nvPicPr>
          <p:cNvPr id="510" name="Picture 6" descr=""/>
          <p:cNvPicPr/>
          <p:nvPr/>
        </p:nvPicPr>
        <p:blipFill>
          <a:blip r:embed="rId1"/>
          <a:stretch/>
        </p:blipFill>
        <p:spPr>
          <a:xfrm>
            <a:off x="596880" y="870120"/>
            <a:ext cx="3759120" cy="507996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3T01:34:02Z</dcterms:created>
  <dc:creator>Gustavo</dc:creator>
  <dc:description/>
  <dc:language>en-US</dc:language>
  <cp:lastModifiedBy>Alina</cp:lastModifiedBy>
  <dcterms:modified xsi:type="dcterms:W3CDTF">2013-09-05T21:26:54Z</dcterms:modified>
  <cp:revision>76</cp:revision>
  <dc:subject/>
  <dc:title>Diapositiva 1</dc:title>
</cp:coreProperties>
</file>