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POPA'S.wav" ContentType="audio/x-wav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32.jpeg" ContentType="image/jpeg"/>
  <Override PartName="/ppt/media/image68.jpeg" ContentType="image/jpeg"/>
  <Override PartName="/ppt/media/image24.jpeg" ContentType="image/jpeg"/>
  <Override PartName="/ppt/media/image19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42.jpeg" ContentType="image/jpeg"/>
  <Override PartName="/ppt/media/image59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3.png" ContentType="image/png"/>
  <Override PartName="/ppt/media/image56.jpeg" ContentType="image/jpeg"/>
  <Override PartName="/ppt/media/image61.jpeg" ContentType="image/jpeg"/>
  <Override PartName="/ppt/media/image4.jpeg" ContentType="image/jpeg"/>
  <Override PartName="/ppt/media/image60.jpeg" ContentType="image/jpeg"/>
  <Override PartName="/ppt/media/image16.jpeg" ContentType="image/jpeg"/>
  <Override PartName="/ppt/media/image33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7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12D-C9AD-4863-BA9F-95C99134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78A-83B5-4ABC-A896-71B325BD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35C-ADD5-4347-93D1-D2F99839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3D0E-9153-4065-97A6-2D514761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C28-3381-46F8-A53C-AB3D7154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541-FE74-47BA-BEF5-6E6BD58C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7CE-3345-4465-A630-AF11BBD9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404-046F-482E-9336-52EBC335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785A-1D5C-4025-98A4-33C6BE7B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FC3-5294-45EA-AC2F-DDB42F34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23A-903B-4D7A-9C55-C37745F7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88C-B26B-4B46-9610-DF58E1FB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A0C0-7C79-4561-9F9A-0A5D4B91E7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D4ED-BD5D-4211-AD31-98BC76E98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POPA&apos;S.wav" TargetMode="External"/><Relationship Id="rId4" Type="http://schemas.microsoft.com/office/2007/relationships/media" Target="file:///tmp/home/.config/libreoffice/4/user/gallery/POPA&apos;S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POPA&apos;S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92360" y="6381720"/>
            <a:ext cx="4038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U SONOR SI AVANSARE AUTOMATA</a:t>
            </a:r>
            <a:endParaRPr b="1" i="1" lang="en-US" sz="14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5950080"/>
            <a:ext cx="160020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MAGINI INTERNET</a:t>
            </a:r>
            <a:endParaRPr b="0" i="1" lang="en-US" sz="12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499520" y="5624640"/>
            <a:ext cx="1644480" cy="123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588000" y="6237360"/>
            <a:ext cx="10764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 LUCI CERCEL</a:t>
            </a:r>
            <a:endParaRPr b="1" i="1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79640" y="4149720"/>
            <a:ext cx="5933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EFAN  POPA POPA'S</a:t>
            </a:r>
            <a:endParaRPr b="1" i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71640" y="5157720"/>
            <a:ext cx="4619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 </a:t>
            </a:r>
            <a:r>
              <a:rPr b="1" i="1" lang="en-US" sz="2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GELE  CARICATURII</a:t>
            </a:r>
            <a:endParaRPr b="1" i="1" lang="en-US" sz="2800" spc="1" strike="noStrike">
              <a:ln w="12600">
                <a:solidFill>
                  <a:srgbClr val="ff66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148360" y="189000"/>
            <a:ext cx="378144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UZICA :  LEONARD  COHEN  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     </a:t>
            </a: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ANCE ME TO THE 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     </a:t>
            </a: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ND OF LOVE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46480" cy="2890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68360" y="551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EFBA5-492B-4E6D-ADB1-AF77EE14E0DE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602240" cy="6029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132000" y="3933720"/>
            <a:ext cx="5896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B A R A C K  O B A M A</a:t>
            </a:r>
            <a:endParaRPr b="1" i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447B4-CFD8-4457-B864-BD324D36CA41}" type="datetime1">
              <a:rPr lang="en-US"/>
              <a:t>07/31/26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3065400" cy="4016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6000" y="404640"/>
            <a:ext cx="3119400" cy="4088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187280" y="4653000"/>
            <a:ext cx="6458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 N G E L A   M E R K E L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EB539-6B8E-4AF2-8E92-80336BE2AB76}" type="datetime1">
              <a:rPr lang="en-US"/>
              <a:t>07/31/26</a:t>
            </a:fld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3670200" cy="4808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3587760" cy="4700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692360" y="5084640"/>
            <a:ext cx="57625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R O M A N O  P R O D I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0CFE5-FF07-46F1-B5B1-6CB74022A4BF}" type="datetime1">
              <a:rPr lang="en-US"/>
              <a:t>07/31/26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1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4218120" cy="5526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003640" y="2205000"/>
            <a:ext cx="3467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G  E  O  R  G  E    B  U  S  H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36FDD-7F76-494B-9EF0-F7C08E2DC8F3}" type="datetime1">
              <a:rPr lang="en-US"/>
              <a:t>07/31/26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1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372200" cy="6550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8440" y="4797360"/>
            <a:ext cx="91155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3366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JO S E   M A N U E L  B A R R O S O</a:t>
            </a:r>
            <a:endParaRPr b="1" i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3366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B5CB9-915E-4D40-B625-858850FF814C}" type="datetime1">
              <a:rPr lang="en-US"/>
              <a:t>07/31/26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85760"/>
            <a:ext cx="4332240" cy="6672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348000" y="6021360"/>
            <a:ext cx="49150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G O R D O N  B R O W N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7CFF6-0ED9-4E72-956E-8E2177EE404F}" type="datetime1">
              <a:rPr lang="en-US"/>
              <a:t>07/31/26</a:t>
            </a:fld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59280" y="1298520"/>
            <a:ext cx="3609720" cy="5559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187280" y="189000"/>
            <a:ext cx="6296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F R E D R I K  R E I N F E L D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0E4CB-140A-4DBD-8FE2-00FB6A420715}" type="datetime1">
              <a:rPr lang="en-US"/>
              <a:t>07/31/26</a:t>
            </a:fld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11640" y="333360"/>
            <a:ext cx="4027320" cy="6203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24000" y="3213000"/>
            <a:ext cx="360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H A M I D   K A R Z A I</a:t>
            </a:r>
            <a:endParaRPr b="1" i="1" lang="en-US" sz="18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7932" dir="13500000" blurRad="0" rotWithShape="0">
                  <a:srgbClr val="99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D1D17-7559-4D69-BA77-C304E75256F7}" type="datetime1">
              <a:rPr lang="en-US"/>
              <a:t>07/31/26</a:t>
            </a:fld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4260960" cy="656100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sp>
        <p:nvSpPr>
          <p:cNvPr id="102" name=""/>
          <p:cNvSpPr txBox="1"/>
          <p:nvPr/>
        </p:nvSpPr>
        <p:spPr>
          <a:xfrm>
            <a:off x="4932360" y="5013360"/>
            <a:ext cx="39816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Z  A  P  A  T  E  R  O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0E1E5-3907-4BB0-BF41-957CEFE3BA7D}" type="datetime1">
              <a:rPr lang="en-US"/>
              <a:t>07/31/26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84720" y="-63360"/>
            <a:ext cx="4494240" cy="6921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0" y="5084640"/>
            <a:ext cx="5667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  I  L  I  P    V  U  J  A  N  O  V  I  C  I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EE16E-57FA-4FB6-97FE-8773114E21CD}" type="datetime1">
              <a:rPr lang="en-US"/>
              <a:t>07/31/26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514520" cy="220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187280" y="333360"/>
            <a:ext cx="77155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1" i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-A NASCUT LA CARANSEBES IN ANUL 1955</a:t>
            </a:r>
            <a:endParaRPr b="1" i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 INCEPUT LICEUL DE ARTE PLASTICE</a:t>
            </a:r>
            <a:endParaRPr b="1" i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AR S-A TRANSFERAT </a:t>
            </a:r>
            <a:endParaRPr b="1" i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 SCOALA SPECIALA DE MATEMATICA</a:t>
            </a:r>
            <a:endParaRPr b="1" i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2924280"/>
            <a:ext cx="7867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 14 ANI PUBLICA IN PRIMA REVISTA UMORISTICA A VREMII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71640" y="3789360"/>
            <a:ext cx="7238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 19 ANI A FOST DESCOPERIT DE </a:t>
            </a:r>
            <a:endParaRPr b="1" i="1" lang="en-US" sz="2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ENRI COURSAGET PRIMUL PRESEDINTE UNESCO</a:t>
            </a:r>
            <a:endParaRPr b="1" i="1" lang="en-US" sz="2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4360" y="5229360"/>
            <a:ext cx="794376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 ABSOLVIT POLITEHNICA DIN TIMISOARA</a:t>
            </a:r>
            <a:endParaRPr b="1" i="1" lang="en-US" sz="2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I ACADEMIA DE ARTE VIZUALE DIN POITIERS (FRANT)</a:t>
            </a:r>
            <a:endParaRPr b="1" i="1" lang="en-US" sz="2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CBC95-8D1D-4880-A9C7-1401A6F40459}" type="datetime1">
              <a:rPr lang="en-US"/>
              <a:t>07/31/26</a:t>
            </a:fld>
          </a:p>
        </p:txBody>
      </p:sp>
    </p:spTree>
  </p:cSld>
  <p:transition advTm="19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3865680" cy="5953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908000" y="4941720"/>
            <a:ext cx="655344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 I C T O R  I U S C E N C O  </a:t>
            </a:r>
            <a:endParaRPr b="1" i="1" lang="en-US" sz="1800" spc="1" strike="noStrike">
              <a:ln w="9360">
                <a:solidFill>
                  <a:srgbClr val="cc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290FE-1B76-47A1-8FFC-EC0DE9323C2E}" type="datetime1">
              <a:rPr lang="en-US"/>
              <a:t>07/31/26</a:t>
            </a:fld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4308480" cy="6635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556000" y="5373720"/>
            <a:ext cx="63435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 L A D I M I R  P U T I N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E7480-7344-4988-9413-CEA4EB4D2A8E}" type="datetime1">
              <a:rPr lang="en-US"/>
              <a:t>07/31/26</a:t>
            </a:fld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3695760" cy="6265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95280" y="4292640"/>
            <a:ext cx="4838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 L A D I M I R   V O R O N I N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1E90C-1F49-4995-92E6-8D3958151B98}" type="datetime1">
              <a:rPr lang="en-US"/>
              <a:t>07/31/26</a:t>
            </a:fld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865680" cy="5953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276720" y="5013360"/>
            <a:ext cx="570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V A C L A V  K L A U S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7293C-1680-4534-90F9-9ED5926E2E67}" type="datetime1">
              <a:rPr lang="en-US"/>
              <a:t>07/31/26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3732120" cy="6467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643280" y="1700280"/>
            <a:ext cx="4267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V A L D A S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    </a:t>
            </a: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 D A M K U S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85EBC-7232-455C-906C-F9BBAE4B1922}" type="datetime1">
              <a:rPr lang="en-US"/>
              <a:t>07/31/26</a:t>
            </a:fld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3606840" cy="6945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0" y="4005360"/>
            <a:ext cx="4835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V A L D I S  Z A T L E R S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563A3-16FD-4403-9246-7C0EA82C4AB7}" type="datetime1">
              <a:rPr lang="en-US"/>
              <a:t>07/31/26</a:t>
            </a:fld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4192920" cy="645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332000" y="4869000"/>
            <a:ext cx="72673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U R S U L A   P L A S S N I K</a:t>
            </a:r>
            <a:endParaRPr b="1" i="1" lang="en-US" sz="1800" spc="1" strike="noStrike">
              <a:ln w="9360">
                <a:solidFill>
                  <a:srgbClr val="ccffff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5B96B-9DAA-4369-BEDD-8454C074DAE8}" type="datetime1">
              <a:rPr lang="en-US"/>
              <a:t>07/31/26</a:t>
            </a:fld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56000" y="333360"/>
            <a:ext cx="3936960" cy="6064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24000" y="3789360"/>
            <a:ext cx="46479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00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T A R J A  H A L O N E N</a:t>
            </a:r>
            <a:endParaRPr b="1" i="1" lang="en-US" sz="2800" spc="1" strike="noStrike">
              <a:ln w="9360">
                <a:solidFill>
                  <a:srgbClr val="ffff99"/>
                </a:solidFill>
                <a:miter/>
              </a:ln>
              <a:solidFill>
                <a:srgbClr val="00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7647F-75AC-42A2-B1FD-863D2B3826AF}" type="datetime1">
              <a:rPr lang="en-US"/>
              <a:t>07/31/26</a:t>
            </a:fld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3865320" cy="6553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547640" y="5157720"/>
            <a:ext cx="67629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 T E P H E N  H A R P E R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F2836-2C8F-4694-9B4E-5DBB0CB638DE}" type="datetime1">
              <a:rPr lang="en-US"/>
              <a:t>07/31/26</a:t>
            </a:fld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35280" y="185760"/>
            <a:ext cx="4332240" cy="6672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50920" y="2924280"/>
            <a:ext cx="3286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 T I E P A N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M E S I C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37EC7-2C06-4999-B9D6-E4A716D2C029}" type="datetime1">
              <a:rPr lang="en-US"/>
              <a:t>07/31/26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19640" y="1773360"/>
            <a:ext cx="2676240" cy="3571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403280" y="692280"/>
            <a:ext cx="7143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 FESTIVALUL INTERNATIONAL</a:t>
            </a:r>
            <a:endParaRPr b="1" i="1" lang="en-US" sz="2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 CARICATURA DE LA SAINT ESTEVE (FRANTA)</a:t>
            </a:r>
            <a:endParaRPr b="1" i="1" lang="en-US" sz="2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 STABILIT RECORDUL MONDIAL DE REZISTENTA</a:t>
            </a:r>
            <a:endParaRPr b="1" i="1" lang="en-US" sz="2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527 PORTRETE COLOR IN 10 ZILE SI 10 NOPTI</a:t>
            </a:r>
            <a:endParaRPr b="1" i="1" lang="en-US" sz="2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19280" y="5516640"/>
            <a:ext cx="62578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 1952 ISI DOBOARA PROPRIUL RECORD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EALIZAND 2722 CARICATURI COLOR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 10 ZILE SI 10 NOPTI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4EC3D-4B6E-4582-8EE3-22A44ADB97C4}" type="datetime1">
              <a:rPr lang="en-US"/>
              <a:t>07/31/26</a:t>
            </a:fld>
          </a:p>
        </p:txBody>
      </p:sp>
    </p:spTree>
  </p:cSld>
  <p:transition advTm="18000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067280" y="692280"/>
            <a:ext cx="3537000" cy="5448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611280" y="2781360"/>
            <a:ext cx="2762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S E R G H E I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S T A N I S H E R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9D2BC-E436-4E0D-B861-6C568B210446}" type="datetime1">
              <a:rPr lang="en-US"/>
              <a:t>07/31/26</a:t>
            </a:fld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024440" cy="557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547640" y="5661000"/>
            <a:ext cx="6372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 I L V I O   B E R L U S C O N I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35F82-29BD-4FD9-90C7-25A30AA36C54}" type="datetime1">
              <a:rPr lang="en-US"/>
              <a:t>07/31/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19280" y="166680"/>
            <a:ext cx="3948120" cy="6691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219640" y="4724280"/>
            <a:ext cx="3619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S  A  L  I    B  E  R  I  S  A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A9227-AD64-4B68-A745-F632C07C330B}" type="datetime1">
              <a:rPr lang="en-US"/>
              <a:t>07/31/26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3749760" cy="5775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292720" y="2637000"/>
            <a:ext cx="31719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Impact"/>
              </a:rPr>
              <a:t>R O B E R T  F I C O</a:t>
            </a:r>
            <a:endParaRPr b="1" i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B4552-1715-406F-9634-4F89281D01D9}" type="datetime1">
              <a:rPr lang="en-US"/>
              <a:t>07/31/26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354560" cy="6705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611280" y="2852640"/>
            <a:ext cx="35240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808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N I C O L A S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808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808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S A R K O Z Y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808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A1D82-987A-4E5A-BC73-23340C74FB35}" type="datetime1">
              <a:rPr lang="en-US"/>
              <a:t>07/31/26</a:t>
            </a:fld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1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356000" y="41400"/>
            <a:ext cx="4426200" cy="6816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0" y="5661000"/>
            <a:ext cx="582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NURSULTAN NAZARBAJEV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56310-7747-4A35-8AE2-B3C135FAA6BE}" type="datetime1">
              <a:rPr lang="en-US"/>
              <a:t>07/31/26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3357360" cy="5817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2195640" y="6021360"/>
            <a:ext cx="48290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ERENC  GYURCSANY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CE79E-43EB-466E-87D3-755E2BD7689D}" type="datetime1">
              <a:rPr lang="en-US"/>
              <a:t>07/31/26</a:t>
            </a:fld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567320" cy="6842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68360" y="476280"/>
            <a:ext cx="4848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B O R I S  E L T I N</a:t>
            </a:r>
            <a:endParaRPr b="1" i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17A42-5485-48DE-B97A-701A03F99DBD}" type="datetime1">
              <a:rPr lang="en-US"/>
              <a:t>07/31/26</a:t>
            </a:fld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3832200" cy="6388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68360" y="4437000"/>
            <a:ext cx="52480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T R A I A N  B A S E S C U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C1FF3-8B08-4089-878A-8433C5E166A5}" type="datetime1">
              <a:rPr lang="en-US"/>
              <a:t>07/31/26</a:t>
            </a:fld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541440" y="981000"/>
            <a:ext cx="10160280" cy="5699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835280" y="260280"/>
            <a:ext cx="5352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 L E N A  U D R E A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3AD1A-E9E5-4995-88C0-0843A66EB611}" type="datetime1">
              <a:rPr lang="en-US"/>
              <a:t>07/31/26</a:t>
            </a:fld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2159280" cy="2840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484360" y="692280"/>
            <a:ext cx="601992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STE 200 SEFI DE STATE SI GUVERNE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U PORTRETE SEMNATE POPA'S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32000" y="2205000"/>
            <a:ext cx="495324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STE CETATEAN DE ONOARE IN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6 ORASE DIN TARA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UNDE A OBTINUT 100 DE PREMII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00000" y="3789360"/>
            <a:ext cx="7429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 PLAN INTERNATIONAL A FOST MEDALIAT DE 58 DE ORI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9280" y="4941720"/>
            <a:ext cx="868680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STE MEMBRU AL FUNDATIEI PENTRU STUDII SI ARTE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 ACADEMIEI CITA DIN ROMA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I MEMBRU AL ASOCIATIEI ARTISTILOR PLASTICI (UNESCO)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2F544-08C4-487B-8AC6-5DA25467D209}" type="datetime1">
              <a:rPr lang="en-US"/>
              <a:t>07/31/26</a:t>
            </a:fld>
          </a:p>
        </p:txBody>
      </p:sp>
    </p:spTree>
  </p:cSld>
  <p:transition advTm="22000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9280" y="-458640"/>
            <a:ext cx="4718160" cy="6740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916360" y="4869000"/>
            <a:ext cx="57528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THEODOR  STOLOJAN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AF2D4-F1CA-48F6-A0E1-A683C1E5D436}" type="datetime1">
              <a:rPr lang="en-US"/>
              <a:t>07/31/26</a:t>
            </a:fld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465720" cy="5776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3851280" y="3573360"/>
            <a:ext cx="50482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C A L I N 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  </a:t>
            </a: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P O P E S C U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    </a:t>
            </a: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T A R I C E A N U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554EE-B906-4BE6-AF7C-D0FEB7115538}" type="datetime1">
              <a:rPr lang="en-US"/>
              <a:t>07/31/26</a:t>
            </a:fld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1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148280" y="46080"/>
            <a:ext cx="4995720" cy="6811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95280" y="2205000"/>
            <a:ext cx="382896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 O R I N 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  </a:t>
            </a: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O P R E S C U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A984C-3A02-4484-A690-478CB4A37364}" type="datetime1">
              <a:rPr lang="en-US"/>
              <a:t>07/31/26</a:t>
            </a:fld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4494240" cy="6292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5796000" y="2781360"/>
            <a:ext cx="272412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EMIL  BOC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20772-E6CA-4FB4-9496-E3B11DB8F120}" type="datetime1">
              <a:rPr lang="en-US"/>
              <a:t>07/31/26</a:t>
            </a:fld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9" dur="1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711680" cy="6558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68360" y="4508640"/>
            <a:ext cx="4619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MIRCEA  GEOANA</a:t>
            </a:r>
            <a:endParaRPr b="1" i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CD457-85C0-4722-862A-0443D975D500}" type="datetime1">
              <a:rPr lang="en-US"/>
              <a:t>07/31/26</a:t>
            </a:fld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845400" cy="5118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547640" y="5877000"/>
            <a:ext cx="636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E L E N A   B A S E S C U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9329D-DB7D-4D06-A106-719BB3C1047C}" type="datetime1">
              <a:rPr lang="en-US"/>
              <a:t>07/31/26</a:t>
            </a:fld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" dur="1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19280" y="190440"/>
            <a:ext cx="5000760" cy="6667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6227640" y="2708280"/>
            <a:ext cx="2657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S T E F F I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  </a:t>
            </a: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G R A F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E2101-E9D7-4A35-ACC8-0C056ED49922}" type="datetime1">
              <a:rPr lang="en-US"/>
              <a:t>07/31/26</a:t>
            </a:fld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11640" y="620640"/>
            <a:ext cx="3936960" cy="5624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84360" y="2637000"/>
            <a:ext cx="222876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SORIN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   </a:t>
            </a: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OVIDIU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      </a:t>
            </a: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VANTU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9DAEE-C3A7-43C5-B2D3-D92984657A45}" type="datetime1">
              <a:rPr lang="en-US"/>
              <a:t>07/31/26</a:t>
            </a:fld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5143680" cy="6715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611280" y="3213000"/>
            <a:ext cx="2057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MIRCEA</a:t>
            </a:r>
            <a:endParaRPr b="1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336699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  </a:t>
            </a:r>
            <a:r>
              <a:rPr b="1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VINTILA</a:t>
            </a:r>
            <a:endParaRPr b="1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336699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840B3-452E-4A63-B275-0A9AE662455D}" type="datetime1">
              <a:rPr lang="en-US"/>
              <a:t>07/31/26</a:t>
            </a:fld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9280" y="-155520"/>
            <a:ext cx="5010120" cy="7013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284720" y="4508640"/>
            <a:ext cx="46004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MARIN  SORESCU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B2C52-D286-439B-8E3E-BF1362F0D604}" type="datetime1">
              <a:rPr lang="en-US"/>
              <a:t>07/31/26</a:t>
            </a:fld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072560" cy="4125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476360" y="4941720"/>
            <a:ext cx="615312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 CREAT ACADEMIA POPA'S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COALA ROMANEASCA  DE CARICATURA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20D56-6C03-4ECB-97FA-2FDD02728F06}" type="datetime1">
              <a:rPr lang="en-US"/>
              <a:t>07/31/26</a:t>
            </a:fld>
          </a:p>
        </p:txBody>
      </p:sp>
    </p:spTree>
  </p:cSld>
  <p:transition advTm="7000"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987640" y="260280"/>
            <a:ext cx="4030560" cy="5618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124000" y="6021360"/>
            <a:ext cx="5229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L U C I A N   B U T E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D1619-F978-4D81-8D08-44201C8ECE20}" type="datetime1">
              <a:rPr lang="en-US"/>
              <a:t>07/31/26</a:t>
            </a:fld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232160" cy="5973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3780000" y="333360"/>
            <a:ext cx="4657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HEORGHE  HAGI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0BFC2-6004-4870-92EB-1886B54B3AE8}" type="datetime1">
              <a:rPr lang="en-US"/>
              <a:t>07/31/26</a:t>
            </a:fld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1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80000" y="-155520"/>
            <a:ext cx="5109840" cy="7013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755640" y="2637000"/>
            <a:ext cx="20858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GRIGORE</a:t>
            </a:r>
            <a:endParaRPr b="1" i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    </a:t>
            </a:r>
            <a:r>
              <a:rPr b="1" i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VIERU</a:t>
            </a:r>
            <a:endParaRPr b="1" i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2BC36-F8D1-49E5-9B61-0C0A4D56626D}" type="datetime1">
              <a:rPr lang="en-US"/>
              <a:t>07/31/26</a:t>
            </a:fld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4749840" cy="6469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5867280" y="4724280"/>
            <a:ext cx="2619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FLORIN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   </a:t>
            </a: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PIERSIC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599DD-28F9-479F-8FAE-754F5C435C93}" type="datetime1">
              <a:rPr lang="en-US"/>
              <a:t>07/31/26</a:t>
            </a:fld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1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51280" y="189000"/>
            <a:ext cx="4584600" cy="644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250920" y="3645000"/>
            <a:ext cx="3971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 A N U S  N E A G U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EC756-453A-42A6-A2CC-B55212B366AB}" type="datetime1">
              <a:rPr lang="en-US"/>
              <a:t>07/31/26</a:t>
            </a:fld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6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4254480" cy="6470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611280" y="2852640"/>
            <a:ext cx="167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BENNY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596360" y="2924280"/>
            <a:ext cx="895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HILL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C1211-278C-4B1A-8F79-68AC62A0C24C}" type="datetime1">
              <a:rPr lang="en-US"/>
              <a:t>07/31/26</a:t>
            </a:fld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89960" cy="5283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835280" y="5734080"/>
            <a:ext cx="6200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CONECT-R  ANDA ADAM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F72CE-78F6-43B1-9B77-FB487D445410}" type="datetime1">
              <a:rPr lang="en-US"/>
              <a:t>07/31/26</a:t>
            </a:fld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6680" cy="567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619280" y="5715000"/>
            <a:ext cx="5838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SCHETBALISTELE CAMPIOANE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 LA TARGOVISTE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25E20-EEB6-40EA-9D70-B516D5C81E23}" type="datetime1">
              <a:rPr lang="en-US"/>
              <a:t>07/31/26</a:t>
            </a:fld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059280" y="2708280"/>
            <a:ext cx="5628960" cy="3433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2368440" cy="3559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3708360" y="765000"/>
            <a:ext cx="45147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STEFAN POPA POPA'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336699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LA VATICAN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336699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3C038-1105-40C7-83BC-BA96C9D3961D}" type="datetime1">
              <a:rPr lang="en-US"/>
              <a:t>07/31/26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4" dur="1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4098600" cy="5796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843280" y="5157720"/>
            <a:ext cx="5772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STEFAN POPA POPA'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0720" y="981000"/>
            <a:ext cx="40384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ARICATURA SEMNATA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ALENTIN CHIBRIT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7C954-0B95-4D5F-880B-AF6056204FEF}" type="datetime1">
              <a:rPr lang="en-US"/>
              <a:t>07/31/26</a:t>
            </a:fld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0" dur="1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5581800" cy="4186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187280" y="4797360"/>
            <a:ext cx="646776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STE SINGURUL ROMAN CE FIGUREAZA IN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INNESS BOOK WORLD RECORDS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43185-CC4B-4B7E-8B0C-A73D30BADC05}" type="datetime1">
              <a:rPr lang="en-US"/>
              <a:t>07/31/26</a:t>
            </a:fld>
          </a:p>
        </p:txBody>
      </p:sp>
    </p:spTree>
  </p:cSld>
  <p:transition advTm="7000">
    <p:push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656160" cy="533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3448080" y="620640"/>
            <a:ext cx="569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"CARICATURA ESTE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HINTESENTA ARTEI 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292720" y="2492280"/>
            <a:ext cx="31719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EFAN POPA POPA'S</a:t>
            </a:r>
            <a:endParaRPr b="1" i="1" lang="en-US" sz="2000" spc="1" strike="noStrike">
              <a:ln w="9360">
                <a:solidFill>
                  <a:srgbClr val="ffff99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3280" y="4149720"/>
            <a:ext cx="3800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 REVEDER !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9B86B-0CFE-4F4A-819B-69E9F4265FA4}" type="datetime1">
              <a:rPr lang="en-US"/>
              <a:t>07/31/26</a:t>
            </a:fld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6" dur="2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07120" y="3213000"/>
            <a:ext cx="2036880" cy="3127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95280" y="404640"/>
            <a:ext cx="7534440" cy="18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EALIZARILE SALE DE EXCEPTIE DIN GRAFICA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-AU IMPUS CA UNA DIN CEI MAI PRESTIGIOASE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RSONALITATI ALE ARTEI 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LASTICE CONTEMPORANE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640" y="2565360"/>
            <a:ext cx="7915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 1995 IN FRANTA, ANDRE BAUR SCRIE DESPRE STEFAN POPA POPA'S</a:t>
            </a:r>
            <a:endParaRPr b="1" i="1" lang="en-US" sz="16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4724280"/>
            <a:ext cx="7458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"ESTE O FORTA A NATURII ...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STE SINGURUL OM CARE A FOST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U 4 SECUNDE MAI RAPID 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CAT CALCULATORUL "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8612F-A920-4884-B9C4-ED9DCB67F0D6}" type="datetime1">
              <a:rPr lang="en-US"/>
              <a:t>07/31/26</a:t>
            </a:fld>
          </a:p>
        </p:txBody>
      </p:sp>
    </p:spTree>
  </p:cSld>
  <p:transition advTm="21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64000" y="2637000"/>
            <a:ext cx="3437280" cy="2577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187280" y="333360"/>
            <a:ext cx="23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 R E M I I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1989000"/>
            <a:ext cx="76676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- MARELE PREMIU DE LA CONFOLENS (FRANTA0 1980</a:t>
            </a:r>
            <a:endParaRPr b="1" i="1" lang="en-US" sz="20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421000"/>
            <a:ext cx="46958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- MARELE PREMIU DE LA TOKIO 1980</a:t>
            </a:r>
            <a:endParaRPr b="1" i="1" lang="en-US" sz="18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9640" y="1413000"/>
            <a:ext cx="35244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Rounded MT Bold"/>
              </a:rPr>
              <a:t>- MARELE PREMIU UNESCO 1979 - 1983</a:t>
            </a:r>
            <a:endParaRPr b="1" i="1" lang="en-US" sz="14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781360"/>
            <a:ext cx="1523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Rounded MT Bold"/>
              </a:rPr>
              <a:t>- MOSCOVA 1983</a:t>
            </a:r>
            <a:endParaRPr b="1" i="1" lang="en-US" sz="14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4000" y="3357720"/>
            <a:ext cx="46576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- LA RACHELLE (FRANTA) 1984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920" y="4005360"/>
            <a:ext cx="50576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- LA MARIANNE SI SAINT ESTEVE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</a:t>
            </a: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(FRANTA) 1990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58920" y="5445000"/>
            <a:ext cx="66103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FOST ALES DE PAPA BENEDICT AL XVI-LEA</a:t>
            </a:r>
            <a:endParaRPr b="1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INTRE PRIMII 100 DE OAMENI</a:t>
            </a:r>
            <a:endParaRPr b="1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MPORTANTI AI PLANETEI</a:t>
            </a:r>
            <a:endParaRPr b="1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95345-39AE-4DC9-82C1-1E4E5EB7D488}" type="datetime1">
              <a:rPr lang="en-US"/>
              <a:t>07/31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5999400" cy="3640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826920" y="4292640"/>
            <a:ext cx="71056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 SEMN DE INALTA PRETUIRE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GREGATIA INTERNATIONALA  A INALTEI CRUCIATI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VALERII DE MALTA, ORDINUL FRANCESCAN SI CEI IEZUITI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08000" y="5600880"/>
            <a:ext cx="548640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I CONFERA PE DOMENIUL PAPAL  ASSISIS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MIUL MEDITERANE ARTE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5877E-C67C-4CD3-B862-C5FA27BF28C1}" type="datetime1">
              <a:rPr lang="en-US"/>
              <a:t>07/31/26</a:t>
            </a:fld>
          </a:p>
        </p:txBody>
      </p:sp>
    </p:spTree>
  </p:cSld>
  <p:transition advTm="19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9T15:16:41Z</dcterms:created>
  <dc:creator>LuciC</dc:creator>
  <dc:description/>
  <dc:language>en-US</dc:language>
  <cp:lastModifiedBy>LuciC</cp:lastModifiedBy>
  <dcterms:modified xsi:type="dcterms:W3CDTF">2012-08-19T20:53:43Z</dcterms:modified>
  <cp:revision>92</cp:revision>
  <dc:subject/>
  <dc:title>Diapozitivul 1</dc:title>
</cp:coreProperties>
</file>