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POPA'S.wav" ContentType="audio/x-wav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32.jpeg" ContentType="image/jpeg"/>
  <Override PartName="/ppt/media/image68.jpeg" ContentType="image/jpeg"/>
  <Override PartName="/ppt/media/image24.jpeg" ContentType="image/jpeg"/>
  <Override PartName="/ppt/media/image19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42.jpeg" ContentType="image/jpeg"/>
  <Override PartName="/ppt/media/image59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3.png" ContentType="image/png"/>
  <Override PartName="/ppt/media/image56.jpeg" ContentType="image/jpeg"/>
  <Override PartName="/ppt/media/image61.jpeg" ContentType="image/jpeg"/>
  <Override PartName="/ppt/media/image4.jpeg" ContentType="image/jpeg"/>
  <Override PartName="/ppt/media/image60.jpeg" ContentType="image/jpeg"/>
  <Override PartName="/ppt/media/image16.jpeg" ContentType="image/jpeg"/>
  <Override PartName="/ppt/media/image33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E17-F7B9-44C4-B27B-A3864BFF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9BA-71BC-476D-912F-DA415F40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457-A5CE-4D6F-BADC-409C7EDB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25D-C643-4508-8BCC-F79D2B6A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466-0510-4EA6-B4B5-A6576072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C16-C598-4CC8-ABAA-6BF390E4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C6F-6876-4E6D-9E9A-3DCB8057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811-35CA-4F9B-8DA7-A8A92C1E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A60-E507-4828-A71B-51DB074F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287-6A08-4D57-813B-69BEE3B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6DE-5300-4B39-BDEF-1498BEBA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486-A50D-4BDD-B320-A6E10897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6345-DE86-4D31-800C-EF51C412A4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5C32-5416-4C32-B44C-AEC6809A7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POPA&apos;S.wav" TargetMode="External"/><Relationship Id="rId4" Type="http://schemas.microsoft.com/office/2007/relationships/media" Target="file:///tmp/home/.config/libreoffice/4/user/gallery/POPA&apos;S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POPA&apos;S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6381720"/>
            <a:ext cx="4038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U SONOR SI AVANSARE AUTOMATA</a:t>
            </a:r>
            <a:endParaRPr b="1" i="1" lang="en-US" sz="14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5950080"/>
            <a:ext cx="16002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MAGINI INTERNET</a:t>
            </a:r>
            <a:endParaRPr b="0" i="1" lang="en-US" sz="12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99520" y="5624640"/>
            <a:ext cx="1644480" cy="123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588000" y="6237360"/>
            <a:ext cx="10764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LUCI CERCEL</a:t>
            </a:r>
            <a:endParaRPr b="1" i="1" lang="en-US" sz="1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79640" y="4149720"/>
            <a:ext cx="5933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EFAN  POPA POPA'S</a:t>
            </a:r>
            <a:endParaRPr b="1" i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71640" y="5157720"/>
            <a:ext cx="4619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</a:t>
            </a:r>
            <a:r>
              <a:rPr b="1" i="1" lang="en-US" sz="2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GELE  CARICATURII</a:t>
            </a:r>
            <a:endParaRPr b="1" i="1" lang="en-US" sz="2800" spc="1" strike="noStrike">
              <a:ln w="12600">
                <a:solidFill>
                  <a:srgbClr val="ff66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48360" y="189000"/>
            <a:ext cx="378144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UZICA :  LEONARD  COHEN 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NCE ME TO THE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</a:t>
            </a: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ND OF LOVE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46480" cy="2890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6836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21941-E680-4C8E-865E-D4AA40DDF6BD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602240" cy="6029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132000" y="3933720"/>
            <a:ext cx="5896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B A R A C K  O B A M A</a:t>
            </a:r>
            <a:endParaRPr b="1" i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87048-91F4-433B-9D13-D5011A23236F}" type="datetime1">
              <a:rPr lang="en-US"/>
              <a:t>07/29/26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065400" cy="4016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3119400" cy="4088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187280" y="4653000"/>
            <a:ext cx="6458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 N G E L A   M E R K E L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0B6FA-26AD-4D43-84F6-34077C43FF5C}" type="datetime1">
              <a:rPr lang="en-US"/>
              <a:t>07/29/26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670200" cy="4808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587760" cy="4700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692360" y="5084640"/>
            <a:ext cx="57625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R O M A N O  P R O D I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A10F7-EC39-4BB2-A2EA-24DA1FB8D8BD}" type="datetime1">
              <a:rPr lang="en-US"/>
              <a:t>07/29/26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1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4218120" cy="552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003640" y="2205000"/>
            <a:ext cx="3467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G  E  O  R  G  E    B  U  S  H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396CC-5074-47B5-BF11-8ACE55F0C43D}" type="datetime1">
              <a:rPr lang="en-US"/>
              <a:t>07/29/26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1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372200" cy="6550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8440" y="4797360"/>
            <a:ext cx="91155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3366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JO S E   M A N U E L  B A R R O S O</a:t>
            </a:r>
            <a:endParaRPr b="1" i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3366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453B5-30CA-48DC-ADDB-2CA27634E0DE}" type="datetime1">
              <a:rPr lang="en-US"/>
              <a:t>07/29/26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85760"/>
            <a:ext cx="4332240" cy="6672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348000" y="6021360"/>
            <a:ext cx="4915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 O R D O N  B R O W N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80B25-F042-4504-ADAE-504AF3B61A4C}" type="datetime1">
              <a:rPr lang="en-US"/>
              <a:t>07/29/26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59280" y="1298520"/>
            <a:ext cx="3609720" cy="5559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187280" y="18900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F R E D R I K  R E I N F E L D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D9E02-451B-427C-8C92-F42FB602DD0D}" type="datetime1">
              <a:rPr lang="en-US"/>
              <a:t>07/29/26</a:t>
            </a:fld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11640" y="333360"/>
            <a:ext cx="4027320" cy="620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24000" y="3213000"/>
            <a:ext cx="360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H A M I D   K A R Z A I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3FED5-0840-4AAF-B0BB-BEB4D08EEE6C}" type="datetime1">
              <a:rPr lang="en-US"/>
              <a:t>07/29/26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260960" cy="65610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102" name=""/>
          <p:cNvSpPr txBox="1"/>
          <p:nvPr/>
        </p:nvSpPr>
        <p:spPr>
          <a:xfrm>
            <a:off x="4932360" y="5013360"/>
            <a:ext cx="39816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Z  A  P  A  T  E  R  O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7D36F-1DE7-4AFC-8ECB-28F16FAF82AC}" type="datetime1">
              <a:rPr lang="en-US"/>
              <a:t>07/29/2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84720" y="-63360"/>
            <a:ext cx="4494240" cy="6921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0" y="5084640"/>
            <a:ext cx="5667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  I  L  I  P    V  U  J  A  N  O  V  I  C  I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CFE9B-C0C5-4E3C-9B52-A4EA99D4CABC}" type="datetime1">
              <a:rPr lang="en-US"/>
              <a:t>07/29/26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1452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187280" y="333360"/>
            <a:ext cx="77155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-A NASCUT LA CARANSEBES IN ANUL 1955</a:t>
            </a:r>
            <a:endParaRPr b="1" i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INCEPUT LICEUL DE ARTE PLASTICE</a:t>
            </a:r>
            <a:endParaRPr b="1" i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R S-A TRANSFERAT </a:t>
            </a:r>
            <a:endParaRPr b="1" i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SCOALA SPECIALA DE MATEMATICA</a:t>
            </a:r>
            <a:endParaRPr b="1" i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924280"/>
            <a:ext cx="7867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14 ANI PUBLICA IN PRIMA REVISTA UMORISTICA A VREMII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71640" y="3789360"/>
            <a:ext cx="7238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19 ANI A FOST DESCOPERIT DE 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ENRI COURSAGET PRIMUL PRESEDINTE UNESCO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360" y="5229360"/>
            <a:ext cx="794376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ABSOLVIT POLITEHNICA DIN TIMISOARA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I ACADEMIA DE ARTE VIZUALE DIN POITIERS (FRANT)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1DEB8-BE99-407A-975F-DEF3A4FB5062}" type="datetime1">
              <a:rPr lang="en-US"/>
              <a:t>07/29/26</a:t>
            </a:fld>
          </a:p>
        </p:txBody>
      </p:sp>
    </p:spTree>
  </p:cSld>
  <p:transition advTm="19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3865680" cy="5953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908000" y="4941720"/>
            <a:ext cx="655344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 I C T O R  I U S C E N C O  </a:t>
            </a:r>
            <a:endParaRPr b="1" i="1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70B90-49D0-43C9-A323-4510D20CF05D}" type="datetime1">
              <a:rPr lang="en-US"/>
              <a:t>07/29/26</a:t>
            </a:fld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308480" cy="6635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556000" y="5373720"/>
            <a:ext cx="63435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 L A D I M I R  P U T I N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7640E-5059-414A-AFEF-35C25CEEC073}" type="datetime1">
              <a:rPr lang="en-US"/>
              <a:t>07/29/26</a:t>
            </a:fld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3695760" cy="626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95280" y="4292640"/>
            <a:ext cx="4838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 L A D I M I R   V O R O N I N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5CD5E-AAB7-4A6E-9E3C-55F2D7FA3027}" type="datetime1">
              <a:rPr lang="en-US"/>
              <a:t>07/29/26</a:t>
            </a:fld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65680" cy="5953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276720" y="5013360"/>
            <a:ext cx="57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V A C L A V  K L A U S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A19A9-A4FB-458E-910D-B9976DC32EB1}" type="datetime1">
              <a:rPr lang="en-US"/>
              <a:t>07/29/26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3732120" cy="6467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643280" y="1700280"/>
            <a:ext cx="426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V A L D A S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    </a:t>
            </a: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 D A M K U S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B8C7E-5A6E-42BC-9A57-5C189D57AA77}" type="datetime1">
              <a:rPr lang="en-US"/>
              <a:t>07/29/26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3606840" cy="6945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0" y="4005360"/>
            <a:ext cx="483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V A L D I S  Z A T L E R S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BFD58-16D5-4165-A51C-27886CB11A08}" type="datetime1">
              <a:rPr lang="en-US"/>
              <a:t>07/29/26</a:t>
            </a:fld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4192920" cy="645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332000" y="4869000"/>
            <a:ext cx="7267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U R S U L A   P L A S S N I K</a:t>
            </a:r>
            <a:endParaRPr b="1" i="1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2488A-D9A0-40CD-A982-1CBDD1778B38}" type="datetime1">
              <a:rPr lang="en-US"/>
              <a:t>07/29/26</a:t>
            </a:fld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3936960" cy="6064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24000" y="3789360"/>
            <a:ext cx="46479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T A R J A  H A L O N E N</a:t>
            </a:r>
            <a:endParaRPr b="1" i="1" lang="en-US" sz="2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C5879-2406-4C4A-8806-BD29E772A986}" type="datetime1">
              <a:rPr lang="en-US"/>
              <a:t>07/29/26</a:t>
            </a:fld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3865320" cy="6553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547640" y="5157720"/>
            <a:ext cx="67629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 T E P H E N  H A R P E R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BB001-3918-4D78-9984-85AECFE56E36}" type="datetime1">
              <a:rPr lang="en-US"/>
              <a:t>07/29/26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35280" y="185760"/>
            <a:ext cx="4332240" cy="6672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50920" y="2924280"/>
            <a:ext cx="3286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 T I E P A N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M E S I C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097BF-1C05-467C-A83B-4E7288C73C4B}" type="datetime1">
              <a:rPr lang="en-US"/>
              <a:t>07/29/26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2676240" cy="357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403280" y="692280"/>
            <a:ext cx="7143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FESTIVALUL INTERNATIONAL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 CARICATURA DE LA SAINT ESTEVE (FRANTA)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STABILIT RECORDUL MONDIAL DE REZISTENTA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527 PORTRETE COLOR IN 10 ZILE SI 10 NOPTI</a:t>
            </a:r>
            <a:endParaRPr b="1" i="1" lang="en-US" sz="2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19280" y="5516640"/>
            <a:ext cx="62578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1952 ISI DOBOARA PROPRIUL RECORD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ALIZAND 2722 CARICATURI COLOR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10 ZILE SI 10 NOPTI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85B4E-7F8B-4CA7-A81A-53CB731E3FDA}" type="datetime1">
              <a:rPr lang="en-US"/>
              <a:t>07/29/26</a:t>
            </a:fld>
          </a:p>
        </p:txBody>
      </p:sp>
    </p:spTree>
  </p:cSld>
  <p:transition advTm="18000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3537000" cy="544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611280" y="2781360"/>
            <a:ext cx="2762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S E R G H E I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S T A N I S H E R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D8164-BBFD-4059-A480-0441D912E44B}" type="datetime1">
              <a:rPr lang="en-US"/>
              <a:t>07/29/26</a:t>
            </a:fld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024440" cy="55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547640" y="5661000"/>
            <a:ext cx="637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 I L V I O   B E R L U S C O N I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D353D-503E-4150-8A15-FB159C1456D4}" type="datetime1">
              <a:rPr lang="en-US"/>
              <a:t>07/29/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19280" y="166680"/>
            <a:ext cx="3948120" cy="6691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219640" y="4724280"/>
            <a:ext cx="361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S  A  L  I    B  E  R  I  S  A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AF34C-D5E1-41E1-8BD3-1259F388E0A0}" type="datetime1">
              <a:rPr lang="en-US"/>
              <a:t>07/29/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3749760" cy="5775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2637000"/>
            <a:ext cx="31719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R O B E R T  F I C O</a:t>
            </a:r>
            <a:endParaRPr b="1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77C6F-648C-4363-82E9-06F6CED1022D}" type="datetime1">
              <a:rPr lang="en-US"/>
              <a:t>07/29/26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354560" cy="6705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11280" y="2852640"/>
            <a:ext cx="35240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N I C O L A S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S A R K O Z Y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0E0E9-C991-4A3A-8355-6B1E1299D4D7}" type="datetime1">
              <a:rPr lang="en-US"/>
              <a:t>07/29/26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1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56000" y="41400"/>
            <a:ext cx="4426200" cy="6816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0" y="5661000"/>
            <a:ext cx="582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URSULTAN NAZARBAJEV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D2AA5-2567-4158-8605-756BCB912A4A}" type="datetime1">
              <a:rPr lang="en-US"/>
              <a:t>07/29/26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3357360" cy="5817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195640" y="6021360"/>
            <a:ext cx="48290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ERENC  GYURCSANY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208CF-3B26-42FA-B4AD-14053FD23DC2}" type="datetime1">
              <a:rPr lang="en-US"/>
              <a:t>07/29/26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567320" cy="6842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68360" y="476280"/>
            <a:ext cx="4848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B O R I S  E L T I N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1FC48-77FC-470A-96CE-621360AA380C}" type="datetime1">
              <a:rPr lang="en-US"/>
              <a:t>07/29/26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832200" cy="6388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68360" y="4437000"/>
            <a:ext cx="52480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T R A I A N  B A S E S C U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3F518-A239-42FF-9E72-8F6439129C59}" type="datetime1">
              <a:rPr lang="en-US"/>
              <a:t>07/29/26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541440" y="981000"/>
            <a:ext cx="10160280" cy="5699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835280" y="260280"/>
            <a:ext cx="535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 L E N A  U D R E A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11F2F-2028-4AF1-A951-8EB52E331C2B}" type="datetime1">
              <a:rPr lang="en-US"/>
              <a:t>07/29/26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159280" cy="2840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484360" y="692280"/>
            <a:ext cx="601992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STE 200 SEFI DE STATE SI GUVERNE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U PORTRETE SEMNATE POPA'S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32000" y="2205000"/>
            <a:ext cx="495324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TE CETATEAN DE ONOARE IN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6 ORASE DIN TARA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NDE A OBTINUT 100 DE PREMII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00000" y="3789360"/>
            <a:ext cx="7429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 PLAN INTERNATIONAL A FOST MEDALIAT DE 58 DE ORI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4941720"/>
            <a:ext cx="868680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TE MEMBRU AL FUNDATIEI PENTRU STUDII SI ARTE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ACADEMIEI CITA DIN ROMA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I MEMBRU AL ASOCIATIEI ARTISTILOR PLASTICI (UNESCO)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C045A-63C5-4E73-981E-2F4DF0DC83A8}" type="datetime1">
              <a:rPr lang="en-US"/>
              <a:t>07/29/26</a:t>
            </a:fld>
          </a:p>
        </p:txBody>
      </p:sp>
    </p:spTree>
  </p:cSld>
  <p:transition advTm="22000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-458640"/>
            <a:ext cx="4718160" cy="6740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916360" y="4869000"/>
            <a:ext cx="5752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THEODOR  STOLOJAN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9640D-BB2A-4B33-90B3-C04AB6DCC1D4}" type="datetime1">
              <a:rPr lang="en-US"/>
              <a:t>07/29/26</a:t>
            </a:fld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465720" cy="5776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851280" y="3573360"/>
            <a:ext cx="50482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C A L I N 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  </a:t>
            </a: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P O P E S C U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    </a:t>
            </a: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T A R I C E A N U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EE155-8F0B-492B-864A-DBB3F5F40E5C}" type="datetime1">
              <a:rPr lang="en-US"/>
              <a:t>07/29/26</a:t>
            </a:fld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48280" y="46080"/>
            <a:ext cx="4995720" cy="6811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95280" y="2205000"/>
            <a:ext cx="382896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 O R I N 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 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O P R E S C U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B204B-A442-4C9D-B57F-772345FF2E1C}" type="datetime1">
              <a:rPr lang="en-US"/>
              <a:t>07/29/26</a:t>
            </a:fld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4494240" cy="6292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5796000" y="2781360"/>
            <a:ext cx="272412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EMIL  BOC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5FE21-C464-43ED-B2C9-3C8B20207F5E}" type="datetime1">
              <a:rPr lang="en-US"/>
              <a:t>07/29/26</a:t>
            </a:fld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1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711680" cy="6558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68360" y="4508640"/>
            <a:ext cx="46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MIRCEA  GEOANA</a:t>
            </a:r>
            <a:endParaRPr b="1" i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CBADC-6FE8-4A1F-BA95-88A4C98BD3D0}" type="datetime1">
              <a:rPr lang="en-US"/>
              <a:t>07/29/26</a:t>
            </a:fld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845400" cy="5118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547640" y="5877000"/>
            <a:ext cx="636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Arial Black"/>
              </a:rPr>
              <a:t>E L E N A   B A S E S C U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D9086-F5E1-4266-AF00-C840EF69A9BC}" type="datetime1">
              <a:rPr lang="en-US"/>
              <a:t>07/29/26</a:t>
            </a:fld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1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19044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6227640" y="2708280"/>
            <a:ext cx="2657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S T E F F I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  </a:t>
            </a: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G R A F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DD853-466A-49E7-B761-C2733267F1F4}" type="datetime1">
              <a:rPr lang="en-US"/>
              <a:t>07/29/26</a:t>
            </a:fld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11640" y="620640"/>
            <a:ext cx="3936960" cy="56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84360" y="2637000"/>
            <a:ext cx="222876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SORIN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  </a:t>
            </a: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OVIDIU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     </a:t>
            </a: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VANTU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9CFB3-45E7-49FB-AC98-DBF43129E85E}" type="datetime1">
              <a:rPr lang="en-US"/>
              <a:t>07/29/26</a:t>
            </a:fld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5143680" cy="6715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611280" y="3213000"/>
            <a:ext cx="2057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MIRCEA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 </a:t>
            </a: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VINTILA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55D36-91EE-4DCB-A9E5-E5C0E16582FC}" type="datetime1">
              <a:rPr lang="en-US"/>
              <a:t>07/29/26</a:t>
            </a:fld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-155520"/>
            <a:ext cx="5010120" cy="7013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284720" y="4508640"/>
            <a:ext cx="46004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MARIN  SORESCU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BADB8-98F1-4754-B57F-87F2BB54C96C}" type="datetime1">
              <a:rPr lang="en-US"/>
              <a:t>07/29/26</a:t>
            </a:fld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072560" cy="412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476360" y="4941720"/>
            <a:ext cx="615312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CREAT ACADEMIA POPA'S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COALA ROMANEASCA  DE CARICATURA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095C4-D1B9-4B0F-AC00-F79C38589B78}" type="datetime1">
              <a:rPr lang="en-US"/>
              <a:t>07/29/26</a:t>
            </a:fld>
          </a:p>
        </p:txBody>
      </p:sp>
    </p:spTree>
  </p:cSld>
  <p:transition advTm="7000"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4030560" cy="5618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124000" y="6021360"/>
            <a:ext cx="5229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 U C I A N   B U T 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96A66-626B-4043-8A64-E992796B4A18}" type="datetime1">
              <a:rPr lang="en-US"/>
              <a:t>07/29/26</a:t>
            </a:fld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232160" cy="5973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780000" y="333360"/>
            <a:ext cx="4657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HEORGHE  HAGI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FE2C5-44F3-4B27-A205-FCDC60661817}" type="datetime1">
              <a:rPr lang="en-US"/>
              <a:t>07/29/26</a:t>
            </a:fld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1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80000" y="-155520"/>
            <a:ext cx="5109840" cy="7013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755640" y="2637000"/>
            <a:ext cx="2085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GRIGORE</a:t>
            </a:r>
            <a:endParaRPr b="1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   </a:t>
            </a:r>
            <a:r>
              <a:rPr b="1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VIERU</a:t>
            </a:r>
            <a:endParaRPr b="1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42589-7177-4569-A69F-9A133DC1D4DA}" type="datetime1">
              <a:rPr lang="en-US"/>
              <a:t>07/29/26</a:t>
            </a:fld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4749840" cy="6469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5867280" y="4724280"/>
            <a:ext cx="2619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FLORIN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   </a:t>
            </a:r>
            <a:r>
              <a:rPr b="1" i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PIERSIC</a:t>
            </a:r>
            <a:endParaRPr b="1" i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73EE0-66F6-403B-935A-046030FF9C18}" type="datetime1">
              <a:rPr lang="en-US"/>
              <a:t>07/29/26</a:t>
            </a:fld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1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51280" y="189000"/>
            <a:ext cx="4584600" cy="644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50920" y="3645000"/>
            <a:ext cx="3971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 A N U S  N E A G U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78A72-2FB5-4AAC-897E-34B325917F83}" type="datetime1">
              <a:rPr lang="en-US"/>
              <a:t>07/29/26</a:t>
            </a:fld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4254480" cy="6470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611280" y="285264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BENNY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596360" y="2924280"/>
            <a:ext cx="895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HILL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C2A8F-524D-4938-AC5C-C0F75FAEF208}" type="datetime1">
              <a:rPr lang="en-US"/>
              <a:t>07/29/26</a:t>
            </a:fld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89960" cy="5283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835280" y="5734080"/>
            <a:ext cx="620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CONECT-R  ANDA ADAM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6EB32-4B62-4164-9702-8F1166392D5C}" type="datetime1">
              <a:rPr lang="en-US"/>
              <a:t>07/29/26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6680" cy="567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619280" y="5715000"/>
            <a:ext cx="5838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SCHETBALISTELE CAMPIOANE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 LA TARGOVISTE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1056D-2717-4CA1-9C0C-2BDAD0A191AA}" type="datetime1">
              <a:rPr lang="en-US"/>
              <a:t>07/29/26</a:t>
            </a:fld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59280" y="2708280"/>
            <a:ext cx="5628960" cy="3433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368440" cy="3559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3708360" y="765000"/>
            <a:ext cx="45147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STEFAN POPA POPA'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LA VATICAN</a:t>
            </a:r>
            <a:endParaRPr b="1" i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ECCF8-8A01-4B54-8283-55FC4306BECF}" type="datetime1">
              <a:rPr lang="en-US"/>
              <a:t>07/29/26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1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098600" cy="5796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843280" y="5157720"/>
            <a:ext cx="5772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EFAN POPA POPA'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0720" y="981000"/>
            <a:ext cx="40384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ARICATURA SEMNATA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ALENTIN CHIBRIT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43954-66BC-49DD-B258-B327E8344E21}" type="datetime1">
              <a:rPr lang="en-US"/>
              <a:t>07/29/26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0" dur="1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5581800" cy="4186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187280" y="4797360"/>
            <a:ext cx="646776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TE SINGURUL ROMAN CE FIGUREAZA IN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INNESS BOOK WORLD RECORDS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1192E-F66F-40F5-936E-7FDA6BC343F0}" type="datetime1">
              <a:rPr lang="en-US"/>
              <a:t>07/29/26</a:t>
            </a:fld>
          </a:p>
        </p:txBody>
      </p:sp>
    </p:spTree>
  </p:cSld>
  <p:transition advTm="7000">
    <p:push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656160" cy="533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3448080" y="620640"/>
            <a:ext cx="569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"CARICATURA EST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HINTESENTA ARTEI 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292720" y="2492280"/>
            <a:ext cx="3171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EFAN POPA POPA'S</a:t>
            </a:r>
            <a:endParaRPr b="1" i="1" lang="en-US" sz="2000" spc="1" strike="noStrike">
              <a:ln w="9360">
                <a:solidFill>
                  <a:srgbClr val="ffff99"/>
                </a:solidFill>
                <a:miter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3280" y="4149720"/>
            <a:ext cx="3800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 REVEDER !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52BC2-5F37-4639-9647-45046CBC9164}" type="datetime1">
              <a:rPr lang="en-US"/>
              <a:t>07/29/26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07120" y="3213000"/>
            <a:ext cx="2036880" cy="3127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95280" y="404640"/>
            <a:ext cx="7534440" cy="18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ALIZARILE SALE DE EXCEPTIE DIN GRAFICA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-AU IMPUS CA UNA DIN CEI MAI PRESTIGIOASE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RSONALITATI ALE ARTEI 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LASTICE CONTEMPORANE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2565360"/>
            <a:ext cx="7915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1995 IN FRANTA, ANDRE BAUR SCRIE DESPRE STEFAN POPA POPA'S</a:t>
            </a:r>
            <a:endParaRPr b="1" i="1" lang="en-US" sz="16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4724280"/>
            <a:ext cx="7458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"ESTE O FORTA A NATURII ...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TE SINGURUL OM CARE A FOST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U 4 SECUNDE MAI RAPID 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CAT CALCULATORUL "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3F401-020E-4096-88C4-6D3121FE93E8}" type="datetime1">
              <a:rPr lang="en-US"/>
              <a:t>07/29/26</a:t>
            </a:fld>
          </a:p>
        </p:txBody>
      </p:sp>
    </p:spTree>
  </p:cSld>
  <p:transition advTm="21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64000" y="2637000"/>
            <a:ext cx="3437280" cy="2577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187280" y="333360"/>
            <a:ext cx="23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 R E M I I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989000"/>
            <a:ext cx="76676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- MARELE PREMIU DE LA CONFOLENS (FRANTA0 1980</a:t>
            </a:r>
            <a:endParaRPr b="1" i="1" lang="en-US" sz="20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421000"/>
            <a:ext cx="46958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- MARELE PREMIU DE LA TOKIO 1980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9640" y="1413000"/>
            <a:ext cx="3524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Rounded MT Bold"/>
              </a:rPr>
              <a:t>- MARELE PREMIU UNESCO 1979 - 1983</a:t>
            </a:r>
            <a:endParaRPr b="1" i="1" lang="en-US" sz="14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781360"/>
            <a:ext cx="1523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Rounded MT Bold"/>
              </a:rPr>
              <a:t>- MOSCOVA 1983</a:t>
            </a:r>
            <a:endParaRPr b="1" i="1" lang="en-US" sz="14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3357720"/>
            <a:ext cx="46576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- LA RACHELLE (FRANTA) 1984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4005360"/>
            <a:ext cx="50576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- LA MARIANNE SI SAINT ESTEVE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</a:t>
            </a: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(FRANTA) 1990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8920" y="5445000"/>
            <a:ext cx="66103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 FOST ALES DE PAPA BENEDICT AL XVI-LEA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INTRE PRIMII 100 DE OAMENI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MPORTANTI AI PLANETEI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BE4EA-6DA7-4B59-A993-2FE554FB088E}" type="datetime1">
              <a:rPr lang="en-US"/>
              <a:t>07/29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5999400" cy="3640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826920" y="4292640"/>
            <a:ext cx="71056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 SEMN DE INALTA PRETUIRE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GREGATIA INTERNATIONALA  A INALTEI CRUCIATI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VALERII DE MALTA, ORDINUL FRANCESCAN SI CEI IEZUITI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08000" y="5600880"/>
            <a:ext cx="54864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I CONFERA PE DOMENIUL PAPAL  ASSISIS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MIUL MEDITERANE ARTE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EEE38-A223-48C6-A565-AA91A325549C}" type="datetime1">
              <a:rPr lang="en-US"/>
              <a:t>07/29/26</a:t>
            </a:fld>
          </a:p>
        </p:txBody>
      </p:sp>
    </p:spTree>
  </p:cSld>
  <p:transition advTm="19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9T15:16:41Z</dcterms:created>
  <dc:creator>LuciC</dc:creator>
  <dc:description/>
  <dc:language>en-US</dc:language>
  <cp:lastModifiedBy>LuciC</cp:lastModifiedBy>
  <dcterms:modified xsi:type="dcterms:W3CDTF">2012-08-19T20:53:43Z</dcterms:modified>
  <cp:revision>92</cp:revision>
  <dc:subject/>
  <dc:title>Diapozitivul 1</dc:title>
</cp:coreProperties>
</file>